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C62-057D-4579-9B3F-4D294B6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7FD-12D5-4F35-93EE-C86B0A2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135-54D0-447E-83EB-377CEC4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5A6-B61F-4666-B00E-3BFED40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260A-2F0B-4F6D-93CA-BAAA4A8E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798A-2039-4BCE-AE26-9A3450E4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1D91-9D13-4DF6-B64B-64F4819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70B9-C894-4BF6-AD71-728E83D2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8FC-7263-4C32-86BC-0C87732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0E59-84AF-4898-AEC0-0C69B57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4CDD-478D-4A07-9179-AF3407B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C4F-756F-4C8F-BED0-B37D3F5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406-F2B6-4420-9DDC-C98F183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F5FA-DC3E-4F37-9B49-826B11D8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910A-261D-4683-9BAF-F570A7F2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406-EC22-4198-AE7F-F3AE4908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0F7F-5B27-4616-B7AA-4439C977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3DA6-580D-4D4F-8863-89FCE0D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62BE-A013-4F2A-8578-4557E0E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DC6D-AA4F-4E46-81ED-AF452DE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624B-C86B-46C9-914C-3657B9F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DCD7-7F25-4C07-8313-164233E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CDA-F116-428D-A153-9B26B59C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C4EB-5D89-4F12-AF91-EB072BA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3A7B-4684-480E-8541-47413F4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CE29-6BF5-4DFF-B27A-82DB1E3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2C91-4EEA-4AA7-B36F-A10CE28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6EAC-8E4B-48F1-BA0C-EB6E68F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17DE-79C8-4A7A-B568-9FC3412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CDD1-A59C-4390-9A67-55202755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DD54-4594-4DA3-BA48-A0162E17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F06D-4025-4B6E-B70B-044FDC2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E602-0A33-478A-93A8-DB11F00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59D-5BD1-4C65-A01A-6941805B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7227-5958-4E3C-8F94-F0816B37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34EB-F427-406B-AF5D-23C42613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F37F-4252-47D5-8963-486FA9A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BEB8-25CA-4AB7-A646-BE5D952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2299-6FDE-44B9-9D07-8A10E4C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71E7-D154-491A-8DD5-D416D5B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13D7-89DA-4E33-825E-35B1414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D4CD-1603-4749-8A60-349FA201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FD0C-4F7E-41AE-A44A-3976458E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BE4-DA12-4AAB-AFDC-D9DEC315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C53-36D9-4C34-A5AC-2EC9D34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AA4-1B82-4BDC-8099-FF37665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7BA-2264-4062-B0EC-0A371EC6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A06-FFCD-4BC4-91BA-BF97771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FC3-98E2-4838-9413-986AF3BD38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23C-C3D8-4718-AE7B-F2D88D24DA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C026-C901-4672-A579-186407C7E4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8463-D849-4BCF-8E09-3F4B86F0EC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128520" y="463680"/>
            <a:ext cx="9308880" cy="4986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88000" y="5345280"/>
            <a:ext cx="43560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итель изобразительного искусств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БОУ СОШ №102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мышленного района, г.о Самар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бзалдинова Ольга Дами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:\Users\Урок Сказка-3 кл\IMG_1797.JPG"/>
          <p:cNvPicPr/>
          <p:nvPr/>
        </p:nvPicPr>
        <p:blipFill>
          <a:blip r:embed="rId1"/>
          <a:stretch/>
        </p:blipFill>
        <p:spPr>
          <a:xfrm>
            <a:off x="900000" y="620640"/>
            <a:ext cx="7452000" cy="5589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900000" y="627372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мая лучшая сказка 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MVI_1783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VI_1794.AVI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MVI_1795.AVI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6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393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MVI_178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VI_179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Создать  арт–композицию, оформить декорации к сказкам, с учащимися -младшей школы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  Рассмотреть содержание понят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арт-композиция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 Охарактеризовать особенности  создания  «арт-композиции»  с  учащимися младшего школьного   возрас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.  Привести  пример    разработки урока изобразительного искусства в 3-ем классе по теме: «Театр на столе. Декорации.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временная школа находится в процессе поиска подходов, путей и способов образования молодого поколения, необходимость которых определяется стремительным изменением социально-экономической ситуации, общемировыми тенденциями развития образов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ние  понятий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 «арт-композиция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928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рт»  в  переводе  с  английского  языка  означает   искус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д композицией мы понимаем целенаправленное построение целого, где расположение и взаимосвязь частей обуславливаются смыслом, содержанием, назначением и гармонией цело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во "композиция" происходит от латинского "Compositio", что означает –  сочинение, составление, связь, сопоставл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:\Фото\IMG_0497.JPG"/>
          <p:cNvPicPr/>
          <p:nvPr/>
        </p:nvPicPr>
        <p:blipFill>
          <a:blip r:embed="rId1"/>
          <a:stretch/>
        </p:blipFill>
        <p:spPr>
          <a:xfrm>
            <a:off x="395280" y="260280"/>
            <a:ext cx="8437680" cy="5832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826920" y="6237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вы так не уме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D:\Фото\IMG_0496.JPG"/>
          <p:cNvPicPr/>
          <p:nvPr/>
        </p:nvPicPr>
        <p:blipFill>
          <a:blip r:embed="rId1"/>
          <a:stretch/>
        </p:blipFill>
        <p:spPr>
          <a:xfrm>
            <a:off x="611280" y="404640"/>
            <a:ext cx="7861320" cy="5543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1258920" y="609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теперь расскажем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D:\Users\Урок Сказка-3 кл\IMG_1787.JPG"/>
          <p:cNvPicPr/>
          <p:nvPr/>
        </p:nvPicPr>
        <p:blipFill>
          <a:blip r:embed="rId1"/>
          <a:stretch/>
        </p:blipFill>
        <p:spPr>
          <a:xfrm>
            <a:off x="1042920" y="260280"/>
            <a:ext cx="6912000" cy="52945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1476360" y="5589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ши любимые сказочные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Users\Урок Сказка-3 кл\IMG_1777.JPG"/>
          <p:cNvPicPr/>
          <p:nvPr/>
        </p:nvPicPr>
        <p:blipFill>
          <a:blip r:embed="rId1"/>
          <a:stretch/>
        </p:blipFill>
        <p:spPr>
          <a:xfrm>
            <a:off x="1692360" y="765000"/>
            <a:ext cx="6003720" cy="4680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1258920" y="5589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ед выступлением надо настроит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7:50:18Z</dcterms:created>
  <dc:creator>Татьяна</dc:creator>
  <dc:description/>
  <dc:language>en-US</dc:language>
  <cp:lastModifiedBy>Светлана</cp:lastModifiedBy>
  <dcterms:modified xsi:type="dcterms:W3CDTF">2015-01-24T16:11:25Z</dcterms:modified>
  <cp:revision>11</cp:revision>
  <dc:subject/>
  <dc:title>ИТОГОВАЯ РАБОТА по теме: «Создание арт-композиции из картона и цветной бумаги с учащимися 3-го класса ( на примере темы « Спектакль на столе, декорации»)</dc:title>
</cp:coreProperties>
</file>