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A56-B9D0-4C78-B72A-D91CDD6E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A5C-42F0-41DA-A128-ECFDDA72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703-DFE7-46D8-A4BE-F5CBD358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114-698A-4716-92C4-A57889F3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443C-594C-4CC4-A847-F9B046C8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D528-0D6F-4928-8D71-FB1893B3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3C9A-2772-47C5-BA14-A24008C3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11E6-3AA9-4165-9471-E9ABF4E9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7501-4F81-42C1-81F8-B9081D5B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7FCB-E00B-4591-9686-7EA74EB1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AB8E-6663-46F7-B444-A891C2FF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C89-50C8-42ED-AE7F-7E002A27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FAF4-7D7C-4757-BDDD-C578845F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8504-2264-4A47-8065-F24B65EF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C1A9-FF5C-448A-A221-E8DD8D0E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0E46-2862-459A-BC8C-7927A908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CFB4-B179-43B2-B30A-3B520E6C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37EA2-887D-43C5-8C12-366D3EBF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BCE9F-8381-435D-B77D-0F963873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6CAB1-2F53-4E46-ABA6-240FF5DF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9B641-0B27-43D8-82B8-E2FF31E9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D3A9A-3335-4F63-AC79-F460D486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594-A2EB-472E-BD43-FB5D8219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BCC20-4B37-4E84-94FA-AF9342BB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BA68D-2E16-40B7-9210-2BAEA11A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A9F3D-C00D-4294-8F16-2CBBB239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8C354-7C02-4ED0-A5AE-BAF4C92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BB0D8-0E05-40D0-8FAA-B4BDD785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E954D-9351-4B54-9F8E-E0C441CF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48A1C-98D0-44E4-B49C-AE2AE002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2C87A-459D-4CAE-A02F-C442C4FF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B28D-6202-4AAB-BEC3-8FF1230F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A0D0B-F08C-41F7-8749-500C8BC0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6F2-E1CB-4B89-BAA0-457810A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E7C8D-2318-44F8-AE55-EC743D4C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EF20-E194-49CE-9E45-BBC61838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4524-CB20-4D43-B5FE-9175662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347C0-E0B9-4C77-8331-EE4DED92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D74D-04F3-4466-AA03-6235F9E3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F4C7-3228-4A68-94FE-B82B1B2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4D68-54D7-42B1-BA6D-460F3434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4725-8E4C-4CF0-9C4D-5A5F4A66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045D-97B8-47CC-B974-F67FD084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D12-3E85-4957-ABF0-810E3446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2BD-2ECD-4AEE-BFB7-A9E8713E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FA3-D93F-4B8C-A25E-BBD1B58F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202-554E-4D3D-8990-2C40CB0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A74-EFF1-49BF-8DE4-7D7D7414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Constant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958-53CE-4AEC-A73B-362214077F03}" type="slidenum">
              <a:rPr b="0" lang="ru-RU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e4005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Constant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F071-1C39-4A66-96E9-CB5B98700CA8}" type="slidenum">
              <a:rPr b="0" lang="ru-RU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Constant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6640-476F-4BB9-B74E-C049F95E3566}" type="slidenum">
              <a:rPr b="0" lang="ru-RU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Constant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6E80-CC5E-47B6-B133-B3A19390F8F4}" type="slidenum">
              <a:rPr b="0" lang="ru-RU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Constantia"/>
              </a:rPr>
              <a:t>Сделайте синтаксический разбор предложения.</a:t>
            </a:r>
            <a:endParaRPr b="0" lang="en-US" sz="36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0040" y="2357280"/>
            <a:ext cx="82296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Яркие игрушки украшали елку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571680" y="428616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ыпишите из предложения все возможные словосочетания. И произведите их синтаксический раз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Детская студия &quot;КОРАБЛИК&quot; - Для воспитателей детских садов - Маам.ру"/>
          <p:cNvPicPr/>
          <p:nvPr/>
        </p:nvPicPr>
        <p:blipFill>
          <a:blip r:embed="rId1"/>
          <a:stretch/>
        </p:blipFill>
        <p:spPr>
          <a:xfrm>
            <a:off x="2071800" y="2571840"/>
            <a:ext cx="2225520" cy="283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Детская студия &quot;КОРАБЛИК&quot; - Для воспитателей детских садов - Маам.ру"/>
          <p:cNvPicPr/>
          <p:nvPr/>
        </p:nvPicPr>
        <p:blipFill>
          <a:blip r:embed="rId2"/>
          <a:stretch/>
        </p:blipFill>
        <p:spPr>
          <a:xfrm>
            <a:off x="5500800" y="3643200"/>
            <a:ext cx="1234800" cy="1571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66"/>
                </a:solidFill>
                <a:latin typeface="Constantia"/>
              </a:rPr>
              <a:t>Сравните кораблики.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571760" y="557208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мален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92912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Детская студия &quot;КОРАБЛИК&quot; - Для воспитателей детских садов - Маам.ру"/>
          <p:cNvPicPr/>
          <p:nvPr/>
        </p:nvPicPr>
        <p:blipFill>
          <a:blip r:embed="rId1"/>
          <a:stretch/>
        </p:blipFill>
        <p:spPr>
          <a:xfrm>
            <a:off x="214200" y="1714680"/>
            <a:ext cx="3857760" cy="4910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Детская студия &quot;КОРАБЛИК&quot; - Для воспитателей детских садов - Маам.ру"/>
          <p:cNvPicPr/>
          <p:nvPr/>
        </p:nvPicPr>
        <p:blipFill>
          <a:blip r:embed="rId2"/>
          <a:stretch/>
        </p:blipFill>
        <p:spPr>
          <a:xfrm>
            <a:off x="3857760" y="130320"/>
            <a:ext cx="5286240" cy="67276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428760" y="621180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больш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4786200" y="6211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Степени сравнения имен прилагательных. </a:t>
            </a:r>
            <a:endParaRPr b="0" lang="en-US" sz="44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85840" y="6071760"/>
            <a:ext cx="495288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Constantia"/>
              </a:rPr>
              <a:t>Урок 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4643280" y="457200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МАОУ СОШ №2 г.Ивд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ланская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Скругленный прямоугольник 3"/>
          <p:cNvGrpSpPr/>
          <p:nvPr/>
        </p:nvGrpSpPr>
        <p:grpSpPr>
          <a:xfrm>
            <a:off x="291960" y="457200"/>
            <a:ext cx="8491680" cy="774720"/>
            <a:chOff x="291960" y="457200"/>
            <a:chExt cx="8491680" cy="774720"/>
          </a:xfrm>
        </p:grpSpPr>
        <p:pic>
          <p:nvPicPr>
            <p:cNvPr id="23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91960" y="457200"/>
              <a:ext cx="84916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85920" y="600120"/>
              <a:ext cx="8300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onstantia"/>
                </a:rPr>
                <a:t>Степени сравнения прилагательны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Прямоугольник с двумя вырезанными противолежащими углами 4"/>
          <p:cNvGrpSpPr/>
          <p:nvPr/>
        </p:nvGrpSpPr>
        <p:grpSpPr>
          <a:xfrm>
            <a:off x="506520" y="1530360"/>
            <a:ext cx="3492360" cy="920880"/>
            <a:chOff x="506520" y="1530360"/>
            <a:chExt cx="3492360" cy="920880"/>
          </a:xfrm>
        </p:grpSpPr>
        <p:pic>
          <p:nvPicPr>
            <p:cNvPr id="23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506520" y="1530360"/>
              <a:ext cx="3492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36480" y="1636560"/>
              <a:ext cx="322740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nstantia"/>
                </a:rPr>
                <a:t>Сравнительная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Прямоугольник с двумя вырезанными противолежащими углами 5"/>
          <p:cNvGrpSpPr/>
          <p:nvPr/>
        </p:nvGrpSpPr>
        <p:grpSpPr>
          <a:xfrm>
            <a:off x="5145120" y="1530360"/>
            <a:ext cx="3328920" cy="920880"/>
            <a:chOff x="5145120" y="1530360"/>
            <a:chExt cx="3328920" cy="920880"/>
          </a:xfrm>
        </p:grpSpPr>
        <p:pic>
          <p:nvPicPr>
            <p:cNvPr id="236" name="Прямоугольник с двумя вырезанными противолежащими углами 5" descr=""/>
            <p:cNvPicPr/>
            <p:nvPr/>
          </p:nvPicPr>
          <p:blipFill>
            <a:blip r:embed="rId3"/>
            <a:stretch/>
          </p:blipFill>
          <p:spPr>
            <a:xfrm>
              <a:off x="5145120" y="1530360"/>
              <a:ext cx="33289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280120" y="1636560"/>
              <a:ext cx="301284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nstantia"/>
                </a:rPr>
                <a:t>Превосходна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Прямоугольник с двумя вырезанными соседними углами 6"/>
          <p:cNvSpPr/>
          <p:nvPr/>
        </p:nvSpPr>
        <p:spPr>
          <a:xfrm>
            <a:off x="142920" y="2714760"/>
            <a:ext cx="1928880" cy="928440"/>
          </a:xfrm>
          <a:prstGeom prst="pie">
            <a:avLst/>
          </a:prstGeom>
          <a:solidFill>
            <a:srgbClr val="ffffff"/>
          </a:solidFill>
          <a:ln w="1908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с двумя вырезанными соседними углами 7"/>
          <p:cNvSpPr/>
          <p:nvPr/>
        </p:nvSpPr>
        <p:spPr>
          <a:xfrm>
            <a:off x="2428920" y="2714760"/>
            <a:ext cx="2214360" cy="928440"/>
          </a:xfrm>
          <a:prstGeom prst="pie">
            <a:avLst/>
          </a:prstGeom>
          <a:solidFill>
            <a:srgbClr val="ffffff"/>
          </a:solidFill>
          <a:ln w="1908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ста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8"/>
          <p:cNvSpPr/>
          <p:nvPr/>
        </p:nvSpPr>
        <p:spPr>
          <a:xfrm>
            <a:off x="0" y="4071960"/>
            <a:ext cx="2357280" cy="278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Н.Ф.</a:t>
            </a:r>
            <a:r>
              <a:rPr b="1" lang="ru-RU" sz="36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(И.п. м.р.)</a:t>
            </a: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+</a:t>
            </a:r>
            <a:r>
              <a:rPr b="1" lang="ru-RU" sz="36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-ее    (-ей),  –е,   -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Не изменяются по родам, числам, падеж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68"/>
          <p:cNvGrpSpPr/>
          <p:nvPr/>
        </p:nvGrpSpPr>
        <p:grpSpPr>
          <a:xfrm>
            <a:off x="857160" y="5429160"/>
            <a:ext cx="576360" cy="216000"/>
            <a:chOff x="857160" y="5429160"/>
            <a:chExt cx="576360" cy="216000"/>
          </a:xfrm>
        </p:grpSpPr>
        <p:sp>
          <p:nvSpPr>
            <p:cNvPr id="242" name="Line 69"/>
            <p:cNvSpPr/>
            <p:nvPr/>
          </p:nvSpPr>
          <p:spPr>
            <a:xfrm flipV="1">
              <a:off x="857160" y="5429160"/>
              <a:ext cx="28836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0"/>
            <p:cNvSpPr/>
            <p:nvPr/>
          </p:nvSpPr>
          <p:spPr>
            <a:xfrm>
              <a:off x="1145520" y="5429160"/>
              <a:ext cx="28800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8"/>
          <p:cNvGrpSpPr/>
          <p:nvPr/>
        </p:nvGrpSpPr>
        <p:grpSpPr>
          <a:xfrm>
            <a:off x="1643040" y="5000040"/>
            <a:ext cx="428760" cy="214560"/>
            <a:chOff x="1643040" y="5000040"/>
            <a:chExt cx="428760" cy="214560"/>
          </a:xfrm>
        </p:grpSpPr>
        <p:sp>
          <p:nvSpPr>
            <p:cNvPr id="245" name="Line 69"/>
            <p:cNvSpPr/>
            <p:nvPr/>
          </p:nvSpPr>
          <p:spPr>
            <a:xfrm flipV="1">
              <a:off x="1643040" y="5000400"/>
              <a:ext cx="214560" cy="214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0"/>
            <p:cNvSpPr/>
            <p:nvPr/>
          </p:nvSpPr>
          <p:spPr>
            <a:xfrm>
              <a:off x="1857600" y="5000040"/>
              <a:ext cx="214200" cy="214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68"/>
          <p:cNvGrpSpPr/>
          <p:nvPr/>
        </p:nvGrpSpPr>
        <p:grpSpPr>
          <a:xfrm>
            <a:off x="1428840" y="4500000"/>
            <a:ext cx="575640" cy="216000"/>
            <a:chOff x="1428840" y="4500000"/>
            <a:chExt cx="575640" cy="216000"/>
          </a:xfrm>
        </p:grpSpPr>
        <p:sp>
          <p:nvSpPr>
            <p:cNvPr id="248" name="Line 69"/>
            <p:cNvSpPr/>
            <p:nvPr/>
          </p:nvSpPr>
          <p:spPr>
            <a:xfrm flipV="1">
              <a:off x="1428840" y="4500360"/>
              <a:ext cx="28800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70"/>
            <p:cNvSpPr/>
            <p:nvPr/>
          </p:nvSpPr>
          <p:spPr>
            <a:xfrm>
              <a:off x="1716840" y="4500000"/>
              <a:ext cx="2876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68"/>
          <p:cNvGrpSpPr/>
          <p:nvPr/>
        </p:nvGrpSpPr>
        <p:grpSpPr>
          <a:xfrm>
            <a:off x="571680" y="4929120"/>
            <a:ext cx="575640" cy="216000"/>
            <a:chOff x="571680" y="4929120"/>
            <a:chExt cx="575640" cy="216000"/>
          </a:xfrm>
        </p:grpSpPr>
        <p:sp>
          <p:nvSpPr>
            <p:cNvPr id="251" name="Line 69"/>
            <p:cNvSpPr/>
            <p:nvPr/>
          </p:nvSpPr>
          <p:spPr>
            <a:xfrm flipV="1">
              <a:off x="571680" y="4929120"/>
              <a:ext cx="28800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70"/>
            <p:cNvSpPr/>
            <p:nvPr/>
          </p:nvSpPr>
          <p:spPr>
            <a:xfrm>
              <a:off x="859680" y="4929120"/>
              <a:ext cx="2876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Прямоугольник 21"/>
          <p:cNvSpPr/>
          <p:nvPr/>
        </p:nvSpPr>
        <p:spPr>
          <a:xfrm>
            <a:off x="2500200" y="4071960"/>
            <a:ext cx="2071800" cy="164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более + </a:t>
            </a:r>
            <a:r>
              <a:rPr b="1" lang="ru-RU" sz="3600" spc="-1" strike="noStrike">
                <a:solidFill>
                  <a:srgbClr val="0070c0"/>
                </a:solidFill>
                <a:latin typeface="Constantia"/>
              </a:rPr>
              <a:t>Н.Ф. </a:t>
            </a: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(И.п м.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 стрелкой 23"/>
          <p:cNvCxnSpPr/>
          <p:nvPr/>
        </p:nvCxnSpPr>
        <p:spPr>
          <a:xfrm flipH="1">
            <a:off x="2249280" y="1142640"/>
            <a:ext cx="2286720" cy="429480"/>
          </a:xfrm>
          <a:prstGeom prst="straightConnector1">
            <a:avLst/>
          </a:prstGeom>
          <a:ln w="31680">
            <a:solidFill>
              <a:srgbClr val="e40059"/>
            </a:solidFill>
            <a:miter/>
            <a:tailEnd len="med" type="arrow" w="med"/>
          </a:ln>
        </p:spPr>
      </p:cxnSp>
      <p:cxnSp>
        <p:nvCxnSpPr>
          <p:cNvPr id="255" name="Прямая со стрелкой 24"/>
          <p:cNvCxnSpPr/>
          <p:nvPr/>
        </p:nvCxnSpPr>
        <p:spPr>
          <a:xfrm>
            <a:off x="4534560" y="1142640"/>
            <a:ext cx="2251800" cy="429480"/>
          </a:xfrm>
          <a:prstGeom prst="straightConnector1">
            <a:avLst/>
          </a:prstGeom>
          <a:ln w="31680">
            <a:solidFill>
              <a:srgbClr val="e40059"/>
            </a:solidFill>
            <a:miter/>
            <a:tailEnd len="med" type="arrow" w="med"/>
          </a:ln>
        </p:spPr>
      </p:cxnSp>
      <p:cxnSp>
        <p:nvCxnSpPr>
          <p:cNvPr id="256" name="Прямая со стрелкой 27"/>
          <p:cNvCxnSpPr>
            <a:endCxn id="238" idx="4"/>
          </p:cNvCxnSpPr>
          <p:nvPr/>
        </p:nvCxnSpPr>
        <p:spPr>
          <a:xfrm flipH="1">
            <a:off x="1105920" y="2356920"/>
            <a:ext cx="1143720" cy="358200"/>
          </a:xfrm>
          <a:prstGeom prst="straightConnector1">
            <a:avLst/>
          </a:prstGeom>
          <a:ln w="31680">
            <a:solidFill>
              <a:srgbClr val="e40059"/>
            </a:solidFill>
            <a:miter/>
            <a:tailEnd len="med" type="arrow" w="med"/>
          </a:ln>
        </p:spPr>
      </p:cxnSp>
      <p:cxnSp>
        <p:nvCxnSpPr>
          <p:cNvPr id="257" name="Прямая со стрелкой 30"/>
          <p:cNvCxnSpPr>
            <a:endCxn id="239" idx="4"/>
          </p:cNvCxnSpPr>
          <p:nvPr/>
        </p:nvCxnSpPr>
        <p:spPr>
          <a:xfrm>
            <a:off x="2248560" y="2356920"/>
            <a:ext cx="1286280" cy="358200"/>
          </a:xfrm>
          <a:prstGeom prst="straightConnector1">
            <a:avLst/>
          </a:prstGeom>
          <a:ln w="31680">
            <a:solidFill>
              <a:srgbClr val="e40059"/>
            </a:solidFill>
            <a:miter/>
            <a:tailEnd len="med" type="arrow" w="med"/>
          </a:ln>
        </p:spPr>
      </p:cxnSp>
      <p:cxnSp>
        <p:nvCxnSpPr>
          <p:cNvPr id="258" name="Прямая со стрелкой 53"/>
          <p:cNvCxnSpPr>
            <a:stCxn id="238" idx="5"/>
            <a:endCxn id="240" idx="0"/>
          </p:cNvCxnSpPr>
          <p:nvPr/>
        </p:nvCxnSpPr>
        <p:spPr>
          <a:xfrm>
            <a:off x="1108080" y="3642840"/>
            <a:ext cx="72000" cy="429480"/>
          </a:xfrm>
          <a:prstGeom prst="straightConnector1">
            <a:avLst/>
          </a:prstGeom>
          <a:ln w="31680">
            <a:solidFill>
              <a:srgbClr val="e40059"/>
            </a:solidFill>
            <a:miter/>
            <a:tailEnd len="med" type="arrow" w="med"/>
          </a:ln>
        </p:spPr>
      </p:cxnSp>
      <p:cxnSp>
        <p:nvCxnSpPr>
          <p:cNvPr id="259" name="Прямая со стрелкой 59"/>
          <p:cNvCxnSpPr>
            <a:stCxn id="239" idx="5"/>
            <a:endCxn id="253" idx="0"/>
          </p:cNvCxnSpPr>
          <p:nvPr/>
        </p:nvCxnSpPr>
        <p:spPr>
          <a:xfrm flipH="1">
            <a:off x="3534480" y="3642840"/>
            <a:ext cx="2520" cy="429480"/>
          </a:xfrm>
          <a:prstGeom prst="straightConnector1">
            <a:avLst/>
          </a:prstGeom>
          <a:ln w="31680">
            <a:solidFill>
              <a:srgbClr val="e40059"/>
            </a:solidFill>
            <a:miter/>
            <a:tailEnd len="med" type="arrow" w="med"/>
          </a:ln>
        </p:spPr>
      </p:cxnSp>
      <p:grpSp>
        <p:nvGrpSpPr>
          <p:cNvPr id="260" name="Группа 66"/>
          <p:cNvGrpSpPr/>
          <p:nvPr/>
        </p:nvGrpSpPr>
        <p:grpSpPr>
          <a:xfrm>
            <a:off x="2714760" y="5929200"/>
            <a:ext cx="1643040" cy="71640"/>
            <a:chOff x="2714760" y="5929200"/>
            <a:chExt cx="1643040" cy="71640"/>
          </a:xfrm>
        </p:grpSpPr>
        <p:sp>
          <p:nvSpPr>
            <p:cNvPr id="261" name="Прямая соединительная линия 64"/>
            <p:cNvSpPr/>
            <p:nvPr/>
          </p:nvSpPr>
          <p:spPr>
            <a:xfrm>
              <a:off x="2714760" y="5929200"/>
              <a:ext cx="16430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65"/>
            <p:cNvSpPr/>
            <p:nvPr/>
          </p:nvSpPr>
          <p:spPr>
            <a:xfrm>
              <a:off x="2714760" y="5999400"/>
              <a:ext cx="16430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2" descr=""/>
          <p:cNvPicPr/>
          <p:nvPr/>
        </p:nvPicPr>
        <p:blipFill>
          <a:blip r:embed="rId4"/>
          <a:stretch/>
        </p:blipFill>
        <p:spPr>
          <a:xfrm>
            <a:off x="2786040" y="6357960"/>
            <a:ext cx="157176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429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66"/>
                </a:solidFill>
                <a:latin typeface="Constantia"/>
              </a:rPr>
              <a:t>Исправьте ошибки в предложениях </a:t>
            </a:r>
            <a:endParaRPr b="0" lang="en-US" sz="36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760" y="1714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Моя мама молодее тво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сенью в лесу очень красивее, чем зимой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Это самый огромный салют, который я видел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н более менее коротки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357120" y="500040"/>
            <a:ext cx="7499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Nyala"/>
              </a:rPr>
              <a:t>Говори правиль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2071800" y="5000760"/>
            <a:ext cx="4857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ungsuh"/>
              </a:rPr>
              <a:t>спок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Gungsuh"/>
              </a:rPr>
              <a:t>о</a:t>
            </a:r>
            <a:r>
              <a:rPr b="1" lang="ru-RU" sz="5400" spc="-1" strike="noStrike">
                <a:solidFill>
                  <a:srgbClr val="0000ff"/>
                </a:solidFill>
                <a:latin typeface="Gungsuh"/>
              </a:rPr>
              <a:t>йне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2204280" y="2857680"/>
            <a:ext cx="37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ungsuh"/>
              </a:rPr>
              <a:t>крас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Gungsuh"/>
              </a:rPr>
              <a:t>и</a:t>
            </a:r>
            <a:r>
              <a:rPr b="1" lang="ru-RU" sz="5400" spc="-1" strike="noStrike">
                <a:solidFill>
                  <a:srgbClr val="0000ff"/>
                </a:solidFill>
                <a:latin typeface="Gungsuh"/>
              </a:rPr>
              <a:t>ве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2151000" y="4071960"/>
            <a:ext cx="41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ungsuh"/>
              </a:rPr>
              <a:t>своб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Gungsuh"/>
              </a:rPr>
              <a:t>о</a:t>
            </a:r>
            <a:r>
              <a:rPr b="1" lang="ru-RU" sz="5400" spc="-1" strike="noStrike">
                <a:solidFill>
                  <a:srgbClr val="0000ff"/>
                </a:solidFill>
                <a:latin typeface="Gungsuh"/>
              </a:rPr>
              <a:t>дне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7"/>
          <p:cNvSpPr/>
          <p:nvPr/>
        </p:nvSpPr>
        <p:spPr>
          <a:xfrm>
            <a:off x="2114280" y="1428840"/>
            <a:ext cx="3143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ungsuh"/>
              </a:rPr>
              <a:t>уд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Gungsuh"/>
              </a:rPr>
              <a:t>о</a:t>
            </a:r>
            <a:r>
              <a:rPr b="1" lang="ru-RU" sz="5400" spc="-1" strike="noStrike">
                <a:solidFill>
                  <a:srgbClr val="0000ff"/>
                </a:solidFill>
                <a:latin typeface="Gungsuh"/>
              </a:rPr>
              <a:t>бне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 flipH="1">
            <a:off x="3143160" y="1643040"/>
            <a:ext cx="28584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1"/>
          <p:cNvSpPr/>
          <p:nvPr/>
        </p:nvSpPr>
        <p:spPr>
          <a:xfrm flipH="1">
            <a:off x="3786120" y="2714760"/>
            <a:ext cx="28584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 flipH="1">
            <a:off x="4000320" y="4000680"/>
            <a:ext cx="285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3"/>
          <p:cNvSpPr/>
          <p:nvPr/>
        </p:nvSpPr>
        <p:spPr>
          <a:xfrm flipH="1">
            <a:off x="3857400" y="5143680"/>
            <a:ext cx="285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09:38:34Z</dcterms:created>
  <dc:creator>Михаил Халанский</dc:creator>
  <dc:description/>
  <dc:language>en-US</dc:language>
  <cp:lastModifiedBy>Михаил Халанский</cp:lastModifiedBy>
  <dcterms:modified xsi:type="dcterms:W3CDTF">2015-01-05T09:18:29Z</dcterms:modified>
  <cp:revision>45</cp:revision>
  <dc:subject/>
  <dc:title>Слайд 1</dc:title>
</cp:coreProperties>
</file>