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3A4-3C81-4DB8-943D-F9D6B6A5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3AA-66A3-4764-A20F-566455A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8BE-FEFA-4A29-A40B-442F894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83D-2E80-41CC-A39C-A7824905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F34-A864-49FA-966B-72A32F64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789-3C42-41AC-B9C5-92B0A75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F1E-8589-4E74-BF4E-603F0C3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D11-2157-47EF-80B9-BA672EC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3B7-6712-4F44-A9C6-8B31DF2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2C8-D3E5-4199-AEA7-0926C8CB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F06-2F3B-44AE-B8ED-C1B4C44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E86-2247-4EDA-8AEF-64102AB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892-35AD-4A93-9959-51ECF55301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1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46c0a"/>
                </a:solidFill>
                <a:uFillTx/>
                <a:latin typeface="Comic Sans MS"/>
              </a:rPr>
              <a:t>Структура урока введения нового знания в рамках системно-деятельностного подх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292720" y="4365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спицына Татья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БОУ Сосновской СОШ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895320"/>
            <a:ext cx="7169040" cy="1251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2914560"/>
            <a:ext cx="7467480" cy="13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Схема 2"/>
          <p:cNvPicPr/>
          <p:nvPr/>
        </p:nvPicPr>
        <p:blipFill>
          <a:blip r:embed="rId1"/>
          <a:srcRect l="16854" t="14252" r="20555" b="25855"/>
          <a:stretch/>
        </p:blipFill>
        <p:spPr>
          <a:xfrm>
            <a:off x="755640" y="620640"/>
            <a:ext cx="7704000" cy="51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52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уктура урока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 распределение времени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Диаграмма 4" descr=""/>
          <p:cNvPicPr/>
          <p:nvPr/>
        </p:nvPicPr>
        <p:blipFill>
          <a:blip r:embed="rId1"/>
          <a:stretch/>
        </p:blipFill>
        <p:spPr>
          <a:xfrm>
            <a:off x="755640" y="2292480"/>
            <a:ext cx="7920000" cy="42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43000" y="167652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1600200" y="129528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сем удачи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447920" y="4343400"/>
            <a:ext cx="5638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СПАСИБ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19288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395280" y="69228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отивирование к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Актуализация и фиксирование индивидуального затруднения в пробном учебном действ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явление места и причины затруд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строение проекта выхода из затруд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еализация построенного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ервичное закрепление с проговариванием во внешней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амостоятельная работа с самопроверкой по эта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Включение в систему знаний и повт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Рефлексия учебной деятельности на уро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311040"/>
            <a:ext cx="8607240" cy="551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Ирина\Desktop\plat.gif"/>
          <p:cNvPicPr/>
          <p:nvPr/>
        </p:nvPicPr>
        <p:blipFill>
          <a:blip r:embed="rId1"/>
          <a:stretch/>
        </p:blipFill>
        <p:spPr>
          <a:xfrm>
            <a:off x="1187280" y="1989000"/>
            <a:ext cx="6840720" cy="411336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2"/>
          <p:cNvSpPr/>
          <p:nvPr/>
        </p:nvSpPr>
        <p:spPr>
          <a:xfrm>
            <a:off x="2916360" y="0"/>
            <a:ext cx="3311280" cy="1817640"/>
          </a:xfrm>
          <a:prstGeom prst="wedgeEllipseCallout">
            <a:avLst>
              <a:gd name="adj1" fmla="val -46"/>
              <a:gd name="adj2" fmla="val 7078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ьная выноска 4"/>
          <p:cNvSpPr/>
          <p:nvPr/>
        </p:nvSpPr>
        <p:spPr>
          <a:xfrm>
            <a:off x="395280" y="692280"/>
            <a:ext cx="2627280" cy="1800000"/>
          </a:xfrm>
          <a:prstGeom prst="wedgeEllipseCallout">
            <a:avLst>
              <a:gd name="adj1" fmla="val 34023"/>
              <a:gd name="adj2" fmla="val 5831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Ч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вальная выноска 5"/>
          <p:cNvSpPr/>
          <p:nvPr/>
        </p:nvSpPr>
        <p:spPr>
          <a:xfrm>
            <a:off x="6012000" y="549360"/>
            <a:ext cx="2844720" cy="20876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Волна 6"/>
          <p:cNvSpPr/>
          <p:nvPr/>
        </p:nvSpPr>
        <p:spPr>
          <a:xfrm>
            <a:off x="1835280" y="5589720"/>
            <a:ext cx="5473440" cy="1123920"/>
          </a:xfrm>
          <a:custGeom>
            <a:avLst/>
            <a:gdLst>
              <a:gd name="textAreaLeft" fmla="*/ 64080 w 5473440"/>
              <a:gd name="textAreaRight" fmla="*/ 5409360 w 547344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73" y="-6865"/>
                  <a:pt x="14273" y="12265"/>
                  <a:pt x="21346" y="2700"/>
                </a:cubicBezTo>
                <a:lnTo>
                  <a:pt x="21600" y="18900"/>
                </a:lnTo>
                <a:cubicBezTo>
                  <a:pt x="14527" y="28465"/>
                  <a:pt x="7327" y="9335"/>
                  <a:pt x="254" y="18900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– ИДЕАЛЬНЫЙ УЧЕ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7682040" cy="2036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611280" y="2276640"/>
            <a:ext cx="76327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изацию изученных способов действий, достаточных для построения нового знания, их обобщение и знаковую фиксац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изацию соответствующих мыслительных операций и познавательных процес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ю к пробному учебному действию (“надо” - “могу” - “хочу”) и его самостоятельное осуществл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ацию индивидуальных затруднений в выполнении пробного учебного действия или его обоснова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1139760" y="914400"/>
            <a:ext cx="6461280" cy="11955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684360" y="2276640"/>
            <a:ext cx="770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становить выполненные операции и зафиксировать (вербально и знаково) место- шаг, операцию, где возникло затруд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нести свои действия с используемым способом действий (алгоритмом, понятием и т.д.) и на этой основе выявить и зафиксировать во внешней речи причину затруднения - те конкретные знания, умения или способности, которых недостает для решения исходной задачи и задач такого класса или типа вообщ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1109520" y="1311120"/>
            <a:ext cx="6864480" cy="2486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3767040"/>
            <a:ext cx="67122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1109520"/>
            <a:ext cx="707868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C:\Users\Ирина\Downloads\8752e1d7192a170b54e5bae07cf7705e.jpg"/>
          <p:cNvPicPr/>
          <p:nvPr/>
        </p:nvPicPr>
        <p:blipFill>
          <a:blip r:embed="rId2"/>
          <a:stretch/>
        </p:blipFill>
        <p:spPr>
          <a:xfrm>
            <a:off x="1116000" y="249228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Ирина\Desktop\drazni3.gif"/>
          <p:cNvPicPr/>
          <p:nvPr/>
        </p:nvPicPr>
        <p:blipFill>
          <a:blip r:embed="rId3"/>
          <a:stretch/>
        </p:blipFill>
        <p:spPr>
          <a:xfrm>
            <a:off x="3564000" y="3716280"/>
            <a:ext cx="2879640" cy="267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Ирина\Desktop\ninos11.jpg"/>
          <p:cNvPicPr/>
          <p:nvPr/>
        </p:nvPicPr>
        <p:blipFill>
          <a:blip r:embed="rId4"/>
          <a:stretch/>
        </p:blipFill>
        <p:spPr>
          <a:xfrm>
            <a:off x="6372360" y="2565360"/>
            <a:ext cx="2447640" cy="21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628560"/>
            <a:ext cx="746748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332000" y="191628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щиеся самостоятельно выполняют задания нового типа и осуществляют их самопроверку, пошагово сравнивая с эталон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каждого ученика ситуации успе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4:02:11Z</dcterms:created>
  <dc:creator>User</dc:creator>
  <dc:description/>
  <dc:language>en-US</dc:language>
  <cp:lastModifiedBy>Татьяна</cp:lastModifiedBy>
  <dcterms:modified xsi:type="dcterms:W3CDTF">2015-01-24T17:21:33Z</dcterms:modified>
  <cp:revision>106</cp:revision>
  <dc:subject/>
  <dc:title>Информатизация учебно-воспитательного процесса в МОУ гимназии №76</dc:title>
</cp:coreProperties>
</file>