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7BB-0F7D-44C5-A5C8-22D300CB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49A-9114-4609-8106-16C7CC5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230-A180-487C-9C42-ADFD1EF2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5CA-BEE7-4E36-B0BE-B269B15F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936-6307-4A95-A62A-9827CD0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D56-D7C7-4699-A5E0-D214C1BE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422-F5EB-42BC-87EC-94CD9114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270-A673-4A40-AC7F-455273DA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290-FA75-48EB-97EF-7E56545B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74C-B12F-4754-8A21-0A9388A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BBC-5D87-4AC3-B2E0-35B42AF8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8D5-30C4-41F6-A8A0-F3F3DEEF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FD3F7-965D-4738-88D1-A4BC03A3AD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40360" y="539640"/>
            <a:ext cx="406872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Занимательные те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« Сдаем ЕГЭ и ГИА шут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9741200">
            <a:off x="286560" y="826920"/>
            <a:ext cx="37450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ериал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БОУ «СОШ с.Красный Я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лугатырева О.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06400" y="843120"/>
            <a:ext cx="762012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76360" y="4571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диться в поте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а руку на сердце тебе гово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ть спустя рук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гласиться скрепя сердцем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977080" y="1258920"/>
            <a:ext cx="3673440" cy="4206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76360" y="250920"/>
            <a:ext cx="1125360" cy="126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71640" y="61128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Найдите ошибку в употреблении фразеологизм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5520" y="921960"/>
            <a:ext cx="9061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становите , какой из перечисленных фразеологизмов имеет указанное значение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Совершать необдуманные  поступк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360" y="3058920"/>
            <a:ext cx="90727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ить фими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ь дифирам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ять го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ься головой об 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37080" y="3303720"/>
            <a:ext cx="4268880" cy="3047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3280" y="250920"/>
            <a:ext cx="7081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родолжи фразеологиз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рит кашу из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возд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24360" y="2556000"/>
            <a:ext cx="46688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0000" y="3949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Что означает выражение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«троянский конь»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6360" y="392400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утанное стечение обстоятель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существимая, несбыточная и странная меч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р врагу с целью его по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264360" y="1332000"/>
            <a:ext cx="3360600" cy="248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31640" y="826920"/>
            <a:ext cx="9367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определите средство художественной выразительност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 неожиданно и ярко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 влажной 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неба синеве</a:t>
            </a:r>
            <a:br>
              <a:rPr sz="2800"/>
            </a:b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Воздушная воздвиглась арк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своем минутном торжестве!(Ф. Тютчев)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95080" y="3462120"/>
            <a:ext cx="9072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ф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он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юмор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64080" y="3700440"/>
            <a:ext cx="50403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5080" y="7632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 средство художественной выразитель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35280" y="298764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и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65160" y="1716120"/>
            <a:ext cx="72788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нова. </a:t>
            </a:r>
            <a:r>
              <a:rPr b="1" lang="ru-RU" sz="3000" spc="-1" strike="noStrike">
                <a:solidFill>
                  <a:srgbClr val="3333cc"/>
                </a:solidFill>
                <a:latin typeface="Arial"/>
                <a:ea typeface="Times New Roman"/>
              </a:rPr>
              <a:t>Гулливер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660066"/>
                </a:solidFill>
                <a:latin typeface="Arial"/>
                <a:ea typeface="Times New Roman"/>
              </a:rPr>
              <a:t>Стоит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Сутуляс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. Г. Антокольски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000" y="2843280"/>
            <a:ext cx="23241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лово « грязну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го 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жского 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нского 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го 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832360" y="1763640"/>
            <a:ext cx="3641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34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12320" y="32364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кое из слов не является  синонимом к  слову « бежать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291600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т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ч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д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апа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56360" y="3132000"/>
            <a:ext cx="4441680" cy="401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7640" y="1258920"/>
            <a:ext cx="15112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2360" y="324000"/>
            <a:ext cx="85932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 называют слово, образованное из начальных звуков слов или названий их начальных бук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690720" y="4336560"/>
            <a:ext cx="546876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-2016000" y="3059280"/>
            <a:ext cx="90723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Абракада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Абстра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Аппл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16000" y="3348000"/>
            <a:ext cx="6205680" cy="348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54160" y="2610000"/>
            <a:ext cx="36874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ббре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60360" y="250920"/>
            <a:ext cx="1276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лово « уста»  явля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а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логизм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лек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м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11640" y="1908000"/>
            <a:ext cx="41198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02 0.033 -0.0587 0.058 -0.0587 C 0.095 -0.0587 0.125 -0.02268 0.125 0.02268 C 0.125 0.03736 0.122 0.0507 0.116 0.06271 C 0.117 0.06271 0 0.24282 0 0.24415 C 0 0.24282 -0.117 0.06271 -0.116 0.06271 C -0.122 0.0507 -0.125 0.03736 -0.125 0.02268 C -0.125 -0.02268 -0.095 -0.0587 -0.057 -0.0587 C -0.033 -0.0587 -0.012 -0.02402 0 0 Z">
                                      <p:cBhvr>
                                        <p:cTn id="53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4720" y="610920"/>
            <a:ext cx="92156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 каком слове неверно поставлено удар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280" y="2050920"/>
            <a:ext cx="835812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6000"/>
          </a:bodyPr>
          <a:p>
            <a:pPr marL="523800" indent="-523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р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тал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алюз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2360" y="2050920"/>
            <a:ext cx="5530680" cy="4557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87280" y="250920"/>
            <a:ext cx="8254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акая змея бывает наречи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дю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кон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25760" y="2509920"/>
            <a:ext cx="53802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949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оветский и российский многоместный космический ко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588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оме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3280" y="3065400"/>
            <a:ext cx="4822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08000" y="6443640"/>
            <a:ext cx="8120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1640" y="0"/>
            <a:ext cx="89298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9933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лаем успехов на экзамене !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9933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47007E-006 -0.10488 L 2.47007E-006 0.22867 E">
                                      <p:cBhvr>
                                        <p:cTn id="60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9280" y="611280"/>
            <a:ext cx="842472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пользуемая литерату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08200" y="3527280"/>
            <a:ext cx="183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1908000"/>
            <a:ext cx="921708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тература. Виртуальная школа Кирилла и Мефодия (5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усский язык. Виртуальная школа Кирилла и Мефодия (5-9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усский язык. Готовимся к ЕГЭ; «Просвещение-медиа»,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раза. Обучающая программа-трена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усская литература. Мультимедийная энциклопедия 8-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усский язык. Справочник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сты по русскому языку. Подготовка к выпускным экза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усский язык 5 класс. Электронное учебн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ана Лингвиния. Орфографический диктант в 3-х ч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В каком слове пишется буква « 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…ба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…давщ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…д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…во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57880" y="1954080"/>
            <a:ext cx="41004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В каком примере есть грамматическая ошиб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обоих по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жже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та киломе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ще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78320" y="2906640"/>
            <a:ext cx="4219560" cy="3616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60360" y="250920"/>
            <a:ext cx="1276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000" y="614520"/>
            <a:ext cx="89550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айдите предложение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 грамматической ошиб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548280" indent="-548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л дождь и два студ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зия пробуждающейся весны раскрывается Ф.Тютчевым в стихотворении «Весенние воды»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говорят о снижении инфляции и отсутствии фактов задержки зарпл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 будет заселен дом, выросший на глазах за несколько месяцев и принятый комисс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3280" y="2556000"/>
            <a:ext cx="60498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5880" y="76320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ыберите грамматически неверное продолжение предложения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дъезжая к станции,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712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ашивайте о времени стоянки по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позвонил до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меня слетела шля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очень  волновал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91160" y="3541680"/>
            <a:ext cx="33339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айдите  грамматическую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сивая тю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кусный к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ная  моз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чное так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60800" y="2827440"/>
            <a:ext cx="46659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91640" y="466560"/>
            <a:ext cx="90680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 каком  предложении вместо слова «заводной» нужно употребить слово «заводской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0" r="0" b="21957"/>
          <a:stretch/>
        </p:blipFill>
        <p:spPr>
          <a:xfrm>
            <a:off x="7056360" y="4788000"/>
            <a:ext cx="2481480" cy="24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5880" y="1954080"/>
            <a:ext cx="9128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 не стали обедать в заводной ст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водной ключ от куклы был утер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 и сейчас остался всё таким же весёлым, заводным челове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ородинов купил  заводной автомобильч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87280" y="395280"/>
            <a:ext cx="8650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каком  предложении вместо слова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«луковый » нужно употребить слово «лукович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8920" y="1476000"/>
            <a:ext cx="8785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коративные луковые растения представлены большим числом сортов тюльп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икита и Аркадий Иванович красили яйца на Пасху наваром из луковой кож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обед сегодня подавали луковый су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е ты моё луков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71744" t="46076" r="0" b="17256"/>
          <a:stretch/>
        </p:blipFill>
        <p:spPr>
          <a:xfrm>
            <a:off x="6048360" y="5219640"/>
            <a:ext cx="3529080" cy="1917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71744" t="0" r="0" b="54697"/>
          <a:stretch/>
        </p:blipFill>
        <p:spPr>
          <a:xfrm>
            <a:off x="863640" y="5364000"/>
            <a:ext cx="3097080" cy="188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319640" y="5508720"/>
            <a:ext cx="1247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6:52:07Z</dcterms:created>
  <dc:creator/>
  <dc:description/>
  <dc:language>en-US</dc:language>
  <cp:lastModifiedBy>Teacher</cp:lastModifiedBy>
  <dcterms:modified xsi:type="dcterms:W3CDTF">2015-01-21T02:11:55Z</dcterms:modified>
  <cp:revision>19</cp:revision>
  <dc:subject/>
  <dc:title>Слайд 1</dc:title>
</cp:coreProperties>
</file>