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media/image9.gif" ContentType="image/gif"/>
  <Override PartName="/ppt/media/image10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A85-B6E7-4BD9-8805-5FAC9B99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D9C-04CB-409E-B552-06CD629D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E02-E4FC-46CD-B70D-B7E19758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900-38CD-425A-A4D4-5C24735A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58E0-1150-484A-A6E5-0A2A9BF1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75DD-A551-4479-99EA-FB37F49D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FF29-A848-4A09-B9CF-45B91676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5A1F-6A70-44E8-AD64-BD950D1B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4BBD-8377-43F2-9F20-80F10A20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864A-DBB7-4438-B024-C0A38465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4D51-AF0C-4BC1-87A6-E99EF9D5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26B-90E9-4FB9-9201-6268E82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E197-925D-4324-A343-8705EE45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850-2CFB-43AE-B313-117BC1F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20E9-665D-4813-A5A6-E42A550D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770E-4CBC-44E4-92CD-1355245D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6CDF-4D81-48D2-9E73-2769EC3C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AAF1-7995-4BB4-A4BB-06C74166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19E2-D396-4FB6-B90F-E063ABCE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E5380-B950-49C1-8D40-6EA8920B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D2CA-1BCC-4923-B0F9-16F09F9D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8B0E-7981-4E16-93E8-0D580750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4B3-0D8F-4A20-BE93-A4A8787F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13CEF-075C-4203-B54D-BE4A022A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34A2-DDAF-4923-B5E2-EBCCCA1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8C82-91A5-4118-80B9-9C2BF36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C728-EF67-4A72-8473-1C58BCB3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FDE9-A1FD-4484-B627-F1520EE3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8A50-1F91-4E31-9495-97C165F1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4543-6D35-4C9C-B2A1-1DAAA975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B860-A1C5-46D3-A896-C1E5342A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DDD1-4889-4594-9882-4FB29D6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6B46-7C66-4A18-8B40-688F3692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DA4-D10F-4EBA-846E-D85E7FC5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10B59-D6FA-4645-981C-88CBFD78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EB8B7-9089-42D0-B35A-6F86F6D7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EF65-EBC6-405B-BB78-B43930C0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6B6F-4900-4085-9E76-CB7ADA8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880B-97F7-45B2-8D48-D5F0E433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3009-BE33-464E-9B71-12E77BF9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B885-B4FA-4D2B-9A0C-195B58D0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6AFF-8273-46E3-88DE-31B15597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85AFB-4440-4856-B54D-BFB5BE97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DE4-24AB-43E6-AFE5-7C2951C7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602-8F29-44BF-8E85-21E7BBA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B2A-EDD9-4505-BAC3-6D0881F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B2A-DA45-4968-B280-5B339C8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DBC-0C86-4630-996B-1B7E2B6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5A0E-E5BC-4459-8A32-8681F76EA09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8074-2330-4578-965D-A7E6CA9258B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F53B-746E-477C-B053-69A1EA4CF33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751A-0B1B-48B1-9E34-9ED285D508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0" y="119700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00000" y="436572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Павлова Марина Анатольевн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учитель начальных классов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АОУСОШ № 8 г.Старая Ру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28760" y="9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Создание на уроке ситуации, стимулирующей поисковую активно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Диагностика начальных стадий утомления учащихся, снятие напряжения от статической позы, профилактика нарушений осанки и зрения. (Физкультминутки с 1 по 9 класс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Психологическая атмосфера урока, стиль общения учител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7168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Учитель должен не только строить свой учебный процесс с учётом возраста, пола, специфики развития организма, физиологических и психологических процессов, но и использовать информацию по сохранению и укреплению здоровья в своей педагогической деятель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760" y="999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«Только при таком подходе может быть реализован принцип –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4100" spc="-1" strike="noStrike">
                <a:solidFill>
                  <a:srgbClr val="000000"/>
                </a:solidFill>
                <a:latin typeface="Constantia"/>
              </a:rPr>
              <a:t>здоровье через образование!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»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Д.В. Колесов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Группа 7"/>
          <p:cNvGrpSpPr/>
          <p:nvPr/>
        </p:nvGrpSpPr>
        <p:grpSpPr>
          <a:xfrm>
            <a:off x="0" y="3524400"/>
            <a:ext cx="9144000" cy="3333600"/>
            <a:chOff x="0" y="3524400"/>
            <a:chExt cx="9144000" cy="3333600"/>
          </a:xfrm>
        </p:grpSpPr>
        <p:pic>
          <p:nvPicPr>
            <p:cNvPr id="209" name="Picture 4" descr="C:\Documents and Settings\Admin\Рабочий стол\Новая папка (3)\Новая папка\girl_reading_ha.gif"/>
            <p:cNvPicPr/>
            <p:nvPr/>
          </p:nvPicPr>
          <p:blipFill>
            <a:blip r:embed="rId2"/>
            <a:stretch/>
          </p:blipFill>
          <p:spPr>
            <a:xfrm>
              <a:off x="4000320" y="3524400"/>
              <a:ext cx="200952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" descr="C:\Documents and Settings\Admin\Рабочий стол\detia-844.gif"/>
            <p:cNvPicPr/>
            <p:nvPr/>
          </p:nvPicPr>
          <p:blipFill>
            <a:blip r:embed="rId3"/>
            <a:stretch/>
          </p:blipFill>
          <p:spPr>
            <a:xfrm>
              <a:off x="7472520" y="4872960"/>
              <a:ext cx="1671480" cy="19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6" descr="C:\Documents and Settings\Admin\Рабочий стол\e8e0b09cdb92d5b01a5721403d268a50.gif"/>
            <p:cNvPicPr/>
            <p:nvPr/>
          </p:nvPicPr>
          <p:blipFill>
            <a:blip r:embed="rId4"/>
            <a:stretch/>
          </p:blipFill>
          <p:spPr>
            <a:xfrm>
              <a:off x="0" y="4562640"/>
              <a:ext cx="2969280" cy="22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6"/>
          <p:cNvSpPr/>
          <p:nvPr/>
        </p:nvSpPr>
        <p:spPr>
          <a:xfrm>
            <a:off x="785880" y="200016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nstantia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4360" y="1557000"/>
            <a:ext cx="796104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Здоровый человек смотрит обоими глазами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и работает обеими руками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рийская послов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10920" y="1484280"/>
            <a:ext cx="83898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«Чтобы быть здоровым, нужно собственные усилия, постоянные и значительные. Заменить их нельзя ничем.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Н.М. Амосо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8000" y="1844280"/>
            <a:ext cx="8858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алеология – наука о формирование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охранении и укреплении здоровья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3" descr=""/>
          <p:cNvPicPr/>
          <p:nvPr/>
        </p:nvPicPr>
        <p:blipFill>
          <a:blip r:embed="rId2"/>
          <a:stretch/>
        </p:blipFill>
        <p:spPr>
          <a:xfrm>
            <a:off x="457200" y="571680"/>
            <a:ext cx="822960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57120" y="713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Как помочь детям, как сделать так, чтобы учение в школе вызывало прилив энергии и было в радость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Есть ли выход из создавшейся ситуации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облюдение санитарно-гигиенических  условий проведения урок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алеологически целесообразное включение в урок позитивного настро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ыбор адекватных возрасту форм и методов ведения уроков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ыбор темпа и ритма урока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85840" y="7855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Регламентация длительности основных видов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Смена видов деятельности на урок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Формирование положительной мотивации к учебной деятельности и стимулирование познавательного интереса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Привлечение возможно большего числа органов чувств учащихся: слуха, зрения, осязания, обоняния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00040" y="100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Создание условий для творчества в учебной деятель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Включение в процесс познания эмоционально-чувственной сфер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Дифференциация и индивидуализация процесса обучения в зависимости от личностных особенностей и состояния здоровья учащихся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0:28:47Z</dcterms:created>
  <dc:creator>Admin</dc:creator>
  <dc:description/>
  <dc:language>en-US</dc:language>
  <cp:lastModifiedBy>Admin</cp:lastModifiedBy>
  <dcterms:modified xsi:type="dcterms:W3CDTF">2015-01-24T09:47:31Z</dcterms:modified>
  <cp:revision>10</cp:revision>
  <dc:subject/>
  <dc:title>Здоровье на уроке.</dc:title>
</cp:coreProperties>
</file>