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gif" ContentType="image/gif"/>
  <Override PartName="/ppt/media/image25.png" ContentType="image/png"/>
  <Override PartName="/ppt/media/image42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A2FD-1D52-4AB9-BF4B-276062BF4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4976-2D31-4E94-B708-EAB06FA067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325A-4DB0-409A-915C-0A204B3C38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DBF-71D9-4F5F-AF91-7454803C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275-6C39-4B80-A949-A9BF085D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219-81F1-4A29-8F60-BE7D1FD9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F96-7582-4F0B-BB1E-D164749E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364-BE6D-4F20-89AB-77B5DD84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242-574D-4DA1-A00E-80501D5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A9D-80E6-45B7-B1E3-8525A87B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DB5-9B1D-4BE1-80C0-F65E1CD0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CB7-ECA4-42C9-9377-4624C899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13E-035F-407C-B8DC-8BACF2C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D6B-6BF9-4DE2-B1DD-54D6F00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932-A9E5-44C9-9399-AFFDD76F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92A6-450E-4708-A2EA-BC8FFBE773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994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7e7ff"/>
                </a:solidFill>
                <a:latin typeface="Arial"/>
              </a:rPr>
              <a:t>Живая и неживая </a:t>
            </a:r>
            <a:r>
              <a:rPr b="1" lang="ru-RU" sz="6600" spc="-1" strike="noStrike">
                <a:solidFill>
                  <a:srgbClr val="8bd8ff"/>
                </a:solidFill>
                <a:latin typeface="Arial"/>
              </a:rPr>
              <a:t>природа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56240" y="1676160"/>
            <a:ext cx="41860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3276720" y="2855880"/>
            <a:ext cx="3429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ИРОДА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1" name="Picture 10" descr="насекомые"/>
          <p:cNvPicPr/>
          <p:nvPr/>
        </p:nvPicPr>
        <p:blipFill>
          <a:blip r:embed="rId1"/>
          <a:stretch/>
        </p:blipFill>
        <p:spPr>
          <a:xfrm>
            <a:off x="3581280" y="76212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go4.imgsmail.ru/imgpreview?key=http%3A//img1.liveinternet.ru/images/attach/c/3/76/98/76098079_WindowsLiveWriter_d856c0192ca2_16AC_RRSRRSRSRyoRyo_SRRRSR__RRR_SRRyoRRSS_SRSSRRS_RyoRRyo_RRRRS_27_7c4cf4194b154bf0bb45390ac0141177.jpg&amp;mb=imgdb_preview_935"/>
          <p:cNvPicPr/>
          <p:nvPr/>
        </p:nvPicPr>
        <p:blipFill>
          <a:blip r:embed="rId2"/>
          <a:stretch/>
        </p:blipFill>
        <p:spPr>
          <a:xfrm>
            <a:off x="3429000" y="5029200"/>
            <a:ext cx="220032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go4.imgsmail.ru/imgpreview?key=http%3A//hostingkartinok.com/image/01201111/dcbb8e33d58d2fe2d7b808835cb1906d.jpg&amp;mb=imgdb_preview_354"/>
          <p:cNvPicPr/>
          <p:nvPr/>
        </p:nvPicPr>
        <p:blipFill>
          <a:blip r:embed="rId3"/>
          <a:stretch/>
        </p:blipFill>
        <p:spPr>
          <a:xfrm>
            <a:off x="6477120" y="380880"/>
            <a:ext cx="24192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http://feyasireni.ucoz.ru/_ph/13/660228521.jpg"/>
          <p:cNvPicPr/>
          <p:nvPr/>
        </p:nvPicPr>
        <p:blipFill>
          <a:blip r:embed="rId4"/>
          <a:stretch/>
        </p:blipFill>
        <p:spPr>
          <a:xfrm>
            <a:off x="304920" y="380880"/>
            <a:ext cx="228600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http://go1.imgsmail.ru/imgpreview?key=http%3A//ngm.nationalgeographic.com/wallpaper/img/2008/jan08-11-1280.jpg&amp;mb=imgdb_preview_358"/>
          <p:cNvPicPr/>
          <p:nvPr/>
        </p:nvPicPr>
        <p:blipFill>
          <a:blip r:embed="rId5"/>
          <a:stretch/>
        </p:blipFill>
        <p:spPr>
          <a:xfrm>
            <a:off x="6781680" y="2590920"/>
            <a:ext cx="2200320" cy="164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go4.imgsmail.ru/imgpreview?key=http%3A//mister-puzzle.ru/img/landscape/evening-savanna/evening-savanna-2.jpg&amp;mb=imgdb_preview_1617"/>
          <p:cNvPicPr/>
          <p:nvPr/>
        </p:nvPicPr>
        <p:blipFill>
          <a:blip r:embed="rId6"/>
          <a:stretch/>
        </p:blipFill>
        <p:spPr>
          <a:xfrm>
            <a:off x="304920" y="2895480"/>
            <a:ext cx="2228760" cy="16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go2.imgsmail.ru/imgpreview?key=http%3A//st.gdefon.ru/wallpapers_original/wallpapers/248197_%28www.GdeFon.ru%29.jpg&amp;mb=imgdb_preview_672"/>
          <p:cNvPicPr/>
          <p:nvPr/>
        </p:nvPicPr>
        <p:blipFill>
          <a:blip r:embed="rId7"/>
          <a:stretch/>
        </p:blipFill>
        <p:spPr>
          <a:xfrm>
            <a:off x="6676920" y="5105520"/>
            <a:ext cx="2467080" cy="142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go1.imgsmail.ru/imgpreview?key=http%3A//www.allfons.ru/large/201305/24817.jpg&amp;mb=imgdb_preview_803"/>
          <p:cNvPicPr/>
          <p:nvPr/>
        </p:nvPicPr>
        <p:blipFill>
          <a:blip r:embed="rId8"/>
          <a:stretch/>
        </p:blipFill>
        <p:spPr>
          <a:xfrm>
            <a:off x="0" y="5029200"/>
            <a:ext cx="254304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Живая природа- это то, что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Движ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Раст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Разв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Умир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Разв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Явления неживой природ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828800" y="1447920"/>
            <a:ext cx="5105520" cy="411480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752480" y="1523880"/>
            <a:ext cx="5562720" cy="4420800"/>
            <a:chOff x="1752480" y="1523880"/>
            <a:chExt cx="5562720" cy="4420800"/>
          </a:xfrm>
        </p:grpSpPr>
        <p:grpSp>
          <p:nvGrpSpPr>
            <p:cNvPr id="65" name="Group 6"/>
            <p:cNvGrpSpPr/>
            <p:nvPr/>
          </p:nvGrpSpPr>
          <p:grpSpPr>
            <a:xfrm>
              <a:off x="2179440" y="1523880"/>
              <a:ext cx="4725720" cy="3826080"/>
              <a:chOff x="2179440" y="1523880"/>
              <a:chExt cx="4725720" cy="3826080"/>
            </a:xfrm>
          </p:grpSpPr>
          <p:pic>
            <p:nvPicPr>
              <p:cNvPr id="66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79440" y="1523880"/>
                <a:ext cx="2276280" cy="161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0" y="3200400"/>
                <a:ext cx="22762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6320" y="1552320"/>
                <a:ext cx="2328840" cy="161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4576320" y="3206880"/>
                <a:ext cx="2328840" cy="214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" name="Rectangle 11"/>
            <p:cNvSpPr/>
            <p:nvPr/>
          </p:nvSpPr>
          <p:spPr>
            <a:xfrm>
              <a:off x="1752480" y="5464800"/>
              <a:ext cx="5562720" cy="479880"/>
            </a:xfrm>
            <a:prstGeom prst="rect">
              <a:avLst/>
            </a:prstGeom>
            <a:gradFill rotWithShape="0">
              <a:gsLst>
                <a:gs pos="0">
                  <a:srgbClr val="0000a4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1" name="Picture 13" descr="http://go4.imgsmail.ru/imgpreview?key=http%3A//hairlife.ru/forum/extensions/hcs_image_uploader/uploads/70000/2500/72505/p17ogo58gg13oc1ct216fd16aprrc3.jpg&amp;mb=imgdb_preview_84"/>
          <p:cNvPicPr/>
          <p:nvPr/>
        </p:nvPicPr>
        <p:blipFill>
          <a:blip r:embed="rId6"/>
          <a:stretch/>
        </p:blipFill>
        <p:spPr>
          <a:xfrm>
            <a:off x="0" y="609480"/>
            <a:ext cx="1817640" cy="196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http://go1.imgsmail.ru/imgpreview?key=http%3A//900igr.net/datas/okruzhajuschij-mir/Trud-cheloveka-zimoj/0012-012-Vjuga-silnyj-veter-zimoj-so-snegom.jpg&amp;mb=imgdb_preview_427"/>
          <p:cNvPicPr/>
          <p:nvPr/>
        </p:nvPicPr>
        <p:blipFill>
          <a:blip r:embed="rId7"/>
          <a:stretch/>
        </p:blipFill>
        <p:spPr>
          <a:xfrm>
            <a:off x="6934320" y="2971800"/>
            <a:ext cx="1895400" cy="191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http://www.stihi.ru/pics/2011/05/04/2572.jpg"/>
          <p:cNvPicPr/>
          <p:nvPr/>
        </p:nvPicPr>
        <p:blipFill>
          <a:blip r:embed="rId8"/>
          <a:stretch/>
        </p:blipFill>
        <p:spPr>
          <a:xfrm>
            <a:off x="7186680" y="533520"/>
            <a:ext cx="195732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http://www.fonstola.ru/pic/201111/320x480/fonstola.ru-55505.jpg"/>
          <p:cNvPicPr/>
          <p:nvPr/>
        </p:nvPicPr>
        <p:blipFill>
          <a:blip r:embed="rId9"/>
          <a:stretch/>
        </p:blipFill>
        <p:spPr>
          <a:xfrm>
            <a:off x="152280" y="2971800"/>
            <a:ext cx="172260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На Среднем Урале начнутся снегопады"/>
          <p:cNvPicPr/>
          <p:nvPr/>
        </p:nvPicPr>
        <p:blipFill>
          <a:blip r:embed="rId10"/>
          <a:stretch/>
        </p:blipFill>
        <p:spPr>
          <a:xfrm>
            <a:off x="457200" y="537228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http://im0-tub-ru.yandex.net/i?id=b79952fad6bbea2a85bd01fbde32fc45-07-144&amp;n=24"/>
          <p:cNvPicPr/>
          <p:nvPr/>
        </p:nvPicPr>
        <p:blipFill>
          <a:blip r:embed="rId11"/>
          <a:stretch/>
        </p:blipFill>
        <p:spPr>
          <a:xfrm>
            <a:off x="6705720" y="5504040"/>
            <a:ext cx="1790640" cy="13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3922560" y="3467160"/>
            <a:ext cx="1441440" cy="2089080"/>
            <a:chOff x="3922560" y="3467160"/>
            <a:chExt cx="1441440" cy="2089080"/>
          </a:xfrm>
        </p:grpSpPr>
        <p:pic>
          <p:nvPicPr>
            <p:cNvPr id="78" name="Picture 3" descr="Люди"/>
            <p:cNvPicPr/>
            <p:nvPr/>
          </p:nvPicPr>
          <p:blipFill>
            <a:blip r:embed="rId1"/>
            <a:stretch/>
          </p:blipFill>
          <p:spPr>
            <a:xfrm>
              <a:off x="3922560" y="3467160"/>
              <a:ext cx="144144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4"/>
            <p:cNvSpPr/>
            <p:nvPr/>
          </p:nvSpPr>
          <p:spPr>
            <a:xfrm>
              <a:off x="3922560" y="3467160"/>
              <a:ext cx="1441440" cy="258840"/>
            </a:xfrm>
            <a:prstGeom prst="rect">
              <a:avLst/>
            </a:prstGeom>
            <a:solidFill>
              <a:srgbClr val="0000a4"/>
            </a:solidFill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787640" y="3726000"/>
              <a:ext cx="576360" cy="461880"/>
            </a:xfrm>
            <a:prstGeom prst="rect">
              <a:avLst/>
            </a:prstGeom>
            <a:solidFill>
              <a:srgbClr val="0000a4"/>
            </a:solidFill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5074920" y="4187880"/>
              <a:ext cx="289080" cy="1368360"/>
            </a:xfrm>
            <a:prstGeom prst="rect">
              <a:avLst/>
            </a:prstGeom>
            <a:solidFill>
              <a:srgbClr val="0000a4"/>
            </a:solidFill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3076560" cy="3905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496440"/>
            <a:ext cx="8510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вязь между живой и неживой природо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6964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жива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Жи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0" descr="j0293828"/>
          <p:cNvPicPr/>
          <p:nvPr/>
        </p:nvPicPr>
        <p:blipFill>
          <a:blip r:embed="rId3"/>
          <a:stretch/>
        </p:blipFill>
        <p:spPr>
          <a:xfrm>
            <a:off x="685800" y="1989000"/>
            <a:ext cx="1442880" cy="1519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J0101980"/>
          <p:cNvPicPr/>
          <p:nvPr/>
        </p:nvPicPr>
        <p:blipFill>
          <a:blip r:embed="rId4"/>
          <a:stretch/>
        </p:blipFill>
        <p:spPr>
          <a:xfrm flipH="1">
            <a:off x="4932000" y="2500200"/>
            <a:ext cx="2257560" cy="273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J0086424"/>
          <p:cNvPicPr/>
          <p:nvPr/>
        </p:nvPicPr>
        <p:blipFill>
          <a:blip r:embed="rId5"/>
          <a:stretch/>
        </p:blipFill>
        <p:spPr>
          <a:xfrm flipH="1">
            <a:off x="5076720" y="3624120"/>
            <a:ext cx="1952640" cy="2186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j0304933"/>
          <p:cNvPicPr/>
          <p:nvPr/>
        </p:nvPicPr>
        <p:blipFill>
          <a:blip r:embed="rId6"/>
          <a:stretch/>
        </p:blipFill>
        <p:spPr>
          <a:xfrm flipH="1">
            <a:off x="7957800" y="4854600"/>
            <a:ext cx="554040" cy="51912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4"/>
          <p:cNvGrpSpPr/>
          <p:nvPr/>
        </p:nvGrpSpPr>
        <p:grpSpPr>
          <a:xfrm>
            <a:off x="179280" y="4025520"/>
            <a:ext cx="2860920" cy="1490760"/>
            <a:chOff x="179280" y="4025520"/>
            <a:chExt cx="2860920" cy="1490760"/>
          </a:xfrm>
        </p:grpSpPr>
        <p:pic>
          <p:nvPicPr>
            <p:cNvPr id="90" name="Picture 15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179280" y="4295520"/>
              <a:ext cx="2860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6" descr=""/>
            <p:cNvPicPr/>
            <p:nvPr/>
          </p:nvPicPr>
          <p:blipFill>
            <a:blip r:embed="rId8"/>
            <a:stretch/>
          </p:blipFill>
          <p:spPr>
            <a:xfrm>
              <a:off x="179280" y="4787640"/>
              <a:ext cx="286092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7" descr=""/>
            <p:cNvPicPr/>
            <p:nvPr/>
          </p:nvPicPr>
          <p:blipFill>
            <a:blip r:embed="rId9"/>
            <a:stretch/>
          </p:blipFill>
          <p:spPr>
            <a:xfrm rot="10800000">
              <a:off x="323640" y="4025520"/>
              <a:ext cx="23763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8" descr=""/>
            <p:cNvPicPr/>
            <p:nvPr/>
          </p:nvPicPr>
          <p:blipFill>
            <a:blip r:embed="rId10"/>
            <a:stretch/>
          </p:blipFill>
          <p:spPr>
            <a:xfrm>
              <a:off x="539640" y="5030640"/>
              <a:ext cx="237672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Line 19"/>
          <p:cNvSpPr/>
          <p:nvPr/>
        </p:nvSpPr>
        <p:spPr>
          <a:xfrm>
            <a:off x="3490920" y="1773360"/>
            <a:ext cx="2665440" cy="43956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20"/>
          <p:cNvSpPr/>
          <p:nvPr/>
        </p:nvSpPr>
        <p:spPr>
          <a:xfrm>
            <a:off x="3490920" y="2133720"/>
            <a:ext cx="1512720" cy="87156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1"/>
          <p:cNvSpPr/>
          <p:nvPr/>
        </p:nvSpPr>
        <p:spPr>
          <a:xfrm>
            <a:off x="3276720" y="2133720"/>
            <a:ext cx="1439640" cy="158436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3205080" y="2421000"/>
            <a:ext cx="358920" cy="143964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3" descr=""/>
          <p:cNvPicPr/>
          <p:nvPr/>
        </p:nvPicPr>
        <p:blipFill>
          <a:blip r:embed="rId11"/>
          <a:stretch/>
        </p:blipFill>
        <p:spPr>
          <a:xfrm>
            <a:off x="2459160" y="1238400"/>
            <a:ext cx="1162080" cy="1038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4"/>
          <p:cNvSpPr/>
          <p:nvPr/>
        </p:nvSpPr>
        <p:spPr>
          <a:xfrm>
            <a:off x="2340000" y="2925720"/>
            <a:ext cx="1150920" cy="287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e8e8e8"/>
              </a:gs>
              <a:gs pos="50000">
                <a:srgbClr val="99ffcc"/>
              </a:gs>
              <a:gs pos="100000">
                <a:srgbClr val="e8e8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2987640" y="4638600"/>
            <a:ext cx="934920" cy="287280"/>
          </a:xfrm>
          <a:custGeom>
            <a:avLst/>
            <a:gdLst>
              <a:gd name="textAreaLeft" fmla="*/ 145800 w 934920"/>
              <a:gd name="textAreaRight" fmla="*/ 818280 w 934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1645f"/>
              </a:gs>
              <a:gs pos="50000">
                <a:srgbClr val="02d8ce"/>
              </a:gs>
              <a:gs pos="100000">
                <a:srgbClr val="0164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Игра « Живое неживое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7851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ин пастух тысячи овец  пас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рук ,без ног , а беж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ышит,  растет , а ходить не мож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лесу на одной ножке выросла лепе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мостиком виляет хвост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шесте дворец ,во дворце певе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зун ползет ,иглы вез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8305920" y="304920"/>
            <a:ext cx="609480" cy="609480"/>
          </a:xfrm>
          <a:custGeom>
            <a:avLst/>
            <a:gdLst>
              <a:gd name="textAreaLeft" fmla="*/ 188280 w 609480"/>
              <a:gd name="textAreaRight" fmla="*/ 421200 w 609480"/>
              <a:gd name="textAreaTop" fmla="*/ 232920 h 609480"/>
              <a:gd name="textAreaBottom" fmla="*/ 465840 h 609480"/>
            </a:gdLst>
            <a:ahLst/>
            <a:rect l="textAreaLeft" t="textAreaTop" r="textAreaRight" b="textAreaBottom"/>
            <a:pathLst>
              <a:path w="609600" h="609600">
                <a:moveTo>
                  <a:pt x="1" y="232846"/>
                </a:moveTo>
                <a:lnTo>
                  <a:pt x="232848" y="232847"/>
                </a:lnTo>
                <a:lnTo>
                  <a:pt x="304800" y="0"/>
                </a:lnTo>
                <a:lnTo>
                  <a:pt x="376752" y="232847"/>
                </a:lnTo>
                <a:lnTo>
                  <a:pt x="609599" y="232846"/>
                </a:lnTo>
                <a:lnTo>
                  <a:pt x="421221" y="376752"/>
                </a:lnTo>
                <a:lnTo>
                  <a:pt x="493177" y="609598"/>
                </a:lnTo>
                <a:lnTo>
                  <a:pt x="304800" y="465690"/>
                </a:lnTo>
                <a:lnTo>
                  <a:pt x="116423" y="609598"/>
                </a:lnTo>
                <a:lnTo>
                  <a:pt x="188379" y="3767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7162920" y="1219320"/>
            <a:ext cx="685800" cy="533160"/>
          </a:xfrm>
          <a:custGeom>
            <a:avLst/>
            <a:gdLst>
              <a:gd name="textAreaLeft" fmla="*/ 211680 w 685800"/>
              <a:gd name="textAreaRight" fmla="*/ 474120 w 685800"/>
              <a:gd name="textAreaTop" fmla="*/ 203760 h 533160"/>
              <a:gd name="textAreaBottom" fmla="*/ 407520 h 533160"/>
            </a:gdLst>
            <a:ahLst/>
            <a:rect l="textAreaLeft" t="textAreaTop" r="textAreaRight" b="textAreaBottom"/>
            <a:pathLst>
              <a:path w="685800" h="533400">
                <a:moveTo>
                  <a:pt x="1" y="203740"/>
                </a:moveTo>
                <a:lnTo>
                  <a:pt x="261954" y="203742"/>
                </a:lnTo>
                <a:lnTo>
                  <a:pt x="342900" y="0"/>
                </a:lnTo>
                <a:lnTo>
                  <a:pt x="423846" y="203742"/>
                </a:lnTo>
                <a:lnTo>
                  <a:pt x="685799" y="203740"/>
                </a:lnTo>
                <a:lnTo>
                  <a:pt x="473874" y="329658"/>
                </a:lnTo>
                <a:lnTo>
                  <a:pt x="554824" y="533398"/>
                </a:lnTo>
                <a:lnTo>
                  <a:pt x="342900" y="407479"/>
                </a:lnTo>
                <a:lnTo>
                  <a:pt x="130976" y="533398"/>
                </a:lnTo>
                <a:lnTo>
                  <a:pt x="211926" y="3296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7696080" y="457200"/>
            <a:ext cx="609840" cy="609480"/>
          </a:xfrm>
          <a:custGeom>
            <a:avLst/>
            <a:gdLst>
              <a:gd name="textAreaLeft" fmla="*/ 188280 w 609840"/>
              <a:gd name="textAreaRight" fmla="*/ 421560 w 609840"/>
              <a:gd name="textAreaTop" fmla="*/ 232920 h 609480"/>
              <a:gd name="textAreaBottom" fmla="*/ 465840 h 609480"/>
            </a:gdLst>
            <a:ahLst/>
            <a:rect l="textAreaLeft" t="textAreaTop" r="textAreaRight" b="textAreaBottom"/>
            <a:pathLst>
              <a:path w="609600" h="609600">
                <a:moveTo>
                  <a:pt x="1" y="232846"/>
                </a:moveTo>
                <a:lnTo>
                  <a:pt x="232848" y="232847"/>
                </a:lnTo>
                <a:lnTo>
                  <a:pt x="304800" y="0"/>
                </a:lnTo>
                <a:lnTo>
                  <a:pt x="376752" y="232847"/>
                </a:lnTo>
                <a:lnTo>
                  <a:pt x="609599" y="232846"/>
                </a:lnTo>
                <a:lnTo>
                  <a:pt x="421221" y="376752"/>
                </a:lnTo>
                <a:lnTo>
                  <a:pt x="493177" y="609598"/>
                </a:lnTo>
                <a:lnTo>
                  <a:pt x="304800" y="465690"/>
                </a:lnTo>
                <a:lnTo>
                  <a:pt x="116423" y="609598"/>
                </a:lnTo>
                <a:lnTo>
                  <a:pt x="188379" y="3767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8" descr="растение"/>
          <p:cNvPicPr/>
          <p:nvPr/>
        </p:nvPicPr>
        <p:blipFill>
          <a:blip r:embed="rId1"/>
          <a:stretch/>
        </p:blipFill>
        <p:spPr>
          <a:xfrm>
            <a:off x="7696080" y="4038480"/>
            <a:ext cx="990720" cy="1406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http://im0-tub-ru.yandex.net/i?id=a31e8cfe303561358fc5ad39b29fffae-11-144&amp;n=24"/>
          <p:cNvPicPr/>
          <p:nvPr/>
        </p:nvPicPr>
        <p:blipFill>
          <a:blip r:embed="rId2"/>
          <a:stretch/>
        </p:blipFill>
        <p:spPr>
          <a:xfrm>
            <a:off x="4572000" y="5711760"/>
            <a:ext cx="1905120" cy="1146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http://im3-tub-ru.yandex.net/i?id=2f1b0a521a8ec25c2df9e649438f88c6-47-144&amp;n=24"/>
          <p:cNvPicPr/>
          <p:nvPr/>
        </p:nvPicPr>
        <p:blipFill>
          <a:blip r:embed="rId3"/>
          <a:stretch/>
        </p:blipFill>
        <p:spPr>
          <a:xfrm>
            <a:off x="380880" y="5619600"/>
            <a:ext cx="1648080" cy="1238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http://im2-tub-ru.yandex.net/i?id=37caf6af6ced22ff0685ec7056789b94-07-144&amp;n=24"/>
          <p:cNvPicPr/>
          <p:nvPr/>
        </p:nvPicPr>
        <p:blipFill>
          <a:blip r:embed="rId4"/>
          <a:stretch/>
        </p:blipFill>
        <p:spPr>
          <a:xfrm>
            <a:off x="6934320" y="5619600"/>
            <a:ext cx="1638360" cy="1238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http://im2-tub-ru.yandex.net/i?id=cd1e4d47ef08f4634d7f58e15a0956db-77-144&amp;n=24"/>
          <p:cNvPicPr/>
          <p:nvPr/>
        </p:nvPicPr>
        <p:blipFill>
          <a:blip r:embed="rId5"/>
          <a:stretch/>
        </p:blipFill>
        <p:spPr>
          <a:xfrm>
            <a:off x="2743200" y="5619600"/>
            <a:ext cx="1523880" cy="1238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http://im0-tub-ru.yandex.net/i?id=9ce5651ab2847e5d3328a8259b0f000f-60-144&amp;n=24"/>
          <p:cNvPicPr/>
          <p:nvPr/>
        </p:nvPicPr>
        <p:blipFill>
          <a:blip r:embed="rId6"/>
          <a:stretch/>
        </p:blipFill>
        <p:spPr>
          <a:xfrm>
            <a:off x="7696080" y="1676520"/>
            <a:ext cx="1219320" cy="99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http://im3-tub-ru.yandex.net/i?id=55b3eea97632af88fba86097a879486d-85-144&amp;n=24"/>
          <p:cNvPicPr/>
          <p:nvPr/>
        </p:nvPicPr>
        <p:blipFill>
          <a:blip r:embed="rId7"/>
          <a:stretch/>
        </p:blipFill>
        <p:spPr>
          <a:xfrm>
            <a:off x="7429680" y="281952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Живая природа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4280" y="151920"/>
            <a:ext cx="4648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e0ff"/>
                </a:solidFill>
                <a:latin typeface="Arial"/>
              </a:rPr>
              <a:t>Неживая 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5" descr="http://im1-tub-ru.yandex.net/i?id=91c16032977723d94f792a78222b50b6-87-144&amp;n=24"/>
          <p:cNvPicPr/>
          <p:nvPr/>
        </p:nvPicPr>
        <p:blipFill>
          <a:blip r:embed="rId1"/>
          <a:stretch/>
        </p:blipFill>
        <p:spPr>
          <a:xfrm>
            <a:off x="4800600" y="5619600"/>
            <a:ext cx="164772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http://im1-tub-ru.yandex.net/i?id=3180b06567b2c84c36bb6ee0c0888ec2-49-144&amp;n=24"/>
          <p:cNvPicPr/>
          <p:nvPr/>
        </p:nvPicPr>
        <p:blipFill>
          <a:blip r:embed="rId2"/>
          <a:stretch/>
        </p:blipFill>
        <p:spPr>
          <a:xfrm>
            <a:off x="0" y="27432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http://im3-tub-ru.yandex.net/i?id=db0534924c6e2d6f0e75b9dc1fed314d-12-144&amp;n=24"/>
          <p:cNvPicPr/>
          <p:nvPr/>
        </p:nvPicPr>
        <p:blipFill>
          <a:blip r:embed="rId3"/>
          <a:stretch/>
        </p:blipFill>
        <p:spPr>
          <a:xfrm>
            <a:off x="7162920" y="2819520"/>
            <a:ext cx="885600" cy="123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ttp://im1-tub-ru.yandex.net/i?id=858a1a434cfa4259d9861a52e8928121-69-144&amp;n=24"/>
          <p:cNvPicPr/>
          <p:nvPr/>
        </p:nvPicPr>
        <p:blipFill>
          <a:blip r:embed="rId4"/>
          <a:stretch/>
        </p:blipFill>
        <p:spPr>
          <a:xfrm>
            <a:off x="3276720" y="4191120"/>
            <a:ext cx="1352520" cy="105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ttp://im1-tub-ru.yandex.net/i?id=b07ca55fd37c89be20618eef34a9c7b0-51-144&amp;n=24"/>
          <p:cNvPicPr/>
          <p:nvPr/>
        </p:nvPicPr>
        <p:blipFill>
          <a:blip r:embed="rId5"/>
          <a:stretch/>
        </p:blipFill>
        <p:spPr>
          <a:xfrm>
            <a:off x="4648320" y="1371600"/>
            <a:ext cx="1647720" cy="1238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http://im0-tub-ru.yandex.net/i?id=9194fcc263a1ef8ef648b1e623f09b6c-99-144&amp;n=24"/>
          <p:cNvPicPr/>
          <p:nvPr/>
        </p:nvPicPr>
        <p:blipFill>
          <a:blip r:embed="rId6"/>
          <a:stretch/>
        </p:blipFill>
        <p:spPr>
          <a:xfrm>
            <a:off x="2666880" y="914400"/>
            <a:ext cx="1733760" cy="1238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http://im1-tub-ru.yandex.net/i?id=ca957f2ca26f3e1776708882184ff9cd-98-144&amp;n=24"/>
          <p:cNvPicPr/>
          <p:nvPr/>
        </p:nvPicPr>
        <p:blipFill>
          <a:blip r:embed="rId7"/>
          <a:stretch/>
        </p:blipFill>
        <p:spPr>
          <a:xfrm>
            <a:off x="2743200" y="2743200"/>
            <a:ext cx="1647720" cy="1238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9" descr="http://im0-tub-ru.yandex.net/i?id=ff6499a0e04e3fa522cba599e920a273-63-144&amp;n=24"/>
          <p:cNvPicPr/>
          <p:nvPr/>
        </p:nvPicPr>
        <p:blipFill>
          <a:blip r:embed="rId8"/>
          <a:stretch/>
        </p:blipFill>
        <p:spPr>
          <a:xfrm>
            <a:off x="6477120" y="1371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http://im1-tub-ru.yandex.net/i?id=858e8148fba994bd30f6822cc77344ea-37-144&amp;n=21"/>
          <p:cNvPicPr/>
          <p:nvPr/>
        </p:nvPicPr>
        <p:blipFill>
          <a:blip r:embed="rId9"/>
          <a:stretch/>
        </p:blipFill>
        <p:spPr>
          <a:xfrm>
            <a:off x="2514600" y="553716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http://im3-tub-ru.yandex.net/i?id=1f0a8878fedbdbd91c2f68b61bcfc9f4-30-144&amp;n=24"/>
          <p:cNvPicPr/>
          <p:nvPr/>
        </p:nvPicPr>
        <p:blipFill>
          <a:blip r:embed="rId10"/>
          <a:stretch/>
        </p:blipFill>
        <p:spPr>
          <a:xfrm>
            <a:off x="5410080" y="4191120"/>
            <a:ext cx="1648080" cy="123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http://im3-tub-ru.yandex.net/i?id=1ecbc29010b766184b0f57fb4fdd9c61-94-144&amp;n=24"/>
          <p:cNvPicPr/>
          <p:nvPr/>
        </p:nvPicPr>
        <p:blipFill>
          <a:blip r:embed="rId11"/>
          <a:stretch/>
        </p:blipFill>
        <p:spPr>
          <a:xfrm>
            <a:off x="7905600" y="52578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http://im1-tub-ru.yandex.net/i?id=6d02bffb9725d52fe615b0f979034520-133-144&amp;n=24"/>
          <p:cNvPicPr/>
          <p:nvPr/>
        </p:nvPicPr>
        <p:blipFill>
          <a:blip r:embed="rId12"/>
          <a:stretch/>
        </p:blipFill>
        <p:spPr>
          <a:xfrm>
            <a:off x="0" y="5619600"/>
            <a:ext cx="164772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46 -0.0125 L 0.13854 -0.0125 E">
                                      <p:cBhvr>
                                        <p:cTn id="17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77 0.00973 L -0.49011 -0.0125 E"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18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18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19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0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3 0.01042 C 0.07587 -0.04027 0.12083 -0.07222 0.17083 -0.07222 C 0.22083 -0.07222 0.2658 -0.04027 0.29583 0.01042 C 0.2658 0.06111 0.22083 0.09306 0.17083 0.09306 C 0.12083 0.09306 0.07587 0.06111 0.04583 0.01042 Z">
                                      <p:cBhvr>
                                        <p:cTn id="20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85 -0.00139 C 0.01042 0.00833 0.00868 0.00648 0.00174 0.00416 C -0.0066 -0.00324 -0.01493 -0.01065 -0.02326 -0.01806 C -0.02864 -0.02292 -0.03594 -0.02199 -0.04132 -0.02732 C -0.04705 -0.03311 -0.0526 -0.03936 -0.05798 -0.04584 C -0.06406 -0.05301 -0.07031 -0.06042 -0.07604 -0.06806 C -0.08507 -0.0801 -0.09271 -0.09954 -0.10521 -0.1051 C -0.12291 -0.13334 -0.14062 -0.16968 -0.1691 -0.17917 C -0.1783 -0.18727 -0.19305 -0.19236 -0.20104 -0.20139 C -0.22239 -0.22547 -0.24514 -0.24723 -0.26493 -0.27361 C -0.29462 -0.3132 -0.32517 -0.36204 -0.3691 -0.37176 C -0.37726 -0.37894 -0.39913 -0.38658 -0.4066 -0.39028 C -0.41458 -0.40093 -0.42535 -0.39792 -0.43576 -0.40139 C -0.44288 -0.40834 -0.45208 -0.41204 -0.46076 -0.41436 C -0.46649 -0.41945 -0.47101 -0.42454 -0.47743 -0.42732 C -0.47934 -0.42917 -0.4809 -0.43125 -0.48298 -0.43287 C -0.4842 -0.4338 -0.48594 -0.43357 -0.48715 -0.43473 C -0.49288 -0.43982 -0.49392 -0.44352 -0.50104 -0.44584 C -0.50764 -0.45162 -0.51371 -0.46528 -0.52187 -0.46806 C -0.52882 -0.47037 -0.53559 -0.47361 -0.54271 -0.47547 C -0.55035 -0.47755 -0.54791 -0.475 -0.55104 -0.47917 E">
                                      <p:cBhvr>
                                        <p:cTn id="2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21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52280" y="4572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club.33b.eu/topic2806686_1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533520" y="990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zbucabezopasnosti.ru/ekologiya/5098-ekskurs-v-simvol-svobod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0" y="1676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health.rin.ru/uni/text/newpages/?2167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9480" y="20574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all.alphacoders.com/index.php?lang=Russian&amp;page=1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152280" y="26668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ap.mms.mts.ru/contents/5488028?ct=pho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685800" y="3105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diary.ru/~LenSanna/?order=fromend&amp;from=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 flipV="1" rot="10800000">
            <a:off x="0" y="3474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hotoforum.ru/photo/251346/index.ru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 flipV="1" rot="10800000">
            <a:off x="304920" y="40406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orgen.mybb.ru/viewtopic.php?id=6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9"/>
          <p:cNvSpPr/>
          <p:nvPr/>
        </p:nvSpPr>
        <p:spPr>
          <a:xfrm flipV="1" rot="10800000">
            <a:off x="609120" y="45057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news.rambler.ru/18944582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33520" y="480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young.rzd.ru/blog/public/ru?STRUCTURE_ID=5035&amp;layer_id=3833&amp;id=73068&amp;page3833_3489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0" y="53211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say.tv/program_news_1/post/20596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3"/>
          <p:cNvSpPr/>
          <p:nvPr/>
        </p:nvSpPr>
        <p:spPr>
          <a:xfrm>
            <a:off x="685800" y="598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kep-taki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52280" y="3049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kingproject.ru/kak-najti-luchshie-proekty-zagorodnyx-dach-i-domov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685800" y="762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doska.ru/msg/electronics/tvs/plasmic/cnk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0" y="12193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photo.i.ua/user/1998792/127450/2998154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76212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do.gendocs.ru/docs/index-16760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609480" y="2209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atis-byfet.ru/index.php?route=product/product&amp;product_id=1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228600" y="2895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jobspapa.com/free-french-kiss-wallpaper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609480" y="3244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otanoinvest.blogspot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 flipV="1" rot="10800000">
            <a:off x="533160" y="38905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900igr.net/kartinki/morskie-zhiteli/Mlekopitajuschie.files/042-Tjulen-grenlandskij-lysu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 flipV="1" rot="10800000">
            <a:off x="609120" y="4758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asterotvetov.com/risovanie/89702-kak-narisovat-mesjac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1</cp:lastModifiedBy>
  <dcterms:modified xsi:type="dcterms:W3CDTF">2014-11-26T20:55:21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