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BE5-8BE5-4E9E-95E6-23F9AFBC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2EA-B2E5-42B3-8CC2-9EB0CD8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D56F3-4589-46E4-9E09-57F1F5D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9848B-83D4-4098-BF65-9AA5A09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BB617-3D29-433F-88E3-4B3792E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3A63-DA98-41C4-8847-447EC6B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AE5A3-28CB-487E-AFD1-A75D91E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74E86-6392-4FE1-B8A9-FB6C418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B571-A973-4D82-B2DC-2952B7E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8F507-3830-4D83-8335-ACCDFBDE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9BD0-DC42-4A9B-BED7-07ED5F15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ABE74-DBC4-486A-B58E-1C132B8F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884-B3C2-4389-A6F6-4CFB21E4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6B33D-2FB5-4F57-9548-4C84499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6C3EA-97D7-49EB-9C6C-B391DFEC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7E743-1757-45AE-8D4B-C8167B0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6F8A4-A10F-47D2-AC3C-73DA5BE5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24583-594E-41C2-849C-5D3C56E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34FD9-1635-42E0-8CAF-46B5CDA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E17FB-30D6-4CAE-BA3F-E3101F6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B9E35-E40E-4FFA-A4C1-9A3665E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3AF8-EC38-42A6-9267-1A1CEA5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CEACF-9358-4C1F-84E0-5FC4BC7F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173-C1DF-4A77-A12A-5B417670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49399-9602-4C77-87F8-80359E74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D477-0761-48EA-8ACC-11834DFC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F376-521D-42ED-AD2C-39722E6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FE2F-D42E-49FD-B1E9-671C6EB4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AD46-1284-47CB-A756-638D174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AEA6-9DCA-4054-B2A9-981254A1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2E0F-6809-4603-9E07-A02D123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D6E-6106-4CF2-B24A-AC85EB7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B36-97A0-4CF5-8049-620478D1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C63-2619-4F76-B89C-8219FA1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7709-A0D8-4528-B156-D2F9BDE0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552C-4F2D-4B3D-92AD-6698D13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B92-D946-4462-AD21-C2B84DFD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6530-8F63-4DFD-84EF-667532CF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F385-DCB6-41A6-9C15-F4E97A07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A851-1F08-462B-A957-43C2879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4582-6119-42BA-A5F7-4CC50CA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0AAF-E998-461F-A50D-767D517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1BB1-9BF9-4FB4-8F41-84B9378F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A12-3947-4CF2-A92E-0F7A84B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187D-7EA1-46FB-926A-7AEC51C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9278-4E90-4A4A-AF69-DB67C58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7164-2144-4F93-8EED-F1125CE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BC42-DD27-4BE7-A83F-5C0D45A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79C2-64B1-43AF-8B92-C04B6F24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B4BD9-3F58-4D32-82D5-CB88E060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92B8-9140-4B74-80A3-D6090B87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D5EA-13A2-4B7B-AD1C-D471AEE8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B2D7-B01D-43AF-86DA-B7BF80F2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CF63-FA30-496C-87BB-23AAB116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85E-A9BF-47C8-B78D-B1130C5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09E7-C6E7-4ABC-A06F-E95ED42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D617-6486-4ADD-A1E2-BF23A777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A615-3F7E-4EBE-BA58-41814E2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DFDA-CB9A-4646-B04C-A2BAF42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66D2-C1C4-456B-A0E1-CE1CC250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4832-7FD7-4FB9-A519-AD3F815A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E68B-8D28-44EB-A5EC-34B3B27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C0AC-E8EB-4C75-9755-976ABBAE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7AC0-25A3-454C-97DD-5A01E85D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1723-75C8-43A7-9632-55E25C8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906-072C-44BA-98A4-4FAAA2F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A226C-7601-48BE-A762-4447C729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C4D4-2340-47BD-A208-60FA590A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82B0-7969-454A-A044-135950A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8C5F-DC6E-4CC7-9A2F-00E0C73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969A-56C4-4FC6-961A-851CA21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CD21-96A5-4C3E-8A7F-480AFA6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A36E-413D-4A88-BFA4-F904870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457C-4DB6-47ED-ADEB-74DFF8D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D025-357D-4C31-9F63-7B80D16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C20A-0C45-4106-8AA2-9F3E30D0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D40-0DA0-4C6F-8DF9-1E8C3FA4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46DE-0566-439E-B7FC-5E50C14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C88C-93E8-45AA-AB88-E686AF20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D720-86F1-4A7E-BDAB-7AA014C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7405C-99BB-4513-8335-040176C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896F-99B8-4079-B71E-3CECDF42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9003B-3F13-4C18-9812-72900B1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891B6-189B-42F0-959D-9CFEF8F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7BD3-84ED-4111-BCF6-ADF644D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07695-B000-4E79-8E71-546AB62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B4A3-520B-47B8-8C72-1ED705C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596-84C0-408C-9856-45CD1F7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BB9A-E976-4942-B04B-26688BE1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6EEB-5A7C-4042-B15A-6859793A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593A-35EC-4A9E-8283-79053AE6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CA915-3AB4-4020-966C-72F3311D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737B-AB1B-4BBE-95DC-EB25DF0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FCAE-75B7-4303-A454-5D577CDA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8BDB-CDA5-40A7-9FF5-DEFB713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F23E9-EF6E-4E88-BFA8-F1836A7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6DB92-412E-4537-A1C9-526843B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70F9-406E-4A5B-AB28-0474C71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C1B-1AD4-4520-84DB-1D95C84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AD8A-5298-4BAF-ABED-31AA362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C1F36-44E9-46C6-B781-3301CC5D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6D23-E261-4EDB-8B09-16DD2AF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8B36-EA16-4722-92CA-4B053E38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D3B4-B4D3-4F1C-B4CF-51AB6DF9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4D3E-3201-484E-AC2A-F260346E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635F-D672-4D5D-94CA-587F650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B2B00-0AC8-4502-A06C-1B66768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A491-3EB7-47C2-BFD2-540B0FF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CD40-11F7-4A4F-B45D-920D74EE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45-575C-4D75-8F22-4336D80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EABEC-D7F5-4812-A3DD-4449F4A6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A1A53-AEA8-4FE5-A4A5-947709C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5510-CB49-4EB5-B661-7F353AE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82839-1D5C-4C4A-99BB-93A95A5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2BBDA-8204-4487-A516-5AD9F8B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21FB3-B5BE-454E-8974-348FB302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75F5-FEED-4738-994E-02ADA481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DA5A6-EE26-4F88-9450-D8C184F1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02E0D-A7D8-4155-B6EC-505761A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F20C3-B4D1-44D9-B8B2-39988A1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321-2EB0-450B-982B-716A62DB21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0C9-F52E-49A4-8C52-08C58DC646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743E-E97B-4B66-BCFE-05248EAD69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D3BD-AFB3-46FC-B6AC-31974EAE83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888-231C-48D2-A196-5AD51B7DFE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F2D-DF6E-4FCA-85AD-42418EC750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980-A42D-4212-950C-40660971C4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6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F60-D07D-4E89-8880-73E67ED494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1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A83-D47B-4D9D-A487-7B10812687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A0E-7346-4878-BDED-7E7DBCB00E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1187280" y="854640"/>
            <a:ext cx="691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СОШ №3 города Би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611280" y="206064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«Инновационная деятельность – ключевое условие формирования современной модели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3291840" y="5516640"/>
            <a:ext cx="54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6 ноября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овалова Светлана Борис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3851280" y="3645000"/>
            <a:ext cx="1800360" cy="1717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539640" y="260280"/>
            <a:ext cx="8136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ест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новационная модель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новационная деятельность – ключевое условие формирования современной модели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овременного оборудования в инновационной деятельност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е проектирование – инновационная составляющая современной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ой траектории развития 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ребенка через организацию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539640" y="18900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Реализация новой многофакторной системы оценки качества образования, учитывающая предметные, метапредметные и личностные результаты развития младшего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Разработка эффективной системы индивидуальной подготовки учащихся к ЕГЭ, в том числе через дистанционн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Анализ инновационной деятельности учителей МБОУ СОШ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2574000" y="40464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611280" y="2230560"/>
            <a:ext cx="81360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ю директора по инновационной деятельности разработать, методическому совету школы утвердить технологическую карту использования инноваций учителями. Каждому педагогу школы включить в методический паспорт технологическую карту иннов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методическую неделю в рамках педагогического марафона «Инновации в МБОУ СОШ № 3» срок: апр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2574000" y="40464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ш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971640" y="1557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39640" y="927000"/>
            <a:ext cx="7861320" cy="5454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2:25:51Z</dcterms:created>
  <dc:creator>Т</dc:creator>
  <dc:description/>
  <dc:language>en-US</dc:language>
  <cp:lastModifiedBy>Валера</cp:lastModifiedBy>
  <dcterms:modified xsi:type="dcterms:W3CDTF">2015-01-25T06:55:39Z</dcterms:modified>
  <cp:revision>84</cp:revision>
  <dc:subject/>
  <dc:title>Слайд 1</dc:title>
</cp:coreProperties>
</file>