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FE9-302E-4943-839C-4B07BA68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6D3-EBA4-4872-8EB6-D0115F1C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56427-5932-4949-97A6-D714B688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B07B9-D439-4FE2-A424-3F8FA56E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52C2A-596E-426B-B4A9-E48FB0FE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F9F8D-A75C-4002-B32A-1A0D1FA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1C8CF-841D-46A9-ACDA-21ECB18C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177D5-4890-46A1-ABB7-DDFAF67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B78ED-4563-46BC-AF31-30172341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99232-8D33-478B-B109-9EE0B646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7D3CA-D1CD-4A50-90DB-E56D82F7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D6F91-48C4-4454-B392-7C1F7E84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F90-0262-4A49-9BFD-A012A005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8680E-A870-4FBE-9E33-77EF6129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C177A-575E-4D49-9244-7598831E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7C1D4-77A5-4FD2-9B98-A690CA4E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44FBF-6C95-4F6E-99DC-199EAA91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A9C8C-C8FC-4D5D-B8BA-0CD43B5F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58091-5D69-4B8F-B84E-6E4465BB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B8914-A2A9-436F-81AE-91503A06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0A758-5D23-4810-AE99-46FEDEE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BD5C1-1EA7-489A-81C8-B58D6387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7342D-8A86-451F-96F7-9043E4DB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78D-E8AF-4EC5-A929-6BE304CE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6F2F2-AD2C-4DDC-AFAB-20E3E399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9B95-85F4-4D11-A5C8-9B97F738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BF23-DCA9-4819-880A-F1B7C072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85F8-732F-46F8-A927-F54D87C1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EDB5-3AA3-48E7-A129-05A85428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485D-5186-43B4-9671-49AA8FE3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5A83-4AD9-456D-B0EF-7EAC0B0F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6498-7EEF-4D2B-B64C-0AC2B39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CED-9CEE-4583-AC34-958C946E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3475-A53C-4A66-B0B8-DA554642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FE13-5992-4272-B5D0-08CC785A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615A-C27B-4844-9EC0-661C2570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F219-AA5D-4977-9ABB-CE71C299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2619-B7E1-49DB-B8DA-AEF08220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351C-6F70-427A-941E-D0D335A7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E889-2CFE-49C1-8B6D-563B1E97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A8FD1-15C8-40E0-8875-EFE0F4F1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7C77E-942E-4014-AD88-CBF751DA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C6EF-F015-4276-BEC4-1FCA42A5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5CE-E0C4-451C-B4C0-7DD90267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46A8-CCA2-40C1-B685-839A5CA7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4946-33FA-4908-9B55-84A9CB35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0276-1B2C-44DE-B406-A68856B9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71C4-4386-45D1-A678-28CC4C1B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56C1-8055-43A7-9400-D8510515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629E-3DAE-449F-A6BE-996EA53C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86F8-F8FA-4B5A-A534-2CAFD78A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6999-99B8-4AEC-AB75-8133958C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477A-559C-4002-A68F-952C6F8A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9F577-08A3-4CE6-BE25-96E5D8C4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3A4-9861-4FC8-A14C-F8CC7D24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6C716-55C8-4218-B7B3-1DD15B21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1A54C-E419-4D8B-BE4F-42E5B5E1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80A9-B5B5-4C3A-97B5-24DD8D84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726A-B93C-4EAE-B77A-9794A80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8DCDE-E581-40DC-BDE6-67FB2C4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79748-0AFD-4FF8-AC87-9149336B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7ECC8-DB36-434B-AF6C-85D060CB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207DE-A4F1-480D-9A81-D3216B20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55D2A-F7F3-4466-826D-5AD074D1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62B9-EB28-4DF8-955B-9D71BEA0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46B-BCF2-4695-B047-B9703DE5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CD18A-6755-42C5-804C-EDD22786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9C922-9E00-43A4-98C1-176907C9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76FD3-F138-4ABC-A261-E95CF3C2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48CEE-DD61-4A19-9A6E-D2F2F1A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EDD6C-A7C8-4CA4-A196-552CAE58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0BEBD-CD34-4BCA-8484-445E585D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E2465-7382-4A1D-AC9C-E806209C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ECEBC-82B7-473B-A009-F1626C8B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16D2A-A212-4B28-81D9-8CEFD5D9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90D21-3C40-42CD-A937-45C17DD4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D12-93E3-495F-9B16-FA696A4E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32D41-FDFD-43A6-A0F1-81DCC0FD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D1E0E-1D05-495E-9D2C-41F7D6A4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DA5D2-B9A7-4E45-8D96-DD5BA54B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AE451-065C-424C-A2FE-3E9C14EC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08249-8E09-4A60-B551-BB010A35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C03D7-73A8-4A50-8C01-986D8615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99FC6-C580-4A5C-8367-4C0C4DD9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F733B-E33D-4B15-AD43-3F7ACA51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7D28E-5EF2-434B-AFE5-49925C3B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F4010-2B52-4CCD-B26B-15F0AA3A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516-67F0-4584-B88B-284A16AC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BCDF6-D4ED-4FAF-A070-39B33F46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A0C1D-47F8-4CFD-A6D4-455D19CE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1E56D-A08D-4D1A-AD03-805B5674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EEDA-7359-415C-87A0-6CCB223E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67F21-922A-4A4B-BCBE-13B8D126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AB143-0D73-4243-96C6-ABD397EB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5FFB5-F5C5-4766-B3A2-AAB84B2E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C7C5D-6CFF-4482-87F9-F092E2E4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9E4C5-53D2-4540-B12A-224C2995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28E09-AA49-473F-A077-E856ECDD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8BB-72CB-45AC-9CD8-7CB92A31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9BBEE-E8B3-4A6A-9832-EB857AB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EDE24-C163-4511-B341-5C95F94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94075-7293-4D34-BD37-0929C1D8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D06DA-FCCE-4D8C-8FB5-43B2259D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1F3AD-4A16-4DF2-9693-C310B014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A71FD-9665-402F-AE23-B715C104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100B6-2B7D-4F4F-9F78-4CDFE8DD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CE4A5-703F-4E09-AE05-0D42AD05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4AF29-0DEE-4A06-9E55-44A25367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B4938-8C0A-4472-B802-E86F74EB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D76-7E31-4A96-A16D-72DB2A82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A715E-AD03-477D-8266-B4509F27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373C-AB93-47F2-9D9F-98EC7965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EF4F8-E42E-4B5F-BE5C-A00AE3DB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D4A9D-6CD5-4ACB-AE8F-3853FDA6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468BB-BB73-4A06-A2B3-1FCED3AC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57082-3BD8-488B-B5C2-CAA86E60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A1B65-9700-479B-AC5E-4313A22B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CF850-469F-46EF-90F1-846802DC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06BF8-19AF-48F5-86E6-AA843857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67C3C-5566-4073-A374-A7C8839F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93A9-2538-4C9E-A59E-BF7A2D5769E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0C9F-E03D-4D5C-8132-7642FAA24F1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CD8-2028-4152-89BE-EBBDD12746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5D57-4A19-4987-B88D-9DED67C1EA2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2F95-6C6A-4003-94F0-FF1BA330005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FDD7-0C63-4FA6-A633-F68D8EB9D8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53CC-F45A-4CCB-B92C-A913A26ADCE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6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D22E-EF49-443D-AECD-2AF691315A6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1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5C2D-06EC-4237-A575-56188341D0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D8AB-9025-425F-9F86-196C65B7BD6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3"/>
          <p:cNvSpPr/>
          <p:nvPr/>
        </p:nvSpPr>
        <p:spPr>
          <a:xfrm>
            <a:off x="1187280" y="854640"/>
            <a:ext cx="691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 СОШ №3 города Бий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611280" y="2060640"/>
            <a:ext cx="820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«Инновационная деятельность – ключевое условие формирования современной модели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3291840" y="5516640"/>
            <a:ext cx="54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6 ноября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овалова Светлана Борис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3851280" y="3645000"/>
            <a:ext cx="1800360" cy="1717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3"/>
          <p:cNvSpPr/>
          <p:nvPr/>
        </p:nvSpPr>
        <p:spPr>
          <a:xfrm>
            <a:off x="539640" y="260280"/>
            <a:ext cx="81360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вест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новационная модель шк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новационная деятельность – ключевое условие формирования современной модели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современного оборудования в инновационной деятельност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ое проектирование – инновационная составляющая современной шк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ой траектории развития д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ребенка через организацию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539640" y="189000"/>
            <a:ext cx="828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Реализация новой многофакторной системы оценки качества образования, учитывающая предметные, метапредметные и личностные результаты развития младшего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Разработка эффективной системы индивидуальной подготовки учащихся к ЕГЭ, в том числе через дистанционное обу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.Анализ инновационной деятельности учителей МБОУ СОШ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.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"/>
          <p:cNvSpPr/>
          <p:nvPr/>
        </p:nvSpPr>
        <p:spPr>
          <a:xfrm>
            <a:off x="2574000" y="40464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еш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"/>
          <p:cNvSpPr/>
          <p:nvPr/>
        </p:nvSpPr>
        <p:spPr>
          <a:xfrm>
            <a:off x="611280" y="2230560"/>
            <a:ext cx="813600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ю директора по инновационной деятельности разработать, методическому совету школы утвердить технологическую карту использования инноваций учителями. Каждому педагогу школы включить в методический паспорт технологическую карту иннов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методическую неделю в рамках педагогического марафона «Инновации в МБОУ СОШ № 3» срок: апр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2574000" y="40464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еш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"/>
          <p:cNvSpPr/>
          <p:nvPr/>
        </p:nvSpPr>
        <p:spPr>
          <a:xfrm>
            <a:off x="971640" y="1557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39640" y="927000"/>
            <a:ext cx="7861320" cy="5454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2:25:51Z</dcterms:created>
  <dc:creator>Т</dc:creator>
  <dc:description/>
  <dc:language>en-US</dc:language>
  <cp:lastModifiedBy>Валера</cp:lastModifiedBy>
  <dcterms:modified xsi:type="dcterms:W3CDTF">2015-01-25T06:55:39Z</dcterms:modified>
  <cp:revision>84</cp:revision>
  <dc:subject/>
  <dc:title>Слайд 1</dc:title>
</cp:coreProperties>
</file>