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6.gif" ContentType="image/gif"/>
  <Override PartName="/ppt/media/image24.gif" ContentType="image/gif"/>
  <Override PartName="/ppt/media/image32.jpeg" ContentType="image/jpeg"/>
  <Override PartName="/ppt/media/image19.jpeg" ContentType="image/jpeg"/>
  <Override PartName="/ppt/media/image18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16.gif" ContentType="image/gif"/>
  <Override PartName="/ppt/media/image9.gif" ContentType="image/gif"/>
  <Override PartName="/ppt/media/image13.jpeg" ContentType="image/jpeg"/>
  <Override PartName="/ppt/media/image20.gif" ContentType="image/gif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11.gif" ContentType="image/gif"/>
  <Override PartName="/ppt/media/image30.jpeg" ContentType="image/jpeg"/>
  <Override PartName="/ppt/media/image12.gif" ContentType="image/gif"/>
  <Override PartName="/ppt/media/image31.gif" ContentType="image/gif"/>
  <Override PartName="/ppt/media/image33.gif" ContentType="image/gif"/>
  <Override PartName="/ppt/media/image34.jpeg" ContentType="image/jpeg"/>
  <Override PartName="/ppt/media/image36.jpeg" ContentType="image/jpeg"/>
  <Override PartName="/ppt/media/image37.gif" ContentType="image/gif"/>
  <Override PartName="/ppt/media/image7.gif" ContentType="image/gif"/>
  <Override PartName="/ppt/media/image38.jpeg" ContentType="image/jpeg"/>
  <Override PartName="/ppt/media/image5.gif" ContentType="image/gif"/>
  <Override PartName="/ppt/media/image14.jpeg" ContentType="image/jpeg"/>
  <Override PartName="/ppt/media/image28.gif" ContentType="image/gif"/>
  <Override PartName="/ppt/media/image6.jpeg" ContentType="image/jpeg"/>
  <Override PartName="/ppt/media/image4.gif" ContentType="image/gif"/>
  <Override PartName="/ppt/media/image22.jpeg" ContentType="image/jpeg"/>
  <Override PartName="/ppt/media/image40.gif" ContentType="image/gif"/>
  <Override PartName="/ppt/media/image3.png" ContentType="image/png"/>
  <Override PartName="/ppt/media/image23.gif" ContentType="image/gif"/>
  <Override PartName="/ppt/media/image2.png" ContentType="image/png"/>
  <Override PartName="/ppt/media/image25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CB77-CC21-46F3-9207-D1FD8FAA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D72-9AB0-4222-B4B3-5953F57A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FCC6-24AF-424F-ABEF-55F98475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62D9-0877-4C8C-A1E2-03E4CF54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F6CE-6F51-443B-B67D-BE6F5C11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7CD2-72CC-4380-9239-26CF1E70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16B3-088D-4636-BD3E-4B9D934D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B4F4-CC40-4DD5-882A-7C057E57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B545-DD34-4597-A508-9C594636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9915-E6CD-421F-BC89-EED08FD0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46E1-6913-4B80-9094-7FEA87D9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446B-7E53-4D63-92D3-D74900A1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9F48-A3A5-46D1-8747-4EE34ADB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D988-A4A0-41CA-9D9C-76F19AB9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676E-5847-47BA-960D-0FEEF83B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199D-081A-4888-886F-B95504B5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AC66-679F-4FEB-BE4B-0074501D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9F9-9157-429A-AFF0-09D51EB1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314-DA63-498D-9CAC-D687AB8C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5EAE-8B6D-4FE8-A479-D0C07CC7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6C32-F717-4B27-B670-4C53F394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B51-2D74-4CD7-A98A-39FA3CE7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F64-A7C2-44D8-A26F-9702ECD0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17E2-3052-450C-B34C-C7232D8D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6E41-3C00-4CC9-AE9B-298560D71A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4B73-ACEF-4C48-9D4B-2B89BD8BF1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cc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4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10.jpeg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image" Target="../media/image11.gi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8.jpeg"/><Relationship Id="rId7" Type="http://schemas.openxmlformats.org/officeDocument/2006/relationships/image" Target="../media/image17.gif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1.jpeg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95280" y="4724280"/>
            <a:ext cx="360360" cy="354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8532720" y="476280"/>
            <a:ext cx="505080" cy="374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971640" y="765000"/>
            <a:ext cx="7488000" cy="5400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5580000" y="260280"/>
            <a:ext cx="504720" cy="374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4572000" y="6381720"/>
            <a:ext cx="504720" cy="374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8532720" y="4292640"/>
            <a:ext cx="505080" cy="3747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75680" cy="5904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8582040" y="6021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885080" y="6165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7524720" y="56610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7093080" y="6021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8101080" y="5589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8028000" y="5013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8582040" y="508464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048360"/>
          </a:xfrm>
          <a:prstGeom prst="rect">
            <a:avLst/>
          </a:prstGeom>
          <a:ln w="57240">
            <a:solidFill>
              <a:srgbClr val="0099cc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012000" y="333360"/>
            <a:ext cx="2381040" cy="1428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090440" cy="1297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351640" cy="59054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684360" y="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7667640" y="5715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8191440" y="515772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991280" cy="5904000"/>
          </a:xfrm>
          <a:prstGeom prst="rect">
            <a:avLst/>
          </a:prstGeom>
          <a:ln w="57240">
            <a:solidFill>
              <a:srgbClr val="ff66ff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79280" y="5300640"/>
            <a:ext cx="2143080" cy="1476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7596360" y="11592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755640" y="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3080" cy="57610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667640" y="0"/>
            <a:ext cx="1368360" cy="981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 flipH="1">
            <a:off x="107640" y="5800680"/>
            <a:ext cx="1152360" cy="1057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848360" cy="568800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8543880" y="765000"/>
            <a:ext cx="600120" cy="714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8172360" y="115920"/>
            <a:ext cx="600120" cy="7142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8388360" y="1484280"/>
            <a:ext cx="600120" cy="7207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7524720" y="0"/>
            <a:ext cx="600120" cy="7142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7956720" y="765000"/>
            <a:ext cx="599760" cy="7146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7"/>
          <a:stretch/>
        </p:blipFill>
        <p:spPr>
          <a:xfrm>
            <a:off x="8543880" y="2421000"/>
            <a:ext cx="600120" cy="574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351640" cy="59752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6516720" y="5589720"/>
            <a:ext cx="1871640" cy="10317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417080" cy="5905440"/>
          </a:xfrm>
          <a:prstGeom prst="rect">
            <a:avLst/>
          </a:prstGeom>
          <a:ln w="57240">
            <a:solidFill>
              <a:srgbClr val="008080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24000" y="55166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0" y="2637000"/>
            <a:ext cx="539640" cy="792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2124000" y="0"/>
            <a:ext cx="540000" cy="549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799164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6"/>
          <a:stretch/>
        </p:blipFill>
        <p:spPr>
          <a:xfrm>
            <a:off x="802800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26436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1042920" y="765000"/>
            <a:ext cx="561960" cy="5623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1116000" y="1159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1835280" y="18900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187280" y="5300640"/>
            <a:ext cx="390600" cy="466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8532720" y="2852640"/>
            <a:ext cx="390600" cy="4669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390600" cy="4669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4356000" y="0"/>
            <a:ext cx="390600" cy="466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4140360" y="6391440"/>
            <a:ext cx="390240" cy="4665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395280" y="476280"/>
            <a:ext cx="8136000" cy="5688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8172360" y="5734080"/>
            <a:ext cx="390600" cy="466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468360" y="5661000"/>
            <a:ext cx="390600" cy="466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395280" y="404640"/>
            <a:ext cx="390600" cy="466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0"/>
          <a:stretch/>
        </p:blipFill>
        <p:spPr>
          <a:xfrm>
            <a:off x="8172360" y="404640"/>
            <a:ext cx="390600" cy="466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19280" y="231840"/>
            <a:ext cx="5977080" cy="6437160"/>
          </a:xfrm>
          <a:prstGeom prst="rect">
            <a:avLst/>
          </a:prstGeom>
          <a:ln w="57240">
            <a:solidFill>
              <a:srgbClr val="66ff99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 rot="2716200">
            <a:off x="7956360" y="3789360"/>
            <a:ext cx="648000" cy="790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 rot="2716200">
            <a:off x="250560" y="1341360"/>
            <a:ext cx="647640" cy="790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 rot="2716200">
            <a:off x="755640" y="4581360"/>
            <a:ext cx="647640" cy="790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 rot="2716200">
            <a:off x="7522920" y="5878440"/>
            <a:ext cx="647640" cy="790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 rot="2716200">
            <a:off x="7596000" y="117360"/>
            <a:ext cx="647640" cy="790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8360" y="386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2000" cy="5830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79280" y="5805360"/>
            <a:ext cx="865440" cy="6429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971640" y="5157720"/>
            <a:ext cx="86508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547640" y="5661000"/>
            <a:ext cx="865440" cy="642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635280" y="2492280"/>
            <a:ext cx="5040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532720" y="6165720"/>
            <a:ext cx="390600" cy="459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753400" y="5734080"/>
            <a:ext cx="390600" cy="817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740720" y="6021360"/>
            <a:ext cx="390600" cy="746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8172360" y="5373720"/>
            <a:ext cx="390600" cy="817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8317080" y="4724280"/>
            <a:ext cx="390240" cy="792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8753400" y="3716280"/>
            <a:ext cx="390600" cy="746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6588000" y="4005360"/>
            <a:ext cx="390600" cy="576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7308720" y="3573360"/>
            <a:ext cx="390600" cy="935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9"/>
          <a:stretch/>
        </p:blipFill>
        <p:spPr>
          <a:xfrm>
            <a:off x="8028000" y="3933720"/>
            <a:ext cx="390600" cy="746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0"/>
          <a:stretch/>
        </p:blipFill>
        <p:spPr>
          <a:xfrm>
            <a:off x="250920" y="5157720"/>
            <a:ext cx="1081080" cy="1538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1"/>
          <a:stretch/>
        </p:blipFill>
        <p:spPr>
          <a:xfrm>
            <a:off x="539640" y="476280"/>
            <a:ext cx="7848720" cy="5904000"/>
          </a:xfrm>
          <a:prstGeom prst="rect">
            <a:avLst/>
          </a:prstGeom>
          <a:ln w="57240">
            <a:solidFill>
              <a:srgbClr val="6699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12"/>
          <a:stretch/>
        </p:blipFill>
        <p:spPr>
          <a:xfrm>
            <a:off x="7991640" y="33336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3"/>
          <a:stretch/>
        </p:blipFill>
        <p:spPr>
          <a:xfrm>
            <a:off x="250920" y="189000"/>
            <a:ext cx="390600" cy="745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4"/>
          <a:stretch/>
        </p:blipFill>
        <p:spPr>
          <a:xfrm>
            <a:off x="6012000" y="115920"/>
            <a:ext cx="1657080" cy="1441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5"/>
          <a:stretch/>
        </p:blipFill>
        <p:spPr>
          <a:xfrm>
            <a:off x="8207280" y="549360"/>
            <a:ext cx="1152720" cy="1152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1368360" cy="907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556000" y="5661000"/>
            <a:ext cx="1008000" cy="1057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327640" cy="382248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08000" y="4221000"/>
            <a:ext cx="1368360" cy="908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3708360" y="3357720"/>
            <a:ext cx="5327640" cy="3303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med" advTm="10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488360" cy="5688000"/>
          </a:xfrm>
          <a:prstGeom prst="rect">
            <a:avLst/>
          </a:prstGeom>
          <a:ln w="57240">
            <a:solidFill>
              <a:srgbClr val="0099cc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8028000" y="-674640"/>
            <a:ext cx="942840" cy="2774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372360" y="189000"/>
            <a:ext cx="1871640" cy="1511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724360" y="620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268360" y="5805360"/>
            <a:ext cx="660600" cy="792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900000" y="501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7885080" y="2349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0" y="4149720"/>
            <a:ext cx="660240" cy="792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276720" y="3141720"/>
            <a:ext cx="5364000" cy="343836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7451640" y="549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8"/>
          <a:stretch/>
        </p:blipFill>
        <p:spPr>
          <a:xfrm>
            <a:off x="395280" y="115920"/>
            <a:ext cx="4681440" cy="3384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p:transition spd="med" advTm="10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140360" y="0"/>
            <a:ext cx="390240" cy="466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390600" cy="466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79280" y="5950080"/>
            <a:ext cx="390600" cy="4665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8753400" y="0"/>
            <a:ext cx="390600" cy="466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572000" y="6524640"/>
            <a:ext cx="390600" cy="4665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755640" y="549360"/>
            <a:ext cx="7620120" cy="568800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8101080" y="2492280"/>
            <a:ext cx="390600" cy="466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7812000" y="5877000"/>
            <a:ext cx="390600" cy="466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539640" y="2276640"/>
            <a:ext cx="390600" cy="466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128000" cy="5643720"/>
          </a:xfrm>
          <a:prstGeom prst="rect">
            <a:avLst/>
          </a:prstGeom>
          <a:ln w="57240">
            <a:solidFill>
              <a:srgbClr val="669900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 rot="21191400">
            <a:off x="1042920" y="764640"/>
            <a:ext cx="762120" cy="695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618320" y="5904000"/>
            <a:ext cx="1525680" cy="954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5:23:25Z</dcterms:created>
  <dc:creator>Admin</dc:creator>
  <dc:description/>
  <dc:language>en-US</dc:language>
  <cp:lastModifiedBy>Admin</cp:lastModifiedBy>
  <dcterms:modified xsi:type="dcterms:W3CDTF">2011-02-12T15:57:44Z</dcterms:modified>
  <cp:revision>22</cp:revision>
  <dc:subject/>
  <dc:title>Слайд 1</dc:title>
</cp:coreProperties>
</file>