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gif" ContentType="image/gif"/>
  <Override PartName="/ppt/media/image24.gif" ContentType="image/gif"/>
  <Override PartName="/ppt/media/image32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30.jpeg" ContentType="image/jpeg"/>
  <Override PartName="/ppt/media/image12.gif" ContentType="image/gif"/>
  <Override PartName="/ppt/media/image31.gif" ContentType="image/gif"/>
  <Override PartName="/ppt/media/image33.gif" ContentType="image/gif"/>
  <Override PartName="/ppt/media/image34.jpeg" ContentType="image/jpeg"/>
  <Override PartName="/ppt/media/image36.jpeg" ContentType="image/jpeg"/>
  <Override PartName="/ppt/media/image37.gif" ContentType="image/gif"/>
  <Override PartName="/ppt/media/image7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40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9A4-EA3C-4687-9F88-B1BAE84A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89E-A679-46F7-AAD5-37C4864A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C82-98E8-4EE5-8824-818A4017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420-658D-4E0B-9C84-C8D3A844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8B9-5CA9-4DE0-964A-CE6DB86F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47B2-E8C2-4437-8181-00F91143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D7BE-42CD-44DF-AF53-F681F31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1EE-341D-4845-B21B-5B810454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00EE-A369-49D3-933E-B6236F1F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A16C-7AD4-489B-AA7C-1CFBB3A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F3F7-0821-450A-8A4A-854BB6D8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EDF-0284-4340-9AA6-49F4F8E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503-B8D8-4BF6-A2C6-5D936B9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2CC-F010-4989-8242-FB886CA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0C7A-353D-4183-8014-04188328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0856-AF50-4D10-8136-40E1FF4D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603-8A31-44E4-83CC-0D594E7B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976-CA1B-44BB-A77B-E969CFCC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1D5-5BEA-4AF0-84E7-A8E6DDA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175-B526-4966-A85B-A2539C4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8D7-D261-4B05-B72A-AC8FE24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323-ED85-4887-8B43-19828DB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376-6084-439A-BBEC-CD3D6B4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2F2-A13F-42D8-90EB-E00AAD7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E50-5974-4ACB-81A1-20FB7A15E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3D4B-5DE1-4EB4-98EC-6BDFA0CD4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4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jpeg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1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jpeg"/><Relationship Id="rId7" Type="http://schemas.openxmlformats.org/officeDocument/2006/relationships/image" Target="../media/image17.gi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jpeg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360360" cy="354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50508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971640" y="765000"/>
            <a:ext cx="7488000" cy="540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580000" y="260280"/>
            <a:ext cx="504720" cy="37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572000" y="6381720"/>
            <a:ext cx="504720" cy="37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532720" y="4292640"/>
            <a:ext cx="505080" cy="374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75680" cy="5904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58204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885080" y="6165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524720" y="566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09308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8101080" y="5589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8028000" y="5013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8582040" y="508464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57240">
            <a:solidFill>
              <a:srgbClr val="0099cc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090440" cy="129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54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84360" y="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66764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8191440" y="51577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91280" cy="5904000"/>
          </a:xfrm>
          <a:prstGeom prst="rect">
            <a:avLst/>
          </a:prstGeom>
          <a:ln w="57240">
            <a:solidFill>
              <a:srgbClr val="ff66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596360" y="115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55640" y="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7610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368360" cy="98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 flipH="1">
            <a:off x="107640" y="5800680"/>
            <a:ext cx="1152360" cy="10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6880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8543880" y="765000"/>
            <a:ext cx="600120" cy="714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172360" y="115920"/>
            <a:ext cx="600120" cy="714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8388360" y="1484280"/>
            <a:ext cx="60012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7524720" y="0"/>
            <a:ext cx="600120" cy="714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7956720" y="765000"/>
            <a:ext cx="599760" cy="714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8543880" y="2421000"/>
            <a:ext cx="600120" cy="57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9752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516720" y="5589720"/>
            <a:ext cx="1871640" cy="1031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417080" cy="590544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539640" cy="792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124000" y="0"/>
            <a:ext cx="540000" cy="54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799164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8028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42920" y="76500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116000" y="1159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1835280" y="18900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87280" y="530064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532720" y="285264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4140360" y="6391440"/>
            <a:ext cx="390240" cy="466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8136000" cy="568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72360" y="573408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468360" y="566100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395280" y="40464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8172360" y="404640"/>
            <a:ext cx="390600" cy="466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19280" y="231840"/>
            <a:ext cx="5977080" cy="6437160"/>
          </a:xfrm>
          <a:prstGeom prst="rect">
            <a:avLst/>
          </a:prstGeom>
          <a:ln w="57240">
            <a:solidFill>
              <a:srgbClr val="66ff99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2716200">
            <a:off x="7956360" y="3789360"/>
            <a:ext cx="648000" cy="790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2716200">
            <a:off x="250560" y="1341360"/>
            <a:ext cx="647640" cy="79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 rot="2716200">
            <a:off x="755640" y="4581360"/>
            <a:ext cx="647640" cy="79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 rot="2716200">
            <a:off x="7522920" y="5878440"/>
            <a:ext cx="647640" cy="790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 rot="2716200">
            <a:off x="7596000" y="117360"/>
            <a:ext cx="647640" cy="79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386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2000" cy="583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86544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86508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547640" y="5661000"/>
            <a:ext cx="865440" cy="64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635280" y="2492280"/>
            <a:ext cx="5040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90600" cy="459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753400" y="5734080"/>
            <a:ext cx="390600" cy="817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390600" cy="746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8172360" y="5373720"/>
            <a:ext cx="390600" cy="8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8317080" y="4724280"/>
            <a:ext cx="390240" cy="79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8753400" y="3716280"/>
            <a:ext cx="390600" cy="746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6588000" y="4005360"/>
            <a:ext cx="39060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7308720" y="3573360"/>
            <a:ext cx="390600" cy="93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8028000" y="3933720"/>
            <a:ext cx="390600" cy="746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250920" y="5157720"/>
            <a:ext cx="1081080" cy="153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539640" y="476280"/>
            <a:ext cx="7848720" cy="59040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7991640" y="333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250920" y="189000"/>
            <a:ext cx="390600" cy="74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6012000" y="115920"/>
            <a:ext cx="1657080" cy="1441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207280" y="5493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56000" y="5661000"/>
            <a:ext cx="1008000" cy="1057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327640" cy="382248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08000" y="4221000"/>
            <a:ext cx="1368360" cy="908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708360" y="3357720"/>
            <a:ext cx="5327640" cy="330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88360" cy="5688000"/>
          </a:xfrm>
          <a:prstGeom prst="rect">
            <a:avLst/>
          </a:prstGeom>
          <a:ln w="57240">
            <a:solidFill>
              <a:srgbClr val="0099cc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028000" y="-674640"/>
            <a:ext cx="942840" cy="2774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372360" y="189000"/>
            <a:ext cx="1871640" cy="151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68360" y="5805360"/>
            <a:ext cx="660600" cy="792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7885080" y="234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0" y="4149720"/>
            <a:ext cx="66024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3141720"/>
            <a:ext cx="5364000" cy="34383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451640" y="54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395280" y="115920"/>
            <a:ext cx="4681440" cy="3384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390240" cy="46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595008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753400" y="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572000" y="652464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755640" y="549360"/>
            <a:ext cx="7620120" cy="56880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8101080" y="249228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7812000" y="587700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539640" y="2276640"/>
            <a:ext cx="390600" cy="46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128000" cy="564372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rot="21191400">
            <a:off x="1042920" y="764640"/>
            <a:ext cx="762120" cy="6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618320" y="5904000"/>
            <a:ext cx="1525680" cy="95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5:23:25Z</dcterms:created>
  <dc:creator>Admin</dc:creator>
  <dc:description/>
  <dc:language>en-US</dc:language>
  <cp:lastModifiedBy>Admin</cp:lastModifiedBy>
  <dcterms:modified xsi:type="dcterms:W3CDTF">2011-02-12T15:57:44Z</dcterms:modified>
  <cp:revision>22</cp:revision>
  <dc:subject/>
  <dc:title>Слайд 1</dc:title>
</cp:coreProperties>
</file>