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8.jpeg" ContentType="image/jpeg"/>
  <Override PartName="/ppt/media/image34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5.png" ContentType="image/pn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024B-2B5C-43F7-AC23-2FF152FF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B80-12C4-479B-BABA-E35B6769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CC80-B95B-4F81-8BC8-9F53C544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8F8-608A-4AD5-8B08-FBB0999E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6739-7A55-4324-852D-4DC01A05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75EB-7066-4246-94AE-500BBB9C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2F80-0146-41D2-A0C3-2519A2F0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3DDB-637E-4FD7-B693-0DF2BCF6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448B-FB6C-4666-A211-D5F2DD56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7424-11AE-4A3F-A779-4E696C13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BE46-7881-4644-A2CA-0764A7E3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AFF-B936-46EF-B7F4-4E75B370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4BA7-49DE-402D-B648-A47EA03D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BDC5-1AD1-402E-8BE1-BB500869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0A26-5007-40F1-9557-5FE28DCE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3A89-4EE4-40B9-9077-554A27A7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118C-20D8-4CE2-AB40-F3DA2483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956-49BC-4C86-A012-8664ADAA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F385-3197-4FD2-8840-82902CA7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3DB-5D22-457D-889A-8D9DDD5B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4F0-19F3-4EC5-851F-27A9C80D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EA0-0F66-4C57-AC6D-714D996F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6D6-28B4-44F3-9FA5-CACD343C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053-3E28-4638-9B37-156AE4F5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9A84-AE33-4C58-B67D-5CEB7AC33E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A811-3B1A-4100-9AEB-7842FC6BB1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2.jpeg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435640" y="260280"/>
            <a:ext cx="3333600" cy="422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4897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Monotype Corsiva"/>
              </a:rPr>
              <a:t>ЭХО БЕСЛАНСКОЙ ПЕЧАЛИ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39640" y="3465360"/>
            <a:ext cx="396108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1680" y="620640"/>
            <a:ext cx="506232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очти все школьники были в майках и трусиках – в школе была страшная жара. Несмотря на шок, первое, что просили дети, - п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 rot="506400">
            <a:off x="4643280" y="2565360"/>
            <a:ext cx="41943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140360" y="2266920"/>
            <a:ext cx="4701960" cy="3632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41943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3807000" cy="504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564000" y="2387520"/>
            <a:ext cx="52783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Позывные «Рубин», «Агат» и еще десятки других в эфире теперь кричали об одном: «Скорую помощь сюда, срочно!» Местные жители руками расчищали коридоры из автомашин и автобусов для машин медиков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0989200">
            <a:off x="301680" y="2057400"/>
            <a:ext cx="4194000" cy="3659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908400">
            <a:off x="4647960" y="2379240"/>
            <a:ext cx="4194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А в другой части города в это время стоял плач и причитания. Плакали женщины, когда узнавали своих родных среди убитых, плакал офицер, у которого на руках умерла девочка. На следующий день он сказал: «Все это можно было бы назвать победой, если не знать, какой ценой»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 rot="20904000">
            <a:off x="900000" y="2204640"/>
            <a:ext cx="4194360" cy="3917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 rot="853800">
            <a:off x="4716000" y="3068640"/>
            <a:ext cx="419436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Слезы, ненависть, горе. Такой короткий промежуток от счастья, праздника к своей гибели. По официальным данным в результате террористического акта 1-3 сентября в г. Беслан погибли 334 человека, из них 186 детей, 15 учителей, более 900 человек получили ранения…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 rot="1114200">
            <a:off x="3708000" y="2637000"/>
            <a:ext cx="5040360" cy="3447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 rot="20824200">
            <a:off x="324000" y="2565360"/>
            <a:ext cx="4103640" cy="2773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853272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64178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868640" cy="3009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672000" y="2421000"/>
            <a:ext cx="5472000" cy="4122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27280" y="228600"/>
            <a:ext cx="43844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Мне не забыть тех страшных дней: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Потоком кровь с телеэкрана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Меж пуль свистящих и огне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Мельканье лиц детей Беслан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37.0)">
                                      <p:cBhvr>
                                        <p:cTn id="62" dur="8202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4292640"/>
            <a:ext cx="4464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Без слов – одна лишь боль,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Убитых горем матерей рыданье.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О, Господи, скажи доколь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Назначил людям ты страданья?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5184720" cy="3328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356000" y="3068640"/>
            <a:ext cx="45608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rot="1011000">
            <a:off x="4230720" y="2421000"/>
            <a:ext cx="4913280" cy="30844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т рук бездушных палаче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етей загубленных, безгрешны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еперь заменит свет свече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о не излечит безутешных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 rot="20872200">
            <a:off x="395280" y="2133360"/>
            <a:ext cx="439092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411280" y="189000"/>
            <a:ext cx="4537080" cy="3403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 rot="1171800">
            <a:off x="6080040" y="2468160"/>
            <a:ext cx="2695680" cy="4176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 rot="20289600">
            <a:off x="592200" y="2436480"/>
            <a:ext cx="27306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81579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ff3300"/>
                </a:solidFill>
                <a:latin typeface="Monotype Corsiva"/>
              </a:rPr>
              <a:t>Маленьким жителям Беслана, чьи имена навсегда останутся в памяти человечества, их  учителям,  наставникам, до последней минуты сердцем прикрывавшим своих питомцев и  разделившим тяжесть выпавших на их долю испытаний, несгибаемым отцам и матерям Беслана –   всем тем, кто погиб в темном пекле пылающего ада и кто выжил в эти страшные сентябрьские дни, посвятили мы наш классный час…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349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По улицам Рима 150 тысяч человек прошли в молчании со свечами в знак скорби. Около двух миллионов итальянцев зажгли свечи в окнах своих квартир. Кто-то из римлян даже выложил свечами на брусчатке «Прощайте, ангелы».&lt;br&gt;&#10;"/>
          <p:cNvPicPr/>
          <p:nvPr/>
        </p:nvPicPr>
        <p:blipFill>
          <a:blip r:embed="rId2"/>
          <a:stretch/>
        </p:blipFill>
        <p:spPr>
          <a:xfrm>
            <a:off x="250920" y="189000"/>
            <a:ext cx="6192720" cy="33526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4005360"/>
            <a:ext cx="496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е раздается детский смех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дин лишь плач и боли сто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станется нам, как на грех –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 память погребальный зв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7775280" cy="5845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4000" y="18900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 Беслане по-прежнему тихо. На улицах пусто, захлопнулись ворота в домах, где уже похоронили погибших заложников. Многолюдно лишь у развалин школы, но и там люди стараются разговаривать вполголоса. Только листва окрестных садов шумит, словно крылья ангелов, носящих над истерзанным зданием души убитых здесь дет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86282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95280" y="3284640"/>
            <a:ext cx="3070080" cy="3456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003640" y="260280"/>
            <a:ext cx="3835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608360" cy="3095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16360" y="2781360"/>
            <a:ext cx="4194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9862" t="22677" r="18011" b="14835"/>
          <a:stretch/>
        </p:blipFill>
        <p:spPr>
          <a:xfrm rot="1276800">
            <a:off x="4649760" y="738360"/>
            <a:ext cx="3817800" cy="3240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ервое сентября в школе №1 в городке Беслан стало черным днем. В один момент праздник превратился в трагедию. Что произошло, как могло получиться, что цветы первоклашек, принесенные учителям, валяются в лужах кров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4194000" cy="5113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6000" y="2133720"/>
            <a:ext cx="2852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7345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День второй. В случае штурма боевики угрожают взорвать школу. Их, тем временем, давно просят только об одном – передать детям воду и еду. Продовольствие подвозят в коробках, но террористы не пропускают. Любому переговорщику угрожают расправой, в том числе и доктору Рошалю, которого сами же и позв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987640" y="2637000"/>
            <a:ext cx="5040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1320" y="4292640"/>
            <a:ext cx="859140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Террористы, переговорив с бывшим ингушским президентом Русланом Аушевым, отпустили 26 человек – женщин с грудными детьми. Наверное, это была первая и последняя хорошая нов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с момента захвата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492360" y="333360"/>
            <a:ext cx="537696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1680" y="1676160"/>
            <a:ext cx="3765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…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Несколько дней назад мальчик вышел на балкон и увидел, как ангелы  медленно летят по сиреневому небу. Они были в белых платьях, с розовыми и золотистыми шлейфам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5" descr=""/>
          <p:cNvPicPr/>
          <p:nvPr/>
        </p:nvPicPr>
        <p:blipFill>
          <a:blip r:embed="rId2"/>
          <a:stretch/>
        </p:blipFill>
        <p:spPr>
          <a:xfrm flipH="1">
            <a:off x="5979600" y="1676520"/>
            <a:ext cx="1528920" cy="2135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5" descr=""/>
          <p:cNvPicPr/>
          <p:nvPr/>
        </p:nvPicPr>
        <p:blipFill>
          <a:blip r:embed="rId3"/>
          <a:stretch/>
        </p:blipFill>
        <p:spPr>
          <a:xfrm flipH="1">
            <a:off x="1042560" y="549360"/>
            <a:ext cx="1528920" cy="213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5724360" y="189000"/>
            <a:ext cx="3168720" cy="417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"/>
          <p:cNvPicPr/>
          <p:nvPr/>
        </p:nvPicPr>
        <p:blipFill>
          <a:blip r:embed="rId5"/>
          <a:stretch/>
        </p:blipFill>
        <p:spPr>
          <a:xfrm flipH="1">
            <a:off x="3995280" y="2421000"/>
            <a:ext cx="1854360" cy="2209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5" descr=""/>
          <p:cNvPicPr/>
          <p:nvPr/>
        </p:nvPicPr>
        <p:blipFill>
          <a:blip r:embed="rId6"/>
          <a:stretch/>
        </p:blipFill>
        <p:spPr>
          <a:xfrm flipH="1">
            <a:off x="7380360" y="4076640"/>
            <a:ext cx="1528560" cy="2135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802800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61619"/>
                            </p:stCondLst>
                            <p:childTnLst>
                              <p:par>
                                <p:cTn id="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500"/>
                            </p:stCondLst>
                            <p:childTnLst>
                              <p:par>
                                <p:cTn id="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тро третьего дня для террористов стало последним, как и для многих заложников. Все произошло внезапно. Спасатели пошли в школу забирать тела убитых. В это время в спортзале что-то взорвалось. Когда дети убегали через дыру в стене от взрыва, террористы из школы стреляли им в спину. К уцелевшим, уже не обращая никакого внимания на пули, навстречу бежали родственники и военные. Заложников вели, подхватывали на рук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09-01-24T05:42:49Z</dcterms:modified>
  <cp:revision>11</cp:revision>
  <dc:subject/>
  <dc:title>PowerPoint Presentation</dc:title>
</cp:coreProperties>
</file>