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34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920-8BEC-40AC-A11A-D188DCF8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5D3-83E1-4F79-B342-03054F18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ED4-8D03-4BDD-807D-DEA8F8C5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31A-B22F-4E4A-8C80-946BE667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A5B0-B81E-48E6-824D-F28BE2BA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2C9C-5A3B-410B-BF8D-BD3B3A27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C462-8122-4D50-8935-3C166F40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18EA-7944-456A-B0FB-C48935B6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E538-5F4F-4EAC-92C2-93C5D491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DD5B-D163-4104-9A7D-E2E0383A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5F88-7337-4D47-B0D6-B35A974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DC3-9B34-40D1-9B7A-C9C8C68E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464A-2F1A-47F3-BFA3-C25777F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F759-6075-4C33-B958-A30864E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86C9-7A33-41B5-9B54-B108AA9E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9D64-4893-4C1B-9FE7-D30FAC7C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7C80-A512-46CD-B5DD-1E806AFC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C48-505D-4CA6-B48B-EC589EE0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104-49CF-4F0C-AEDF-57BB8AF8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B59-819F-43A4-97FA-6AC94171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C84-6B82-4D70-B27F-D1B7A2A9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C02-4332-40B7-9720-27BA3B15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34C-E257-4BC1-84E1-DEDE544F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EDA-E90C-4806-BDE6-EF05B3ED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429E-9491-4001-905D-CB293F3A4A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AEEB-2BB7-4421-9343-875935F215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333600" cy="422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4897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Monotype Corsiva"/>
              </a:rPr>
              <a:t>ЭХО БЕСЛАНСКОЙ ПЕЧАЛИ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39640" y="346536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50623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чти все школьники были в майках и трусиках – в школе была страшная жара. Несмотря на шок, первое, что просили дети, - п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506400">
            <a:off x="4643280" y="2565360"/>
            <a:ext cx="41943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140360" y="2266920"/>
            <a:ext cx="4701960" cy="3632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4194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807000" cy="504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564000" y="2387520"/>
            <a:ext cx="52783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Позывные «Рубин», «Агат» и еще десятки других в эфире теперь кричали об одном: «Скорую помощь сюда, срочно!» Местные жители руками расчищали коридоры из автомашин и автобусов для машин медиков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0989200">
            <a:off x="301680" y="2057400"/>
            <a:ext cx="4194000" cy="3659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908400">
            <a:off x="4647960" y="2379240"/>
            <a:ext cx="4194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А в другой части города в это время стоял плач и причитания. Плакали женщины, когда узнавали своих родных среди убитых, плакал офицер, у которого на руках умерла девочка. На следующий день он сказал: «Все это можно было бы назвать победой, если не знать, какой ценой»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20904000">
            <a:off x="900000" y="2204640"/>
            <a:ext cx="4194360" cy="3917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rot="853800">
            <a:off x="4716000" y="3068640"/>
            <a:ext cx="4194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лезы, ненависть, горе. Такой короткий промежуток от счастья, праздника к своей гибели. По официальным данным в результате террористического акта 1-3 сентября в г. Беслан погибли 334 человека, из них 186 детей, 15 учителей, более 900 человек получили ранения…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1114200">
            <a:off x="3708000" y="2637000"/>
            <a:ext cx="5040360" cy="344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 rot="20824200">
            <a:off x="324000" y="2565360"/>
            <a:ext cx="4103640" cy="2773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64178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868640" cy="3009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672000" y="2421000"/>
            <a:ext cx="5472000" cy="4122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7280" y="228600"/>
            <a:ext cx="43844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не не забыть тех страшных дней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током кровь с телеэкран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еж пуль свистящих и огн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ельканье лиц детей Беслан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37.0)">
                                      <p:cBhvr>
                                        <p:cTn id="62" dur="8202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1011000">
            <a:off x="4230720" y="2421000"/>
            <a:ext cx="4913280" cy="3084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т рук бездушных палач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етей загубленных, безгрешны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еперь заменит свет свече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о не излечит безутешных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 rot="20872200">
            <a:off x="395280" y="2133360"/>
            <a:ext cx="439092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157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ff3300"/>
                </a:solidFill>
                <a:latin typeface="Monotype Corsiva"/>
              </a:rPr>
              <a:t>Маленьким жителям Беслана, чьи имена навсегда останутся в памяти человечества, их  учителям,  наставникам, до последней минуты сердцем прикрывавшим своих питомцев и  разделившим тяжесть выпавших на их долю испытаний, несгибаемым отцам и матерям Беслана –   всем тем, кто погиб в темном пекле пылающего ада и кто выжил в эти страшные сентябрьские дни, посвятили мы наш классный час…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49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По улицам Рима 150 тысяч человек прошли в молчании со свечами в знак скорби. Около двух миллионов итальянцев зажгли свечи в окнах своих квартир. Кто-то из римлян даже выложил свечами на брусчатке «Прощайте, ангелы».&lt;br&gt;&#10;"/>
          <p:cNvPicPr/>
          <p:nvPr/>
        </p:nvPicPr>
        <p:blipFill>
          <a:blip r:embed="rId2"/>
          <a:stretch/>
        </p:blipFill>
        <p:spPr>
          <a:xfrm>
            <a:off x="250920" y="189000"/>
            <a:ext cx="6192720" cy="3352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4005360"/>
            <a:ext cx="496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е раздается детский смех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дин лишь плач и боли ст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станется нам, как на грех –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 память погребальный зв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775280" cy="5845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1890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 Беслане по-прежнему тихо. На улицах пусто, захлопнулись ворота в домах, где уже похоронили погибших заложников. Многолюдно лишь у развалин школы, но и там люди стараются разговаривать вполголоса. Только листва окрестных садов шумит, словно крылья ангелов, носящих над истерзанным зданием души убитых здесь де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8628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3070080" cy="3456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003640" y="260280"/>
            <a:ext cx="383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08360" cy="309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94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9862" t="22677" r="18011" b="14835"/>
          <a:stretch/>
        </p:blipFill>
        <p:spPr>
          <a:xfrm rot="1276800">
            <a:off x="4649760" y="738360"/>
            <a:ext cx="3817800" cy="3240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ервое сентября в школе №1 в городке Беслан стало черным днем. В один момент праздник превратился в трагедию. Что произошло, как могло получиться, что цветы первоклашек, принесенные учителям, валяются в лужах кров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4194000" cy="5113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2133720"/>
            <a:ext cx="2852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7345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ень второй. В случае штурма боевики угрожают взорвать школу. Их, тем временем, давно просят только об одном – передать детям воду и еду. Продовольствие подвозят в коробках, но террористы не пропускают. Любому переговорщику угрожают расправой, в том числе и доктору Рошалю, которого сами же и позв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320" y="4292640"/>
            <a:ext cx="85914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Террористы, переговорив с бывшим ингушским президентом Русланом Аушевым, отпустили 26 человек – женщин с грудными детьми. Наверное, это была первая и последняя хорошая нов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 момента захвата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53769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1680" y="1676160"/>
            <a:ext cx="3765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…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Несколько дней назад мальчик вышел на балкон и увидел, как ангелы  медленно летят по сиреневому небу. Они были в белых платьях, с розовыми и золотистыми шлейфам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5" descr=""/>
          <p:cNvPicPr/>
          <p:nvPr/>
        </p:nvPicPr>
        <p:blipFill>
          <a:blip r:embed="rId2"/>
          <a:stretch/>
        </p:blipFill>
        <p:spPr>
          <a:xfrm flipH="1">
            <a:off x="5979600" y="167652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"/>
          <p:cNvPicPr/>
          <p:nvPr/>
        </p:nvPicPr>
        <p:blipFill>
          <a:blip r:embed="rId3"/>
          <a:stretch/>
        </p:blipFill>
        <p:spPr>
          <a:xfrm flipH="1">
            <a:off x="1042560" y="54936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724360" y="189000"/>
            <a:ext cx="316872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"/>
          <p:cNvPicPr/>
          <p:nvPr/>
        </p:nvPicPr>
        <p:blipFill>
          <a:blip r:embed="rId5"/>
          <a:stretch/>
        </p:blipFill>
        <p:spPr>
          <a:xfrm flipH="1">
            <a:off x="3995280" y="2421000"/>
            <a:ext cx="185436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"/>
          <p:cNvPicPr/>
          <p:nvPr/>
        </p:nvPicPr>
        <p:blipFill>
          <a:blip r:embed="rId6"/>
          <a:stretch/>
        </p:blipFill>
        <p:spPr>
          <a:xfrm flipH="1">
            <a:off x="7380360" y="4076640"/>
            <a:ext cx="1528560" cy="2135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61619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50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тро третьего дня для террористов стало последним, как и для многих заложников. Все произошло внезапно. Спасатели пошли в школу забирать тела убитых. В это время в спортзале что-то взорвалось. Когда дети убегали через дыру в стене от взрыва, террористы из школы стреляли им в спину. К уцелевшим, уже не обращая никакого внимания на пули, навстречу бежали родственники и военные. Заложников вели, подхватывали на рук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9-01-24T05:42:49Z</dcterms:modified>
  <cp:revision>11</cp:revision>
  <dc:subject/>
  <dc:title>PowerPoint Presentation</dc:title>
</cp:coreProperties>
</file>