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DF34-9FED-4AF0-A99A-5052951A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56B5-D62B-4E5A-97EF-4075A147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341E-4245-4B9F-A5F8-97525743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8180-75FA-4A04-9B3F-2F470307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1F86-6D7C-42CC-A15F-8CA0E4B3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0E81-EEF5-4EB9-B65D-2773BE38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FAD9-FB91-4471-BC9B-3FB1E117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7BE0-C44A-4116-A50F-33A82189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13FE-581F-4310-A695-F498BB98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D075-20FD-43B2-B05C-BE365778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38B2-1CA4-4E21-BE16-DC41C6BE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C461-682C-494A-A71D-D0078742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FD2D-476F-4985-9EA5-0AD1D86BA4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" Target="slide16.xml"/><Relationship Id="rId11" Type="http://schemas.openxmlformats.org/officeDocument/2006/relationships/slide" Target="slide17.xml"/><Relationship Id="rId12" Type="http://schemas.openxmlformats.org/officeDocument/2006/relationships/slide" Target="slide18.xml"/><Relationship Id="rId13" Type="http://schemas.openxmlformats.org/officeDocument/2006/relationships/slide" Target="slide19.xml"/><Relationship Id="rId14" Type="http://schemas.openxmlformats.org/officeDocument/2006/relationships/slide" Target="slide20.xml"/><Relationship Id="rId15" Type="http://schemas.openxmlformats.org/officeDocument/2006/relationships/slide" Target="slide21.xml"/><Relationship Id="rId16" Type="http://schemas.openxmlformats.org/officeDocument/2006/relationships/slide" Target="slide22.xml"/><Relationship Id="rId17" Type="http://schemas.openxmlformats.org/officeDocument/2006/relationships/slide" Target="slide23.xml"/><Relationship Id="rId18" Type="http://schemas.openxmlformats.org/officeDocument/2006/relationships/slide" Target="slide24.xml"/><Relationship Id="rId19" Type="http://schemas.openxmlformats.org/officeDocument/2006/relationships/slide" Target="slide25.xml"/><Relationship Id="rId20" Type="http://schemas.openxmlformats.org/officeDocument/2006/relationships/slide" Target="slide26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категории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125360"/>
          <a:ext cx="8229600" cy="4405320"/>
        </p:xfrm>
        <a:graphic>
          <a:graphicData uri="http://schemas.openxmlformats.org/drawingml/2006/table">
            <a:tbl>
              <a:tblPr/>
              <a:tblGrid>
                <a:gridCol w="2027160"/>
                <a:gridCol w="1150920"/>
                <a:gridCol w="1297080"/>
                <a:gridCol w="1295280"/>
                <a:gridCol w="1297080"/>
                <a:gridCol w="116208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Герои и образ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бле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х, Катерина!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рис или Тих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оз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нщ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Какое чувство мешает Тихону решить проблемы в отношениях с Катериной и с матерью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Назовите произведения русской литературы, где поднимаются те же проблемы, что и в «Грозе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Как жила Катерина в родном доме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Как Катерина должна относиться к мужу и свекрови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Кому из героев пьесы Катерина может раскрыть душу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Почему Катерина боится грозы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Что значит смерть для Катерины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Кого любит Катерина: Бориса или Тихона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Вот видишь ты, вот всегда мне за тебя достается  (чьи это слова?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Зачем Тихон ненадолго бегал к Савел Прокофьичу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Назовите главную героиню пьесы «Гроза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Ну, уж, знать, там ему и быть! Видно, сама судьба того хочет! Да какой же в этом грех, если я взгляну на него раз, хоть издали-то! Да хоть и поговорю-то, так все не беда!  (кто и о ком это говорит?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Назовите отчество Бориса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Кто из героев пьесы символизирует грозу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Что такое гроза в пьесе(литературное определение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Когда впервые в пьесе появляется гроза как явление природы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Зачем в пьесе говорят о громоотводе?(кто?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Когда второй раз гроза врывается в пьесу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Самое необычное имя героини в пьес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Кто изображен на картинке?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6308640"/>
            <a:ext cx="85075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Картинка 4 из 1838"/>
          <p:cNvPicPr/>
          <p:nvPr/>
        </p:nvPicPr>
        <p:blipFill>
          <a:blip r:embed="rId2"/>
          <a:stretch/>
        </p:blipFill>
        <p:spPr>
          <a:xfrm>
            <a:off x="1187280" y="907920"/>
            <a:ext cx="6409080" cy="545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Кого любила Варвара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Какой город стал прообразом города Калинова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авно люблю. Словно на грех ты к нам приехал. Как увидела тебя, так уж не своя стала. С первого же раза, кажется, кабы ты поманил меня, я бы и пошла за тобой; иди ты хоть на край света, я бы все шла за тобой и не оглянулась б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Кто и кому говорит эти слова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Как назвал Катерину Добролюбов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К какой социальной группе можно отнести семью Кабановых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Кто в городе, кроме Катерины, чувствует и понимает красоту природы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«Вот вам ваша Катерина. Делайте с ней что хотите. Тело ее здесь…,а душа теперь не ваша…»(чьи это слова?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Какую проблему поднимает автор, описывая взаимоотношения Кабанихи и Тихона, Дикого и Бориса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Назовите проблемы, связанные с образом Катерины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Главная проблема , поднятая в драме «Гроза»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8:01:32Z</dcterms:created>
  <dc:creator>WINDOWS</dc:creator>
  <dc:description/>
  <dc:language>en-US</dc:language>
  <cp:lastModifiedBy>WINDOWS</cp:lastModifiedBy>
  <dcterms:modified xsi:type="dcterms:W3CDTF">2011-11-08T03:03:15Z</dcterms:modified>
  <cp:revision>4</cp:revision>
  <dc:subject/>
  <dc:title>категории</dc:title>
</cp:coreProperties>
</file>