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C96-7B28-4A72-AF36-0DA9D58B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613-3D61-421B-B276-1290608B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226-57C7-4B82-83B4-62F38829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588-AF01-409F-B530-855B84EA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45E4F-1277-4DB6-892A-3505344A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112AD-F37F-4DD0-BE5D-1CEE3B92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A9D93-502E-471A-9E55-DD4C5D26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0995-E256-48E5-ACDE-AF181D8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5237-DD67-4452-A0F2-0ECC3F4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30BDF-1DB9-4CFA-BA99-F3DD83D1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5619-A575-4C7E-80F7-50BF89C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6E6-ED7F-4D94-B49C-F7C0B782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7BE27-9A8A-4EF0-B2A2-AA0697F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08C60-0BAB-46A4-B4B0-0D898D8A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A702B-9324-4E5D-954A-0C01F3C1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B2704-59EE-40C3-B2F9-396DA2FF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99A21-D7C8-4235-91DC-E8703A9B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765-7594-4222-96DE-2B76B6D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F81-5740-4D45-B33D-25C1C71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433-E35E-4107-85D5-7A72C51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FDA-DBCD-4451-B89C-0FCD11A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D7D-0F91-4884-9C38-D3C7528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076-27B1-483E-A5AE-777AE06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496-5B85-4DCE-951B-B4416B8C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3847-D46D-462F-A2D0-AB1C27497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5D9B-816B-4F9D-A8A8-D706E8849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700360" y="443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1979640" y="333360"/>
            <a:ext cx="68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ог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рас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411280" y="56919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692360" y="1267920"/>
            <a:ext cx="720072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Times New Roman"/>
              </a:rPr>
              <a:t>«Хорошее воспитание детей – это ваша счастливая старость. Плохое – это ваше горе, ваши слёзы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0" y="5409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А.С.Макаренк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745164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Опасайтесь получения вашим ребёнком информации из чужих ус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Будьте особенно внимательны</a:t>
            </a:r>
            <a:r>
              <a:rPr b="0" i="1" lang="en-US" sz="3600" spc="-1" strike="noStrike">
                <a:solidFill>
                  <a:srgbClr val="336699"/>
                </a:solidFill>
                <a:latin typeface="Times New Roman"/>
              </a:rPr>
              <a:t>.</a:t>
            </a: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 Обращайте внимание на любые изменения в поведении своего ребёнка всеми возможными средствами ,если он в этом нуждае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47640" y="475920"/>
            <a:ext cx="743760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Не высказывайтесь негативно о тех переживаниях, которые были связаны с вашим взрослением .Ребёнок будет их переживать с вашей позиции и воспринимать так, как воспринимали 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остарайтесь сделать так, чтобы ваши дети не воспринимали меж половые отношения как нечто грязное и постыдное.  От этого во многом зависит их физиологическое взрос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5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Рассказывайте о своих переживаниях в том возрасте, в котором сейчас ваши де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будьте открыты для общения с ребёнком, даже если вы чего - то не знаете или в чём- то сомневаетесь, не стесняйтесь сказать ему об эт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581960" cy="55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В период полового созревания мальчикам важно получать поддержку и одобрение со стороны мам, а девочкам – со стороны па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Проявляйте ласку к своим детям, демонстрируйте им свою любов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 algn="ctr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99"/>
                </a:solidFill>
                <a:latin typeface="Times New Roman"/>
              </a:rPr>
              <a:t>Старайтесь говорить со своим  ребёнком  открыто и откровенно на самые деликатные те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1763640" y="620640"/>
            <a:ext cx="691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пехов Вам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ного благополучия 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2195640" y="2276640"/>
            <a:ext cx="5545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сть Ваши де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дуют В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ими делами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411280" y="3860640"/>
            <a:ext cx="48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мы буд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диться  ими!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187280" y="4941720"/>
            <a:ext cx="705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 новых встреч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7280" y="5589720"/>
            <a:ext cx="31669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ff"/>
                </a:solidFill>
                <a:latin typeface="Arial"/>
              </a:rPr>
              <a:t>Ж.П.Сарт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519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Times New Roman"/>
              </a:rPr>
              <a:t>«Я не верю, что жизнь человека предопределена его детством. Я думаю, что существуют ещё очень важные периоды: отрочество, юность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02920" y="1268280"/>
            <a:ext cx="758196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омочь родителям понять значение в жизни ребёнка физиологических и психологических измен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обратить их внимание на собственное поведение в этот период , на взаимоотношения с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формировать у родителей потребность в здоровом образе жиз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обсудить правила поведения родителей в период полового созревани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0" y="5229000"/>
            <a:ext cx="309564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И.А.Крыл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5088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«Отцы и матери! Вам басни сей ур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Я рассказал её не детям в извинень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Но если выросли они в разлуке с вам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И вы их вверили наёмничьим ру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Не вы ли виноваты сам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Что в старости от них утехи мало ва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18920" y="1699920"/>
            <a:ext cx="72723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режде чем наступит красивый и радо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ериод юношества , наши с вами де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переживают уже сегодня период ран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отрочества. Его ещё можно назвать период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«гадкого утёнка», периодом неприязн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непринятия себя, периодом отрицаний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imes New Roman"/>
              </a:rPr>
              <a:t>страд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691920"/>
            <a:ext cx="75963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апы и мам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Ваш ребёнок входит в пору своего физиологического взросления. Это вносит определённые изменения в его характер, взаимоотношения с окружающими людьми и сверстниками .Очевидное физическое взросление меняет взгляды ребёнка на жизнь, его ценностные ориенти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Огромно значение семьи для Вашего ребёнка в этот период времени. Ему, как никогда, необходимо Ваше тепло и забота, понимание и довер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47280" y="1197000"/>
            <a:ext cx="759636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Подростковый  возраст характеризуется высоким уровнем тревожности, озабоченности и неудовлетворённости своей внеш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В этот период жизни к нелюбимым чертам характера ребята относят физические характер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30% мальчиков и 20 % девочек в возрасте 11-12 испытывают беспокойство по поводу своего роста</a:t>
            </a: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7280" y="126792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Девочки , у которых позднее физическое созревание, часто страдают заниженной самооценкой в коллективе сверстников и попадают в группу изолированных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о материалам статистики , опыт</a:t>
            </a:r>
            <a:r>
              <a:rPr b="0" i="1" lang="en-US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первой влюблённости девочек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11лет – 60 % , мальчиков – 13 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4920" y="1341360"/>
            <a:ext cx="70578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Мальчики и девочки, достигшие раньше других физической зрелости, обладают более высоким социальным статусом в детском коллекти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99"/>
                </a:solidFill>
                <a:latin typeface="Times New Roman"/>
              </a:rPr>
              <a:t>Большинство детей в этот период времени  отдаляются от родителей, предпочитая группу сверстников.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07:16Z</dcterms:created>
  <dc:creator>Пользователь</dc:creator>
  <dc:description/>
  <dc:language>en-US</dc:language>
  <cp:lastModifiedBy>Valued eMachines Customer</cp:lastModifiedBy>
  <dcterms:modified xsi:type="dcterms:W3CDTF">2014-03-19T13:20:41Z</dcterms:modified>
  <cp:revision>6</cp:revision>
  <dc:subject/>
  <dc:title>Слайд 1</dc:title>
</cp:coreProperties>
</file>