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CCB-7BAF-48A5-B4C3-D5774F89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37E5-7B5F-40F5-A5E3-1F77EC92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1CC-41C4-45F5-8BED-A9E65E14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A26-F20B-497E-B273-EFCD0822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A9022-F21E-4D71-BE9A-E66B96C6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9C231-4B09-4FD9-891A-F71CF71A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39DE7-61AD-44E7-A019-578653BA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81B4A-9E43-4CEB-8479-FAA0EA49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4B5B6-72AE-41DE-AFEB-AA849725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73665-09C6-4255-8C24-0D88EE0D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77A23-8111-40B7-9996-500FC992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4B4-9BC2-426A-B52B-E73A351D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D3A00-67DF-489E-A6CC-9EB38485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0539C-5430-4AB3-817E-E8200F4E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28788-68B6-4B84-A6D1-E940156F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2382E-A11C-4B76-9464-A1B28FF1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1FBD5-9193-40B7-A878-71EEEBFE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C65-6A04-4761-89D3-085570B9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2601-A19F-4549-A80B-B4DD7C5C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DD3B-5B97-432A-86B6-19364495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446-EF88-48AA-B017-40DEE73C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DE9-D30A-40B4-89F0-94405BEA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1FC-8505-49D9-B98B-A56BA51F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421-BF09-4590-A52C-B08FF71F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519F-A4D8-41DE-AE7A-97A085B208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0B41-8340-4AA7-93AA-2A52550D4B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700360" y="443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Родительское собр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1979640" y="333360"/>
            <a:ext cx="68770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блем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ростковог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зраст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2411280" y="569196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692360" y="1267920"/>
            <a:ext cx="720072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Times New Roman"/>
              </a:rPr>
              <a:t>«Хорошее воспитание детей – это ваша счастливая старость. Плохое – это ваше горе, ваши слёзы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572000" y="5409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А.С.Макаренк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92000" y="1341360"/>
            <a:ext cx="745164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 algn="ctr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99"/>
                </a:solidFill>
                <a:latin typeface="Times New Roman"/>
              </a:rPr>
              <a:t>Опасайтесь получения вашим ребёнком информации из чужих ус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 algn="ctr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99"/>
                </a:solidFill>
                <a:latin typeface="Times New Roman"/>
              </a:rPr>
              <a:t>Будьте особенно внимательны</a:t>
            </a:r>
            <a:r>
              <a:rPr b="0" i="1" lang="en-US" sz="3600" spc="-1" strike="noStrike">
                <a:solidFill>
                  <a:srgbClr val="336699"/>
                </a:solidFill>
                <a:latin typeface="Times New Roman"/>
              </a:rPr>
              <a:t>.</a:t>
            </a:r>
            <a:r>
              <a:rPr b="0" i="1" lang="ru-RU" sz="3600" spc="-1" strike="noStrike">
                <a:solidFill>
                  <a:srgbClr val="336699"/>
                </a:solidFill>
                <a:latin typeface="Times New Roman"/>
              </a:rPr>
              <a:t> Обращайте внимание на любые изменения в поведении своего ребёнка всеми возможными средствами ,если он в этом нуждаетс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547640" y="475920"/>
            <a:ext cx="7437600" cy="597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 algn="ctr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Не высказывайтесь негативно о тех переживаниях, которые были связаны с вашим взрослением .Ребёнок будет их переживать с вашей позиции и воспринимать так, как воспринимали в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 algn="ctr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Постарайтесь сделать так, чтобы ваши дети не воспринимали меж половые отношения как нечто грязное и постыдное.  От этого во многом зависит их физиологическое взросл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5247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99"/>
                </a:solidFill>
                <a:latin typeface="Times New Roman"/>
              </a:rPr>
              <a:t>Рассказывайте о своих переживаниях в том возрасте, в котором сейчас ваши дет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99"/>
                </a:solidFill>
                <a:latin typeface="Times New Roman"/>
              </a:rPr>
              <a:t>будьте открыты для общения с ребёнком, даже если вы чего - то не знаете или в чём- то сомневаетесь, не стесняйтесь сказать ему об это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7581960" cy="55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 algn="ctr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99"/>
                </a:solidFill>
                <a:latin typeface="Times New Roman"/>
              </a:rPr>
              <a:t>В период полового созревания мальчикам важно получать поддержку и одобрение со стороны мам, а девочкам – со стороны пап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 algn="ctr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99"/>
                </a:solidFill>
                <a:latin typeface="Times New Roman"/>
              </a:rPr>
              <a:t>Проявляйте ласку к своим детям, демонстрируйте им свою любов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 algn="ctr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99"/>
                </a:solidFill>
                <a:latin typeface="Times New Roman"/>
              </a:rPr>
              <a:t>Старайтесь говорить со своим  ребёнком  открыто и откровенно на самые деликатные тем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>
            <a:off x="1763640" y="620640"/>
            <a:ext cx="69138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спехов Вам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оровь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мейного благополучия 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2195640" y="2276640"/>
            <a:ext cx="5545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сть Ваши дет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дуют Ва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оими делами,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2411280" y="3860640"/>
            <a:ext cx="482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мы буде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рдиться  ими!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1187280" y="4941720"/>
            <a:ext cx="7056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 новых встреч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7280" y="5589720"/>
            <a:ext cx="316692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ff"/>
                </a:solidFill>
                <a:latin typeface="Arial"/>
              </a:rPr>
              <a:t>Ж.П.Сарт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5192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99"/>
                </a:solidFill>
                <a:latin typeface="Times New Roman"/>
              </a:rPr>
              <a:t>«Я не верю, что жизнь человека предопределена его детством. Я думаю, что существуют ещё очень важные периоды: отрочество, юность…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02920" y="1268280"/>
            <a:ext cx="7581960" cy="48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помочь родителям понять значение в жизни ребёнка физиологических и психологических изменен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обратить их внимание на собственное поведение в этот период , на взаимоотношения с деть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формировать у родителей потребность в здоровом образе жизн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обсудить правила поведения родителей в период полового созревани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16000" y="5229000"/>
            <a:ext cx="3095640" cy="63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И.А.Крыл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76360" y="1412640"/>
            <a:ext cx="750888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«Отцы и матери! Вам басни сей ур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Я рассказал её не детям в извиненье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Но если выросли они в разлуке с вам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И вы их вверили наёмничьим рука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Не вы ли виноваты сам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Что в старости от них утехи мало вам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618920" y="1699920"/>
            <a:ext cx="72723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Прежде чем наступит красивый и радост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период юношества , наши с вами де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переживают уже сегодня период ранне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отрочества. Его ещё можно назвать период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«гадкого утёнка», периодом неприязни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непринятия себя, периодом отрицаний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страда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5640" y="691920"/>
            <a:ext cx="759636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Папы и мамы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99"/>
                </a:solidFill>
                <a:latin typeface="Times New Roman"/>
              </a:rPr>
              <a:t>Ваш ребёнок входит в пору своего физиологического взросления. Это вносит определённые изменения в его характер, взаимоотношения с окружающими людьми и сверстниками .Очевидное физическое взросление меняет взгляды ребёнка на жизнь, его ценностные ориенти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99"/>
                </a:solidFill>
                <a:latin typeface="Times New Roman"/>
              </a:rPr>
              <a:t>Огромно значение семьи для Вашего ребёнка в этот период времени. Ему, как никогда, необходимо Ваше тепло и забота, понимание и довер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547280" y="1197000"/>
            <a:ext cx="759636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99"/>
                </a:solidFill>
                <a:latin typeface="Times New Roman"/>
              </a:rPr>
              <a:t>Подростковый  возраст характеризуется высоким уровнем тревожности, озабоченности и неудовлетворённости своей внешност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99"/>
                </a:solidFill>
                <a:latin typeface="Times New Roman"/>
              </a:rPr>
              <a:t>В этот период жизни к нелюбимым чертам характера ребята относят физические характерис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99"/>
                </a:solidFill>
                <a:latin typeface="Times New Roman"/>
              </a:rPr>
              <a:t>30% мальчиков и 20 % девочек в возрасте 11-12 испытывают беспокойство по поводу своего роста</a:t>
            </a: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47280" y="1267920"/>
            <a:ext cx="74170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Девочки , у которых позднее физическое созревание, часто страдают заниженной самооценкой в коллективе сверстников и попадают в группу изолированных д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По материалам статистики , опыт</a:t>
            </a:r>
            <a:r>
              <a:rPr b="0" i="1" lang="en-US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первой влюблённости девочек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11лет – 60 % , мальчиков – 13 л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834920" y="1341360"/>
            <a:ext cx="705780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Мальчики и девочки, достигшие раньше других физической зрелости, обладают более высоким социальным статусом в детском коллекти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Большинство детей в этот период времени  отдаляются от родителей, предпочитая группу сверстников.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1:07:16Z</dcterms:created>
  <dc:creator>Пользователь</dc:creator>
  <dc:description/>
  <dc:language>en-US</dc:language>
  <cp:lastModifiedBy>Valued eMachines Customer</cp:lastModifiedBy>
  <dcterms:modified xsi:type="dcterms:W3CDTF">2014-03-19T13:20:41Z</dcterms:modified>
  <cp:revision>6</cp:revision>
  <dc:subject/>
  <dc:title>Слайд 1</dc:title>
</cp:coreProperties>
</file>