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ED0-720E-4DBC-B38E-F2EDB4F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6C0-D755-4F80-99D9-76BBA1BD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208-437D-4608-87C9-DA9A780A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490-5A24-4827-A1F9-8CCE1E62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345-89DB-4C4E-9D1F-7441F95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CC3-AE2A-48E9-8E4C-0C963711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D63-0240-4462-AFFC-6FB46D2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588-14FA-43A0-BE41-71F4E412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CCF-E436-46B5-94AF-FEB5C75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F9E-B897-4BD4-BBA9-AAAA428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5D0-2474-4DAD-BFAB-8F9283B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C28-FA2D-4403-AD89-D22E2DB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Click to edit the title text format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Click to edit the outline text format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1" marL="743040" indent="-285840">
              <a:spcBef>
                <a:spcPts val="799"/>
              </a:spcBef>
              <a:buClr>
                <a:srgbClr val="5c5d47"/>
              </a:buClr>
              <a:buFont typeface="OCR A Extend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econd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2" marL="11430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Third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3" marL="16002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Four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4" marL="20574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Fif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ix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even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64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800" spc="-1" strike="noStrike">
                <a:solidFill>
                  <a:srgbClr val="929371"/>
                </a:solidFill>
                <a:latin typeface="OCR A Extend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929371"/>
                </a:solidFill>
                <a:latin typeface="OCR A Extended"/>
              </a:rPr>
              <a:t>Корина Илона Викторов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BB4D-FC9A-44A0-BEE6-B5D9ABEB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c5d47"/>
                </a:solidFill>
                <a:latin typeface="OCR A Extended"/>
              </a:rPr>
              <a:t>Афинский </a:t>
            </a:r>
            <a:endParaRPr b="1" i="1" lang="en-US" sz="5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крополь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арфен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1640" y="1197000"/>
            <a:ext cx="4702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Главный храм Афи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Для Афины Промахос (Девы)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Построен с 447 по 438г. до н.э.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Архитекторы Иктин и Калликрат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На самой высокой точке город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Периптер, 50 колон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457280"/>
            <a:ext cx="3490920" cy="24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4560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Афина Парфенос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32360" y="1412640"/>
            <a:ext cx="37497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нутри – статуя Афины Девы (Парфенос)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12м высота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Хризо-элефантинная (золото+ слоновая кость)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Скульптор - Фидий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2117880" cy="4942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2341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льеф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3639960" cy="19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268128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356000" y="1484280"/>
            <a:ext cx="4608720" cy="365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5300640"/>
            <a:ext cx="37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d47"/>
                </a:solidFill>
                <a:latin typeface="Comic Sans MS"/>
              </a:rPr>
              <a:t>Храм украшен релье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d47"/>
                </a:solidFill>
                <a:latin typeface="Comic Sans MS"/>
              </a:rPr>
              <a:t>Автор - Фид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Фронтон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96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86896"/>
                </a:solidFill>
                <a:uFillTx/>
                <a:latin typeface="OCR A Extended"/>
              </a:rPr>
              <a:t>Фронтон</a:t>
            </a: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*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-    поле под двускатной крышей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c5d47"/>
                </a:solidFill>
                <a:uFillTx/>
                <a:latin typeface="OCR A Extended"/>
              </a:rPr>
              <a:t>Западный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фасад–                спор Афины с            Посейдоном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c5d47"/>
                </a:solidFill>
                <a:uFillTx/>
                <a:latin typeface="OCR A Extended"/>
              </a:rPr>
              <a:t>Восточный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–                  рождение Афины из           головы Зевс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13413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72828c"/>
          </a:solidFill>
          <a:ln w="9360">
            <a:solidFill>
              <a:srgbClr val="728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Западный фронтон Парфенона"/>
          <p:cNvPicPr/>
          <p:nvPr/>
        </p:nvPicPr>
        <p:blipFill>
          <a:blip r:embed="rId2"/>
          <a:stretch/>
        </p:blipFill>
        <p:spPr>
          <a:xfrm>
            <a:off x="5651640" y="198900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5164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льеф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628280"/>
            <a:ext cx="822960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Храм был ярко раскрашен, позолочен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5329080" cy="444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651640" y="1197000"/>
            <a:ext cx="3227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Эрехтей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11640" y="1125000"/>
            <a:ext cx="4681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строен в конце</a:t>
            </a: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 V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. до н.э.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Сложная асимметричная планировка: все 4 фасада разные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ртик кариатид – опоры в виде </a:t>
            </a:r>
            <a:r>
              <a:rPr b="1" i="1" lang="ru-RU" sz="2800" spc="-1" strike="noStrike">
                <a:solidFill>
                  <a:srgbClr val="5c5d47"/>
                </a:solidFill>
                <a:latin typeface="SimSun-ExtB"/>
              </a:rPr>
              <a:t>6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 женских фигур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  </a:t>
            </a:r>
            <a:r>
              <a:rPr b="1" i="1" lang="ru-RU" sz="2000" spc="-1" strike="noStrike" u="sng">
                <a:solidFill>
                  <a:srgbClr val="5c5d47"/>
                </a:solidFill>
                <a:uFillTx/>
                <a:latin typeface="OCR A Extended"/>
              </a:rPr>
              <a:t>Портик</a:t>
            </a:r>
            <a:r>
              <a:rPr b="1" i="1" lang="en-US" sz="2000" spc="-1" strike="noStrike">
                <a:solidFill>
                  <a:srgbClr val="5c5d47"/>
                </a:solidFill>
                <a:latin typeface="OCR A Extended"/>
              </a:rPr>
              <a:t>*</a:t>
            </a: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- «крытый ход», «навес». Выступающая часть здания, с колоннами, имеющая собственное перекрытие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 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3744720" cy="281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4051440"/>
            <a:ext cx="3854520" cy="2806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Эрехтей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38912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3956040" cy="317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501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Соврем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Фото конца </a:t>
            </a: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XIX</a:t>
            </a: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 век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7403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Вид со стороны Мусей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6327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конструкция 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58920" y="1339920"/>
            <a:ext cx="59054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лан Акрополя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495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7 – Парфенон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6 - Эрехтейон - храм, посвященный мифическому древнему царю Афин - Эрехтею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5 - Статуя Афины-Воительницы работы Фидия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4 - Пропилеи (парадный вход на Акрополь)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3 - Пинакотека (античное собрание живописи)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2 - Храм Ники Аптерос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1 - Пиргос - искусственное возвышение из мраморных блоков</a:t>
            </a:r>
            <a:br>
              <a:rPr sz="2000"/>
            </a:b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814920" cy="513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4067280" y="508464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95280" y="4797360"/>
            <a:ext cx="792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56000" y="4221000"/>
            <a:ext cx="2303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87280" y="371628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68000" y="3141720"/>
            <a:ext cx="25909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87280" y="2133720"/>
            <a:ext cx="3600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280" y="1773360"/>
            <a:ext cx="20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Современный вид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эрофотосъёмка 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1517760"/>
            <a:ext cx="67690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крополь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001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22600" y="0"/>
            <a:ext cx="57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Храм Ники Аптерос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88000" y="1341000"/>
            <a:ext cx="414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Храм «бескрылой» Ники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Архитектор </a:t>
            </a:r>
            <a:r>
              <a:rPr b="1" i="1" lang="ru-RU" sz="2800" spc="-1" strike="noStrike" u="sng">
                <a:solidFill>
                  <a:srgbClr val="5c5d47"/>
                </a:solidFill>
                <a:uFillTx/>
                <a:latin typeface="OCR A Extended"/>
              </a:rPr>
              <a:t>Калликрат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Легкий, изящный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строен в честь победы над персами в </a:t>
            </a: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V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.до н.э.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нутри – бескрылая статуя богини Победы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21080" cy="273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ропилеи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6306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Парадные ворот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Несколько рядов колон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Крыша из белого мрамор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Соединены дорический и ионический ордер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00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            </a:t>
            </a: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ропилеи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673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429000"/>
            <a:ext cx="4736880" cy="266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3500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Современ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237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Реконстру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арфен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84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6:51:21Z</dcterms:created>
  <dc:creator>user</dc:creator>
  <dc:description/>
  <dc:language>en-US</dc:language>
  <cp:lastModifiedBy>Илона</cp:lastModifiedBy>
  <dcterms:modified xsi:type="dcterms:W3CDTF">2015-01-25T16:13:24Z</dcterms:modified>
  <cp:revision>29</cp:revision>
  <dc:subject/>
  <dc:title>Афинский </dc:title>
</cp:coreProperties>
</file>