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D8D-4072-4CA7-B580-C25521CA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258-1B9D-458F-BF2D-6BD47827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0DA-6409-4EF7-9224-0E87106F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0DE-7B22-479E-ACC1-F95A7393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D23-5146-4F1A-86BA-29402F7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13D6-04B8-4D7B-BC3F-CD145586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55A4-5D34-452A-8F90-6C3578E6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3CB-D41E-4425-AC95-6CB0BC33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5D61-E471-4896-98FC-9EF276A3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8B57-749A-4F33-9FFC-6DC1A24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EC0-FB2F-449E-893F-F94105C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4D3-C41A-4671-88C4-EA3CD8D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ACBA-0DE6-4058-B8EA-F297A7B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5978-B308-424D-8449-D8EE945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9F9-2057-4C07-86E6-BA41548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6B98-BA48-4BDD-A534-BE92331E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6B1A-6D0E-4919-8CF0-C27A4EAF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CE34-7C24-4815-A5C3-A944E94E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2C5C-3876-4189-B1DA-3BF6BF67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05EC-012B-4268-AC4D-61B06AD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14C6-3E55-4E70-9335-7D4A7A8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6716-E951-448C-9BB5-1211CB2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BE4-2840-426E-B0FC-29893022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54DD-93BE-4947-BD52-E0F2BFF3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5C30-6785-4986-BE08-A1F0FF6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A5DA-5BB9-41C2-9B41-0F57E74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74AF-C780-4AA4-99A4-EE075C0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69C8-A8E0-4631-81EC-038693A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8FD6-A91D-4F00-9F65-A79A3F2A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86EA-1A91-4203-A374-AB536A80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5723-554B-40FB-91F0-156DFB9E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C11B-9DB0-4B52-9662-FB43C02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215A-F8A4-4C87-A91E-8487FE4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62C-A01E-4CBC-9402-EB014D14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63F5-13FD-40EC-BCEB-170CEC7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4DB9-C316-4C5A-8017-C84FEA37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2B18-10A3-461B-90B4-E81F0E0D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4BBF-6979-4D17-89DD-15594E9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4E39-4E5D-4F9E-A92F-A92BFC5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ABCF-DEF7-40F5-9ED2-46697C8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6BA2-B3F5-49F4-A2D5-B158F870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EE61-8A83-47C3-8F24-F14CDDF0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18D6-8FB6-4259-9FDE-62DAE043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73A7-0EC1-4C97-9253-54B42F0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CBF-03EB-4721-9992-30C623A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C8FD-2097-44C3-A5DB-ED2C679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B01E6-CB28-4D6A-93CE-173B534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876F-F70B-4C0F-90AE-4742582C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329CA-E575-4041-AF04-1148280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957C-1F3B-490C-A3D3-1B3A7B4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EE81-D1F1-42AB-B86C-0D2743B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A737-9C93-42AA-BBE4-E9FD870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218F-8209-4399-A39F-C8D1E29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DF14-C687-4C42-94D4-6B7AF5C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C3B8-DF2F-4AF3-B099-E00DCDE2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A3B-CAC5-4C4B-BA4F-85E08B7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8E1D-2D4D-4C53-9E58-CD18A622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3F86-8CF9-4685-889B-D3D617C4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9CECE-0173-480F-889F-8C4803D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D315-6CEC-48C0-B577-B94433B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D683-609B-48FC-9124-BF10154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D505-3695-40FB-94C2-B04D105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012B-98F0-4953-B308-01902D1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6D0A-6519-49B2-9CB1-12C0A34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4211-721D-4577-AB0D-CB245C17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1F0B-31DD-4E4A-AFEC-479EB4D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96F-DE23-4897-9AD6-255CF2A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9E8C-0471-42C6-9698-00F358A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B938-F37D-41B7-8E7F-8A4356A5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BA8E-6FFD-41E0-A578-3E863ACC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DF94-D63D-4060-A108-20EE4583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F85B-302A-452C-B8BA-C667906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719C-E918-4BA7-853D-C2697F9E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6D69-6140-4A2A-8AAB-DB227C4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DDB3-7A55-426F-AC11-87AE369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6561-17D9-4469-A8E7-20289E0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7ED8-E928-4E6D-9825-38EA27E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4CB-A0A7-4F83-9978-345F334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198E-BBC7-478D-A720-464E896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5A4E6-C091-4CDA-9C4E-810E91F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E086-669C-4A75-87E3-FFD6E77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A841-2EFC-432D-A952-B1D0364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4126-810C-4649-AB24-3C03344F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64C-7DBE-4E0D-99BF-3EEBEB1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3A3-8549-4B60-8CA4-74053B3E57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01F8-18E0-4B02-AF04-5A15C1A8CE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28D-6620-44D6-99CE-8CB543894C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6BD6-36EC-4330-BAD6-C59CCD4A77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1CC-91F8-4098-9B97-8400227F63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673-0959-483F-A0FB-2D0692295F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4D0-6E28-4BAF-BA65-DE4C0A617E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xtonmarket.com/u/404/p/640x480/06c053b5f16c8e829f16e989b264e7b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Великий сказочник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Ханс Кристиан Андерсен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6" descr="Портрет-с-диска"/>
          <p:cNvPicPr/>
          <p:nvPr/>
        </p:nvPicPr>
        <p:blipFill>
          <a:blip r:embed="rId1"/>
          <a:stretch/>
        </p:blipFill>
        <p:spPr>
          <a:xfrm>
            <a:off x="3708360" y="2637000"/>
            <a:ext cx="1790640" cy="200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1"/>
          <p:cNvPicPr/>
          <p:nvPr/>
        </p:nvPicPr>
        <p:blipFill>
          <a:blip r:embed="rId1"/>
          <a:stretch/>
        </p:blipFill>
        <p:spPr>
          <a:xfrm>
            <a:off x="1692360" y="3141720"/>
            <a:ext cx="2484360" cy="3311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95239b"/>
          <p:cNvPicPr/>
          <p:nvPr/>
        </p:nvPicPr>
        <p:blipFill>
          <a:blip r:embed="rId2"/>
          <a:stretch/>
        </p:blipFill>
        <p:spPr>
          <a:xfrm>
            <a:off x="5796000" y="3213000"/>
            <a:ext cx="2214360" cy="3168720"/>
          </a:xfrm>
          <a:prstGeom prst="rect">
            <a:avLst/>
          </a:prstGeom>
          <a:ln w="0">
            <a:noFill/>
          </a:ln>
        </p:spPr>
      </p:pic>
      <p:sp>
        <p:nvSpPr>
          <p:cNvPr id="363" name="WordArt 4"/>
          <p:cNvSpPr txBox="1"/>
          <p:nvPr/>
        </p:nvSpPr>
        <p:spPr>
          <a:xfrm>
            <a:off x="1403280" y="620640"/>
            <a:ext cx="604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4" name="Picture 5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ndara"/>
              </a:rPr>
              <a:t>Тема урока :«Ель»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xit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Рисунок 3" descr="Картинка 112 из 13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89000"/>
            <a:ext cx="554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9"/>
          <p:cNvSpPr/>
          <p:nvPr/>
        </p:nvSpPr>
        <p:spPr>
          <a:xfrm>
            <a:off x="304920" y="838080"/>
            <a:ext cx="744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Сказки Андерсена побуждают задуматься о жизни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В сказках Андерсена живут  слёзы и  смех, горе и радость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ринцесса , горошина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8" descr="chb_3"/>
          <p:cNvPicPr/>
          <p:nvPr/>
        </p:nvPicPr>
        <p:blipFill>
          <a:blip r:embed="rId1"/>
          <a:stretch/>
        </p:blipFill>
        <p:spPr>
          <a:xfrm>
            <a:off x="5508720" y="1341360"/>
            <a:ext cx="3240000" cy="4726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chb_1"/>
          <p:cNvPicPr/>
          <p:nvPr/>
        </p:nvPicPr>
        <p:blipFill>
          <a:blip r:embed="rId2"/>
          <a:stretch/>
        </p:blipFill>
        <p:spPr>
          <a:xfrm>
            <a:off x="971640" y="1341360"/>
            <a:ext cx="4176720" cy="4737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Крошеч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девочка, жаб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5" descr="Image_6"/>
          <p:cNvPicPr/>
          <p:nvPr/>
        </p:nvPicPr>
        <p:blipFill>
          <a:blip r:embed="rId1"/>
          <a:stretch/>
        </p:blipFill>
        <p:spPr>
          <a:xfrm>
            <a:off x="3851280" y="333360"/>
            <a:ext cx="482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Лебеди,одиннадцать братьев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lubimie-skazki"/>
          <p:cNvPicPr/>
          <p:nvPr/>
        </p:nvPicPr>
        <p:blipFill>
          <a:blip r:embed="rId1"/>
          <a:stretch/>
        </p:blipFill>
        <p:spPr>
          <a:xfrm>
            <a:off x="0" y="1557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олдатик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робк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танцовщиц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5" descr="st_4"/>
          <p:cNvPicPr/>
          <p:nvPr/>
        </p:nvPicPr>
        <p:blipFill>
          <a:blip r:embed="rId1"/>
          <a:stretch/>
        </p:blipFill>
        <p:spPr>
          <a:xfrm>
            <a:off x="0" y="189000"/>
            <a:ext cx="5292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Ножки,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удесный голос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4" descr="Image_8"/>
          <p:cNvPicPr/>
          <p:nvPr/>
        </p:nvPicPr>
        <p:blipFill>
          <a:blip r:embed="rId1"/>
          <a:stretch/>
        </p:blipFill>
        <p:spPr>
          <a:xfrm>
            <a:off x="4427640" y="189000"/>
            <a:ext cx="453708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тка, утят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мечта,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бед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6" descr="image_4"/>
          <p:cNvPicPr/>
          <p:nvPr/>
        </p:nvPicPr>
        <p:blipFill>
          <a:blip r:embed="rId1"/>
          <a:stretch/>
        </p:blipFill>
        <p:spPr>
          <a:xfrm>
            <a:off x="17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анки , королева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ечность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12" descr="Image_16"/>
          <p:cNvPicPr/>
          <p:nvPr/>
        </p:nvPicPr>
        <p:blipFill>
          <a:blip r:embed="rId1"/>
          <a:stretch/>
        </p:blipFill>
        <p:spPr>
          <a:xfrm>
            <a:off x="4427640" y="115920"/>
            <a:ext cx="460836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3:54:36Z</dcterms:created>
  <dc:creator>User</dc:creator>
  <dc:description/>
  <dc:language>en-US</dc:language>
  <cp:lastModifiedBy>Александр</cp:lastModifiedBy>
  <dcterms:modified xsi:type="dcterms:W3CDTF">2015-01-23T22:03:17Z</dcterms:modified>
  <cp:revision>85</cp:revision>
  <dc:subject/>
  <dc:title>Великий сказочник</dc:title>
</cp:coreProperties>
</file>