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560F-338D-4667-B73A-907F5D7E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F5AD-D391-4EA8-8633-6E5413EA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B071-AD91-45D9-BCD7-A6393E63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A4C5-F87B-44A1-A9AF-41511670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7DF5-12B8-42C0-A862-6EE590C3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F104-B7B9-43AF-8D1B-D52D254A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D85A-885A-4B54-AAB0-3073855C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0442-F495-43F5-B781-92AC2916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8F72-3951-4F34-8778-15DE6E7A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015F-ECFD-4D50-83B3-CEA32F34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1728-3152-4BC8-97F7-87784CB0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1428-5AB1-4D48-8BF2-FC62F6C5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8FD1-D247-4A52-A06B-F5F12B2C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EE5C-2AF6-47FD-9E28-424BC649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7B5A-3AFA-45FA-B81F-8DCA8F0E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3CDF-AC41-49D2-988F-F47793B5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EA2E-2DE8-4D6B-98EA-3DF09B68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3088E-F693-4DD1-A401-13294EC1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A7691-25E1-47C0-B261-F442C7F3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78961-38AF-4262-BD8C-A50F0045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4B5AC-B880-4100-8759-BD8FD7C7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1CA15-9B08-4614-8070-7104D40F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5E2F-300B-4366-B7C0-71091008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B3D15-38D0-44D5-8C15-9F771479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744A1-E499-4FBE-B3EC-353994F5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D9B32-EB1B-4071-AC34-7C2515A4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A648D-6FAB-45E3-A50E-D5FBE0D4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C9FD5-4004-4277-9159-530719CD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2D95F-F86C-472F-99AA-C5FC7ABA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91B64-6F22-4E28-9AE1-BF30745D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6E807-2F5B-46CC-9799-E01096BD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C1C17-590F-4591-B50F-70ADD049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A2C78-4B15-401D-AF6B-4E0A0CFC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2129-916F-4A83-9723-4EA8175D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55781-6999-4213-9545-446D64F6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92AA6-B139-4264-883F-0F6B20D2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17426-17FA-4ACB-9D50-04CDA874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301AD-D049-4365-8361-73B41BCF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F3986-6D08-4D4E-AB3B-B3AFC33E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DDF90-B52D-4675-8C1A-67FCE393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A545E-2A07-4270-B6BC-82A63B13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292EB-C7A8-41DA-A2B2-40C27FBD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8689B-DF8C-4B3A-A8E2-6D3BE67E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0C947-5CB8-4525-9627-93A08823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1CBD-5B6B-40C4-841E-1EC5CBD8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9E77B-A207-42FF-9F7A-11B5644F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8A424-AE5B-4A8C-9160-D59449F9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F94D0-A84D-402E-A412-1343C600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427F6-222A-41EC-A0CD-9F09998A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19E48-DC2F-4859-9EA5-C2639B8D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945B6-4188-4197-B331-895FFF0A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BADFA-8805-4755-A010-3E7058BD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0C2EB-1BC8-48F3-85B1-B94B3CA7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36701-2448-401B-8DF7-59927E64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E97CC-4C5B-40BA-A7A8-41D539CB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FFF4-B4A1-400C-8DED-83867893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1E923-5950-4460-B75C-519EFF6C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90B07-6026-43E8-A89A-30660CED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4A66E-E54F-4F92-BB89-75AEAAF7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23769-2F75-4F74-9DDC-1257E0BD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37122-099E-49A3-8ACD-DB0221C9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5044F-69E3-45E2-B7F6-354E8BBA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05F40-2E5F-4838-BD84-98B9A995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C278C-2AFF-4BE1-8393-D0AD997A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46642-7561-4CE0-8455-EC71CD3C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BC0B4-C7DB-4097-B877-C3B0F205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264F-1526-4745-B28C-4DC77AB1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5B959-B64C-4679-945D-203B57CC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497AD-3710-4D88-98DA-74857DBC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9E1A5-4C11-4174-A2B0-ECDDDB6A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A09A2-5A43-47D1-91B0-30A7E44E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F69D5-5CF5-4DEB-A4C4-6B5CE392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D63D1-0C09-4F31-A25E-D8BE545A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B6A5C-868A-4BDE-98C6-2FF6FE6E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8F7CC-49A5-4E38-AD75-42C27367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71AC1-6B0D-43DD-8F3F-07CFF911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84C14-88F3-4334-89BD-F81C0C6B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47CD-5539-4C8D-A6E4-E88FCD72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8AF75-E770-4488-9643-2B680A67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6212C-093D-4ABF-BFE1-3CB0AC18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CB75C-51E5-4683-A520-A8D991DA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830CD-FE3C-4AF2-AC1D-C0DC9E71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74B02-5D90-432B-988A-88CE4852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179C-714E-400A-8DA6-6AD56BC5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6D62-C180-41B0-A884-2BAEB8670C3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4815-EF2B-46B4-B646-6B5B21FFF0C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8FBF-EBC0-49D8-B0CF-572F71A6184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21DC-168C-4DD1-BC61-60736E304A7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2059-3746-48EA-B658-29D764C42A4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905C-6687-4594-A243-29B1CE7E632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4147-F716-4DAA-9026-557C052C3F5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extonmarket.com/u/404/p/640x480/06c053b5f16c8e829f16e989b264e7b6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ndara"/>
              </a:rPr>
              <a:t>Великий сказочник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Ханс Кристиан Андерсен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Picture 6" descr="Портрет-с-диска"/>
          <p:cNvPicPr/>
          <p:nvPr/>
        </p:nvPicPr>
        <p:blipFill>
          <a:blip r:embed="rId1"/>
          <a:stretch/>
        </p:blipFill>
        <p:spPr>
          <a:xfrm>
            <a:off x="3708360" y="2637000"/>
            <a:ext cx="1790640" cy="2009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171"/>
          <p:cNvPicPr/>
          <p:nvPr/>
        </p:nvPicPr>
        <p:blipFill>
          <a:blip r:embed="rId1"/>
          <a:stretch/>
        </p:blipFill>
        <p:spPr>
          <a:xfrm>
            <a:off x="1692360" y="3141720"/>
            <a:ext cx="2484360" cy="3311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95239b"/>
          <p:cNvPicPr/>
          <p:nvPr/>
        </p:nvPicPr>
        <p:blipFill>
          <a:blip r:embed="rId2"/>
          <a:stretch/>
        </p:blipFill>
        <p:spPr>
          <a:xfrm>
            <a:off x="5796000" y="3213000"/>
            <a:ext cx="2214360" cy="3168720"/>
          </a:xfrm>
          <a:prstGeom prst="rect">
            <a:avLst/>
          </a:prstGeom>
          <a:ln w="0">
            <a:noFill/>
          </a:ln>
        </p:spPr>
      </p:pic>
      <p:sp>
        <p:nvSpPr>
          <p:cNvPr id="363" name="WordArt 4"/>
          <p:cNvSpPr txBox="1"/>
          <p:nvPr/>
        </p:nvSpPr>
        <p:spPr>
          <a:xfrm>
            <a:off x="1403280" y="620640"/>
            <a:ext cx="6048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64" name="Picture 5" descr="ёлочка 3"/>
          <p:cNvPicPr/>
          <p:nvPr/>
        </p:nvPicPr>
        <p:blipFill>
          <a:blip r:embed="rId3"/>
          <a:stretch/>
        </p:blipFill>
        <p:spPr>
          <a:xfrm>
            <a:off x="0" y="5829480"/>
            <a:ext cx="1019160" cy="10285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73e87"/>
                </a:solidFill>
                <a:latin typeface="Candara"/>
              </a:rPr>
              <a:t>Тема урока :«Ель»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wheel spokes="1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xit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102" dur="5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5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9" name="Рисунок 3" descr="Картинка 112 из 1364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89000"/>
            <a:ext cx="554508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9"/>
          <p:cNvSpPr/>
          <p:nvPr/>
        </p:nvSpPr>
        <p:spPr>
          <a:xfrm>
            <a:off x="304920" y="838080"/>
            <a:ext cx="7448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Сказки Андерсена побуждают задуматься о жизни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В сказках Андерсена живут  слёзы и  смех, горе и радость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201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Принцесса , горошина</a:t>
            </a: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1" name="Picture 8" descr="chb_3"/>
          <p:cNvPicPr/>
          <p:nvPr/>
        </p:nvPicPr>
        <p:blipFill>
          <a:blip r:embed="rId1"/>
          <a:stretch/>
        </p:blipFill>
        <p:spPr>
          <a:xfrm>
            <a:off x="5508720" y="1341360"/>
            <a:ext cx="3240000" cy="47260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chb_1"/>
          <p:cNvPicPr/>
          <p:nvPr/>
        </p:nvPicPr>
        <p:blipFill>
          <a:blip r:embed="rId2"/>
          <a:stretch/>
        </p:blipFill>
        <p:spPr>
          <a:xfrm>
            <a:off x="971640" y="1341360"/>
            <a:ext cx="4176720" cy="4737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Крошечна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девочка, жаба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5" descr="Image_6"/>
          <p:cNvPicPr/>
          <p:nvPr/>
        </p:nvPicPr>
        <p:blipFill>
          <a:blip r:embed="rId1"/>
          <a:stretch/>
        </p:blipFill>
        <p:spPr>
          <a:xfrm>
            <a:off x="3851280" y="333360"/>
            <a:ext cx="482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Лебеди,одиннадцать братьев.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8" name="Picture 7" descr="lubimie-skazki"/>
          <p:cNvPicPr/>
          <p:nvPr/>
        </p:nvPicPr>
        <p:blipFill>
          <a:blip r:embed="rId1"/>
          <a:stretch/>
        </p:blipFill>
        <p:spPr>
          <a:xfrm>
            <a:off x="0" y="1557360"/>
            <a:ext cx="381636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0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Солдатик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    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коробка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танцовщиц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1" name="Picture 5" descr="st_4"/>
          <p:cNvPicPr/>
          <p:nvPr/>
        </p:nvPicPr>
        <p:blipFill>
          <a:blip r:embed="rId1"/>
          <a:stretch/>
        </p:blipFill>
        <p:spPr>
          <a:xfrm>
            <a:off x="0" y="189000"/>
            <a:ext cx="5292720" cy="6669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Ножки,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чудесный голос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4" name="Picture 4" descr="Image_8"/>
          <p:cNvPicPr/>
          <p:nvPr/>
        </p:nvPicPr>
        <p:blipFill>
          <a:blip r:embed="rId1"/>
          <a:stretch/>
        </p:blipFill>
        <p:spPr>
          <a:xfrm>
            <a:off x="4427640" y="189000"/>
            <a:ext cx="4537080" cy="5976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тка, утята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мечта,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ебед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Picture 6" descr="image_4"/>
          <p:cNvPicPr/>
          <p:nvPr/>
        </p:nvPicPr>
        <p:blipFill>
          <a:blip r:embed="rId1"/>
          <a:stretch/>
        </p:blipFill>
        <p:spPr>
          <a:xfrm>
            <a:off x="17928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Санки , королева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вечность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0" name="Picture 12" descr="Image_16"/>
          <p:cNvPicPr/>
          <p:nvPr/>
        </p:nvPicPr>
        <p:blipFill>
          <a:blip r:embed="rId1"/>
          <a:stretch/>
        </p:blipFill>
        <p:spPr>
          <a:xfrm>
            <a:off x="4427640" y="115920"/>
            <a:ext cx="4608360" cy="6121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3:54:36Z</dcterms:created>
  <dc:creator>User</dc:creator>
  <dc:description/>
  <dc:language>en-US</dc:language>
  <cp:lastModifiedBy>Александр</cp:lastModifiedBy>
  <dcterms:modified xsi:type="dcterms:W3CDTF">2015-01-23T22:03:17Z</dcterms:modified>
  <cp:revision>85</cp:revision>
  <dc:subject/>
  <dc:title>Великий сказочник</dc:title>
</cp:coreProperties>
</file>