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BE64-3C71-4AA9-B2C6-316659F752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4B4A-76A5-4B67-B38E-68056ADC9F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1887-B3D8-4C7E-88CC-A3C9D1EA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B6CC-F806-44D6-9852-F7238628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C0D6-0435-493E-8A66-2911B69D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9042-B4AE-4176-BBB2-5786DBC1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356C-F1BE-43C9-A210-68337D4C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CC36-A46B-4558-BB8B-9B051CC0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5735-079F-4003-92CB-D4377236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2A62-9AE6-4DF1-A3D3-446C3403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AA72-8B3E-4D48-88E5-3187624D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D35B-EE6D-4984-9D2F-6406CEB5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DE59-7F32-47AF-98E7-893EF3D8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9EBA-41CC-490C-892D-0A6A17DC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9405-53D2-4C50-B0FB-D061CDBC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76BE-D906-4E42-A94F-32CB2D05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8931-1573-4119-937C-94C9C274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C1E1-CA16-4398-9A50-CF515EF5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0BFE-34D1-4846-99F9-1C2108C54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7D4E7-3D30-4264-9723-80505E70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E90B8-0E33-4257-B043-49DAAB93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DA64F-64FC-4C9E-8A08-FEEE5139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97E20-218E-4AE3-BD71-1855F992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790F6-51C9-4065-9EC2-14730653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C0D5-CE90-4710-8314-C799BB4B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01FB4-B67F-4F63-BCC3-6488EB70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A7C3C-651C-4547-8A6F-049CE22A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0CD50-0FCA-4468-A441-5804ED6A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8BFF9-DFE6-440E-8406-532CB5BC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8486E-C7E7-4574-BCC2-2459B1FE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4AF13-235F-4342-9A21-4411F693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0E230-DF9B-4C38-84C9-F943CD4C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C5D08-B2F4-465E-8189-E6FD5A70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D9D68-573D-4845-B025-51354F5C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42414-B31C-4F95-BEA9-CE3FF202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954C-28B1-4A79-8145-168E7C05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D4A7E-BBA9-4649-9B8E-3A27C234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712CF-CF73-45C1-8DA8-C6A1FE10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1E196-0E2C-4B94-98B0-6FB7157B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C1D9C-9FC4-49F2-909A-AA873B23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13A26-31D2-47A2-8BFD-00E5FE2F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8715A-DFC3-4D40-BFEC-C095D8BB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35C07-5F3E-4EB1-8353-A41BB306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04116-0FE7-448D-839C-65F529B2D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863E5-36F9-4D52-9AC0-1C16A3F9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D82D-9CCE-496D-B346-780D6FED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9AA8-9259-4A68-A7AF-D6757A99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4F86-7776-4395-BD6B-BFB40BBF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F5BD-9D04-48F4-82A0-8381C992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9D90-0BD1-44D3-A959-9452F485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2E0C-2066-4697-B1D6-30689E6B75B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A58A-5E8A-482B-A4C6-C79817309C6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3AE7-AF09-4B02-9DCB-6816A62BFD5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707E-0803-4A79-8513-156306B90DF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0" y="2988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Arial"/>
                <a:ea typeface="Times New Roman"/>
              </a:rPr>
              <a:t>Брейн</a:t>
            </a:r>
            <a:r>
              <a:rPr b="0" lang="ru-RU" sz="8000" spc="-1" strike="noStrike">
                <a:solidFill>
                  <a:srgbClr val="ff0000"/>
                </a:solidFill>
                <a:latin typeface="Harlow Solid Italic"/>
                <a:ea typeface="Times New Roman"/>
              </a:rPr>
              <a:t> – </a:t>
            </a:r>
            <a:r>
              <a:rPr b="0" lang="ru-RU" sz="8000" spc="-1" strike="noStrike">
                <a:solidFill>
                  <a:srgbClr val="ff0000"/>
                </a:solidFill>
                <a:latin typeface="Arial"/>
                <a:ea typeface="Times New Roman"/>
              </a:rPr>
              <a:t>рин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Arial"/>
                <a:ea typeface="Times New Roman"/>
              </a:rPr>
              <a:t>Думай</a:t>
            </a:r>
            <a:r>
              <a:rPr b="0" lang="ru-RU" sz="8000" spc="-1" strike="noStrike">
                <a:solidFill>
                  <a:srgbClr val="ffff00"/>
                </a:solidFill>
                <a:latin typeface="comic"/>
                <a:ea typeface="Times New Roman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comic"/>
                <a:ea typeface="Times New Roman"/>
              </a:rPr>
              <a:t> </a:t>
            </a:r>
            <a:r>
              <a:rPr b="0" lang="ru-RU" sz="8000" spc="-1" strike="noStrike">
                <a:solidFill>
                  <a:srgbClr val="ffff00"/>
                </a:solidFill>
                <a:latin typeface="Arial"/>
                <a:ea typeface="Times New Roman"/>
              </a:rPr>
              <a:t>Решай</a:t>
            </a:r>
            <a:r>
              <a:rPr b="0" lang="ru-RU" sz="8000" spc="-1" strike="noStrike">
                <a:solidFill>
                  <a:srgbClr val="ffff00"/>
                </a:solidFill>
                <a:latin typeface="comic"/>
                <a:ea typeface="Times New Roman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comic"/>
                <a:ea typeface="Times New Roman"/>
              </a:rPr>
              <a:t> </a:t>
            </a:r>
            <a:r>
              <a:rPr b="0" lang="ru-RU" sz="8000" spc="-1" strike="noStrike">
                <a:solidFill>
                  <a:srgbClr val="ffff00"/>
                </a:solidFill>
                <a:latin typeface="Arial"/>
                <a:ea typeface="Times New Roman"/>
              </a:rPr>
              <a:t>Отгадывай</a:t>
            </a:r>
            <a:r>
              <a:rPr b="0" lang="ru-RU" sz="8000" spc="-1" strike="noStrike">
                <a:solidFill>
                  <a:srgbClr val="ffff00"/>
                </a:solidFill>
                <a:latin typeface="comic"/>
                <a:ea typeface="Times New Roman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F:\1.jpeg"/>
          <p:cNvPicPr/>
          <p:nvPr/>
        </p:nvPicPr>
        <p:blipFill>
          <a:blip r:embed="rId2"/>
          <a:stretch/>
        </p:blipFill>
        <p:spPr>
          <a:xfrm>
            <a:off x="214200" y="2786040"/>
            <a:ext cx="2046240" cy="2000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2"/>
          <a:stretch/>
        </p:blipFill>
        <p:spPr>
          <a:xfrm>
            <a:off x="420840" y="420840"/>
            <a:ext cx="8242200" cy="1188720"/>
          </a:xfrm>
          <a:prstGeom prst="rect">
            <a:avLst/>
          </a:prstGeom>
          <a:ln w="0">
            <a:noFill/>
          </a:ln>
        </p:spPr>
      </p:pic>
      <p:grpSp>
        <p:nvGrpSpPr>
          <p:cNvPr id="242" name="Group 2"/>
          <p:cNvGrpSpPr/>
          <p:nvPr/>
        </p:nvGrpSpPr>
        <p:grpSpPr>
          <a:xfrm>
            <a:off x="357120" y="1571760"/>
            <a:ext cx="8000640" cy="3929040"/>
            <a:chOff x="357120" y="1571760"/>
            <a:chExt cx="8000640" cy="3929040"/>
          </a:xfrm>
        </p:grpSpPr>
        <p:sp>
          <p:nvSpPr>
            <p:cNvPr id="243" name="Oval 4"/>
            <p:cNvSpPr/>
            <p:nvPr/>
          </p:nvSpPr>
          <p:spPr>
            <a:xfrm>
              <a:off x="5304960" y="2171520"/>
              <a:ext cx="2809080" cy="233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5"/>
            <p:cNvSpPr/>
            <p:nvPr/>
          </p:nvSpPr>
          <p:spPr>
            <a:xfrm>
              <a:off x="5909760" y="2860920"/>
              <a:ext cx="2448000" cy="10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/…..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6"/>
            <p:cNvSpPr/>
            <p:nvPr/>
          </p:nvSpPr>
          <p:spPr>
            <a:xfrm>
              <a:off x="357120" y="1571760"/>
              <a:ext cx="138024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ВЕ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МЕ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СЕ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НИ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7"/>
            <p:cNvSpPr/>
            <p:nvPr/>
          </p:nvSpPr>
          <p:spPr>
            <a:xfrm>
              <a:off x="1714680" y="3215160"/>
              <a:ext cx="35010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8"/>
            <p:cNvSpPr/>
            <p:nvPr/>
          </p:nvSpPr>
          <p:spPr>
            <a:xfrm flipV="1">
              <a:off x="1857600" y="4142880"/>
              <a:ext cx="3600720" cy="121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9"/>
            <p:cNvSpPr/>
            <p:nvPr/>
          </p:nvSpPr>
          <p:spPr>
            <a:xfrm flipV="1">
              <a:off x="1714680" y="3642480"/>
              <a:ext cx="3547080" cy="74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0"/>
            <p:cNvSpPr/>
            <p:nvPr/>
          </p:nvSpPr>
          <p:spPr>
            <a:xfrm>
              <a:off x="1589040" y="2010960"/>
              <a:ext cx="3672720" cy="87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Box 12"/>
          <p:cNvSpPr/>
          <p:nvPr/>
        </p:nvSpPr>
        <p:spPr>
          <a:xfrm>
            <a:off x="5076360" y="578628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т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2" descr="F:\2.jpeg"/>
          <p:cNvPicPr/>
          <p:nvPr/>
        </p:nvPicPr>
        <p:blipFill>
          <a:blip r:embed="rId3"/>
          <a:stretch/>
        </p:blipFill>
        <p:spPr>
          <a:xfrm>
            <a:off x="3000240" y="5214960"/>
            <a:ext cx="1495440" cy="1568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Найти неизвестное число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57120" y="1714680"/>
          <a:ext cx="8229600" cy="3429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1108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х – 2 = 58</a:t>
                      </a: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 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х + 3 = 13</a:t>
                      </a: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792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– х = 4</a:t>
                      </a: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х – 1 = 23</a:t>
                      </a: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Text Box 3"/>
          <p:cNvSpPr/>
          <p:nvPr/>
        </p:nvSpPr>
        <p:spPr>
          <a:xfrm>
            <a:off x="911160" y="565200"/>
            <a:ext cx="1143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1254240" y="714240"/>
            <a:ext cx="10285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вал 7"/>
          <p:cNvSpPr/>
          <p:nvPr/>
        </p:nvSpPr>
        <p:spPr>
          <a:xfrm>
            <a:off x="3643200" y="1714680"/>
            <a:ext cx="1771920" cy="1128600"/>
          </a:xfrm>
          <a:prstGeom prst="ellipse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8"/>
          <p:cNvSpPr/>
          <p:nvPr/>
        </p:nvSpPr>
        <p:spPr>
          <a:xfrm>
            <a:off x="4071960" y="3714840"/>
            <a:ext cx="785880" cy="714240"/>
          </a:xfrm>
          <a:prstGeom prst="ellipse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9"/>
          <p:cNvSpPr/>
          <p:nvPr/>
        </p:nvSpPr>
        <p:spPr>
          <a:xfrm>
            <a:off x="29160" y="5214960"/>
            <a:ext cx="871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Корень уравнения, записанного слева – числитель искомой дроб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Корень уравнения, записанного справа – ее знаменат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6" descr="F:\18.jpeg"/>
          <p:cNvPicPr/>
          <p:nvPr/>
        </p:nvPicPr>
        <p:blipFill>
          <a:blip r:embed="rId2"/>
          <a:stretch/>
        </p:blipFill>
        <p:spPr>
          <a:xfrm>
            <a:off x="7000920" y="5572080"/>
            <a:ext cx="1585800" cy="1189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Найти неизвестное число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457200" y="2498760"/>
          <a:ext cx="8229600" cy="2378160"/>
        </p:xfrm>
        <a:graphic>
          <a:graphicData uri="http://schemas.openxmlformats.org/drawingml/2006/table">
            <a:tbl>
              <a:tblPr/>
              <a:tblGrid>
                <a:gridCol w="3338640"/>
                <a:gridCol w="3087720"/>
                <a:gridCol w="1803240"/>
              </a:tblGrid>
              <a:tr h="118908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en-US" sz="6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6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°</a:t>
                      </a:r>
                      <a:endParaRPr b="0" lang="en-US" sz="6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r>
                        <a:rPr b="1" lang="en-US" sz="6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6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6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2" name="Группа 15"/>
          <p:cNvGrpSpPr/>
          <p:nvPr/>
        </p:nvGrpSpPr>
        <p:grpSpPr>
          <a:xfrm>
            <a:off x="357120" y="1357200"/>
            <a:ext cx="3786120" cy="4643640"/>
            <a:chOff x="357120" y="1357200"/>
            <a:chExt cx="3786120" cy="4643640"/>
          </a:xfrm>
        </p:grpSpPr>
        <p:grpSp>
          <p:nvGrpSpPr>
            <p:cNvPr id="263" name="Group 6"/>
            <p:cNvGrpSpPr/>
            <p:nvPr/>
          </p:nvGrpSpPr>
          <p:grpSpPr>
            <a:xfrm>
              <a:off x="357120" y="1357200"/>
              <a:ext cx="3772080" cy="2286000"/>
              <a:chOff x="357120" y="1357200"/>
              <a:chExt cx="3772080" cy="2286000"/>
            </a:xfrm>
          </p:grpSpPr>
          <p:sp>
            <p:nvSpPr>
              <p:cNvPr id="264" name="AutoShape 9"/>
              <p:cNvSpPr/>
              <p:nvPr/>
            </p:nvSpPr>
            <p:spPr>
              <a:xfrm>
                <a:off x="357120" y="1357200"/>
                <a:ext cx="3772080" cy="22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8"/>
              <p:cNvSpPr/>
              <p:nvPr/>
            </p:nvSpPr>
            <p:spPr>
              <a:xfrm>
                <a:off x="2185920" y="3071880"/>
                <a:ext cx="114120" cy="11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7"/>
              <p:cNvSpPr/>
              <p:nvPr/>
            </p:nvSpPr>
            <p:spPr>
              <a:xfrm>
                <a:off x="820800" y="3141720"/>
                <a:ext cx="308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1"/>
            <p:cNvGrpSpPr/>
            <p:nvPr/>
          </p:nvGrpSpPr>
          <p:grpSpPr>
            <a:xfrm>
              <a:off x="642600" y="4000680"/>
              <a:ext cx="3500640" cy="2000160"/>
              <a:chOff x="642600" y="4000680"/>
              <a:chExt cx="3500640" cy="2000160"/>
            </a:xfrm>
          </p:grpSpPr>
          <p:sp>
            <p:nvSpPr>
              <p:cNvPr id="268" name="AutoShape 5"/>
              <p:cNvSpPr/>
              <p:nvPr/>
            </p:nvSpPr>
            <p:spPr>
              <a:xfrm>
                <a:off x="642600" y="4997520"/>
                <a:ext cx="3500640" cy="100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4"/>
              <p:cNvSpPr/>
              <p:nvPr/>
            </p:nvSpPr>
            <p:spPr>
              <a:xfrm>
                <a:off x="974160" y="4000680"/>
                <a:ext cx="0" cy="752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3"/>
              <p:cNvSpPr/>
              <p:nvPr/>
            </p:nvSpPr>
            <p:spPr>
              <a:xfrm>
                <a:off x="1016280" y="4753080"/>
                <a:ext cx="2439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2"/>
              <p:cNvSpPr/>
              <p:nvPr/>
            </p:nvSpPr>
            <p:spPr>
              <a:xfrm>
                <a:off x="1016280" y="4702680"/>
                <a:ext cx="105840" cy="5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TextBox 13"/>
          <p:cNvSpPr/>
          <p:nvPr/>
        </p:nvSpPr>
        <p:spPr>
          <a:xfrm>
            <a:off x="4286160" y="5072040"/>
            <a:ext cx="15526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5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0" descr="F:\8.jpeg"/>
          <p:cNvPicPr/>
          <p:nvPr/>
        </p:nvPicPr>
        <p:blipFill>
          <a:blip r:embed="rId2"/>
          <a:stretch/>
        </p:blipFill>
        <p:spPr>
          <a:xfrm>
            <a:off x="2000160" y="5214960"/>
            <a:ext cx="1428840" cy="130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Найти неизвестное число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57200" y="2143080"/>
          <a:ext cx="8229600" cy="3786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89396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216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76" name="Object 9"/>
              <p:cNvSpPr txBox="1"/>
              <p:nvPr/>
            </p:nvSpPr>
            <p:spPr>
              <a:xfrm>
                <a:off x="1285920" y="1928880"/>
                <a:ext cx="7142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8"/>
              <p:cNvSpPr txBox="1"/>
              <p:nvPr/>
            </p:nvSpPr>
            <p:spPr>
              <a:xfrm>
                <a:off x="3071880" y="2000160"/>
                <a:ext cx="857160" cy="12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3"/>
              <p:cNvSpPr txBox="1"/>
              <p:nvPr/>
            </p:nvSpPr>
            <p:spPr>
              <a:xfrm>
                <a:off x="1143000" y="3857760"/>
                <a:ext cx="7621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3143160" y="3857760"/>
                <a:ext cx="6429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Прямоугольник 14"/>
          <p:cNvSpPr/>
          <p:nvPr/>
        </p:nvSpPr>
        <p:spPr>
          <a:xfrm>
            <a:off x="785880" y="5572080"/>
            <a:ext cx="729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лощадь квадрата, сторона которого – корень данного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Группа 11"/>
          <p:cNvGrpSpPr/>
          <p:nvPr/>
        </p:nvGrpSpPr>
        <p:grpSpPr>
          <a:xfrm>
            <a:off x="6143760" y="2071800"/>
            <a:ext cx="928440" cy="2928960"/>
            <a:chOff x="6143760" y="2071800"/>
            <a:chExt cx="928440" cy="2928960"/>
          </a:xfrm>
        </p:grpSpPr>
        <p:sp>
          <p:nvSpPr>
            <p:cNvPr id="282" name="Прямоугольник 15"/>
            <p:cNvSpPr/>
            <p:nvPr/>
          </p:nvSpPr>
          <p:spPr>
            <a:xfrm>
              <a:off x="6143760" y="2071800"/>
              <a:ext cx="928440" cy="928800"/>
            </a:xfrm>
            <a:prstGeom prst="rect">
              <a:avLst/>
            </a:prstGeom>
            <a:noFill/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Прямоугольник 16"/>
            <p:cNvSpPr/>
            <p:nvPr/>
          </p:nvSpPr>
          <p:spPr>
            <a:xfrm>
              <a:off x="6286320" y="4286520"/>
              <a:ext cx="714240" cy="714240"/>
            </a:xfrm>
            <a:prstGeom prst="rect">
              <a:avLst/>
            </a:prstGeom>
            <a:noFill/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Picture 15" descr="F:\19.jpeg"/>
          <p:cNvPicPr/>
          <p:nvPr/>
        </p:nvPicPr>
        <p:blipFill>
          <a:blip r:embed="rId2"/>
          <a:stretch/>
        </p:blipFill>
        <p:spPr>
          <a:xfrm>
            <a:off x="285840" y="500040"/>
            <a:ext cx="1152360" cy="14191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Найти неизвестное слово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457200" y="1427040"/>
          <a:ext cx="8229600" cy="4523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55880">
                <a:tc gridSpan="2"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</a:t>
                      </a:r>
                      <a:endParaRPr b="0" lang="en-US" sz="6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276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≤ х &lt; 4</a:t>
                      </a:r>
                      <a:endParaRPr b="0" lang="en-US" sz="6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&lt; х &lt; 7</a:t>
                      </a:r>
                      <a:endParaRPr b="0" lang="en-US" sz="6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&lt; х &lt; 4</a:t>
                      </a:r>
                      <a:endParaRPr b="0" lang="en-US" sz="6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6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 &gt; 7</a:t>
                      </a:r>
                      <a:endParaRPr b="0" lang="en-US" sz="6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5440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П</a:t>
                      </a:r>
                      <a:endParaRPr b="0" lang="en-US" sz="6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6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7" name="Группа 7"/>
          <p:cNvGrpSpPr/>
          <p:nvPr/>
        </p:nvGrpSpPr>
        <p:grpSpPr>
          <a:xfrm>
            <a:off x="2500200" y="2357280"/>
            <a:ext cx="4229280" cy="457200"/>
            <a:chOff x="2500200" y="2357280"/>
            <a:chExt cx="4229280" cy="457200"/>
          </a:xfrm>
        </p:grpSpPr>
        <p:sp>
          <p:nvSpPr>
            <p:cNvPr id="288" name="Line 3"/>
            <p:cNvSpPr/>
            <p:nvPr/>
          </p:nvSpPr>
          <p:spPr>
            <a:xfrm flipH="1">
              <a:off x="2500200" y="235728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4"/>
            <p:cNvSpPr/>
            <p:nvPr/>
          </p:nvSpPr>
          <p:spPr>
            <a:xfrm>
              <a:off x="5929560" y="2357280"/>
              <a:ext cx="799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Box 8"/>
          <p:cNvSpPr/>
          <p:nvPr/>
        </p:nvSpPr>
        <p:spPr>
          <a:xfrm>
            <a:off x="357120" y="5533920"/>
            <a:ext cx="7858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РАП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Множество натуральных чисел не больших 9 и входящих в данные числовые промежутки: 2, 3, 6, 7, 8, 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Из данного слова использовать 2, 3, 6, 7, 8, 9 бук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2" descr="F:\23.jpeg"/>
          <p:cNvPicPr/>
          <p:nvPr/>
        </p:nvPicPr>
        <p:blipFill>
          <a:blip r:embed="rId2"/>
          <a:stretch/>
        </p:blipFill>
        <p:spPr>
          <a:xfrm>
            <a:off x="7886880" y="4643280"/>
            <a:ext cx="1257120" cy="1905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Найти неизвестное число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57200" y="1790640"/>
          <a:ext cx="8229600" cy="3794040"/>
        </p:xfrm>
        <a:graphic>
          <a:graphicData uri="http://schemas.openxmlformats.org/drawingml/2006/table">
            <a:tbl>
              <a:tblPr/>
              <a:tblGrid>
                <a:gridCol w="2567160"/>
                <a:gridCol w="3376440"/>
                <a:gridCol w="2286000"/>
              </a:tblGrid>
              <a:tr h="189720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К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х – 5 =47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684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ЧА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– 7х = ?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ЧА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TextBox 4"/>
          <p:cNvSpPr/>
          <p:nvPr/>
        </p:nvSpPr>
        <p:spPr>
          <a:xfrm>
            <a:off x="1071720" y="542916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лово ДАЧА составлено из слова УДАЧА исключением первой букв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Корень уравнения, записанного во второй строке задания равен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1" descr="F:\22.jpeg"/>
          <p:cNvPicPr/>
          <p:nvPr/>
        </p:nvPicPr>
        <p:blipFill>
          <a:blip r:embed="rId2"/>
          <a:stretch/>
        </p:blipFill>
        <p:spPr>
          <a:xfrm>
            <a:off x="214200" y="214200"/>
            <a:ext cx="1357560" cy="1121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Какое из данных чисел следует выбрать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57200" y="1681200"/>
          <a:ext cx="8229600" cy="4013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99280">
                <a:tc rowSpan="2"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41</a:t>
                      </a: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547</a:t>
                      </a: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ТА</a:t>
                      </a:r>
                      <a:endParaRPr b="0" lang="en-US" sz="5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547</a:t>
                      </a:r>
                      <a:endParaRPr b="0" lang="en-US" sz="5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</a:t>
                      </a:r>
                      <a:endParaRPr b="0" lang="en-US" sz="5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5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 Box 1"/>
          <p:cNvSpPr/>
          <p:nvPr/>
        </p:nvSpPr>
        <p:spPr>
          <a:xfrm>
            <a:off x="274680" y="878040"/>
            <a:ext cx="262872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Овал 5"/>
          <p:cNvSpPr/>
          <p:nvPr/>
        </p:nvSpPr>
        <p:spPr>
          <a:xfrm>
            <a:off x="1000080" y="1571760"/>
            <a:ext cx="1714680" cy="4357440"/>
          </a:xfrm>
          <a:prstGeom prst="ellipse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6"/>
          <p:cNvSpPr/>
          <p:nvPr/>
        </p:nvSpPr>
        <p:spPr>
          <a:xfrm>
            <a:off x="1382400" y="6000840"/>
            <a:ext cx="470412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лово КИТ состоит из трех бук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Из данных чисел выбираем трехзначное чис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2" descr="F:\24.jpeg"/>
          <p:cNvPicPr/>
          <p:nvPr/>
        </p:nvPicPr>
        <p:blipFill>
          <a:blip r:embed="rId2"/>
          <a:stretch/>
        </p:blipFill>
        <p:spPr>
          <a:xfrm>
            <a:off x="6651720" y="5214960"/>
            <a:ext cx="1706400" cy="1285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2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13840" y="928440"/>
            <a:ext cx="85726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Молодцы!!!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3" name="Picture 4" descr="F:\14.jpeg"/>
          <p:cNvPicPr/>
          <p:nvPr/>
        </p:nvPicPr>
        <p:blipFill>
          <a:blip r:embed="rId2"/>
          <a:stretch/>
        </p:blipFill>
        <p:spPr>
          <a:xfrm>
            <a:off x="3214800" y="4143240"/>
            <a:ext cx="2143080" cy="2129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2"/>
          <a:stretch/>
        </p:blipFill>
        <p:spPr>
          <a:xfrm>
            <a:off x="378000" y="701640"/>
            <a:ext cx="8412120" cy="11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457200" y="1981080"/>
          <a:ext cx="8229600" cy="3414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561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</a:t>
                      </a:r>
                      <a:endParaRPr b="0" lang="en-US" sz="7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</a:t>
                      </a:r>
                      <a:endParaRPr b="0" lang="en-US" sz="7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5884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68 </a:t>
                      </a:r>
                      <a:endParaRPr b="0" lang="en-US" sz="7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7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TextBox 7"/>
          <p:cNvSpPr/>
          <p:nvPr/>
        </p:nvSpPr>
        <p:spPr>
          <a:xfrm>
            <a:off x="249120" y="5500800"/>
            <a:ext cx="825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67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Число, составленное из цифр данного, но записанных в обратном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1" descr="F:\10.jpeg"/>
          <p:cNvPicPr/>
          <p:nvPr/>
        </p:nvPicPr>
        <p:blipFill>
          <a:blip r:embed="rId3"/>
          <a:stretch/>
        </p:blipFill>
        <p:spPr>
          <a:xfrm>
            <a:off x="642960" y="214200"/>
            <a:ext cx="1285920" cy="9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457200" y="2522520"/>
          <a:ext cx="8229600" cy="2322360"/>
        </p:xfrm>
        <a:graphic>
          <a:graphicData uri="http://schemas.openxmlformats.org/drawingml/2006/table">
            <a:tbl>
              <a:tblPr/>
              <a:tblGrid>
                <a:gridCol w="2165400"/>
                <a:gridCol w="2411280"/>
                <a:gridCol w="3114720"/>
                <a:gridCol w="538200"/>
              </a:tblGrid>
              <a:tr h="154476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ЬЮГ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НОКЛ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23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32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96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9" name="Rectangle 1" descr=""/>
          <p:cNvPicPr/>
          <p:nvPr/>
        </p:nvPicPr>
        <p:blipFill>
          <a:blip r:embed="rId2"/>
          <a:stretch/>
        </p:blipFill>
        <p:spPr>
          <a:xfrm>
            <a:off x="1133640" y="208080"/>
            <a:ext cx="6370560" cy="25653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5"/>
          <p:cNvSpPr/>
          <p:nvPr/>
        </p:nvSpPr>
        <p:spPr>
          <a:xfrm>
            <a:off x="1305720" y="5643720"/>
            <a:ext cx="56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Число, составленное из общих цифр данных чи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7" descr="F:\2.jpeg"/>
          <p:cNvPicPr/>
          <p:nvPr/>
        </p:nvPicPr>
        <p:blipFill>
          <a:blip r:embed="rId3"/>
          <a:stretch/>
        </p:blipFill>
        <p:spPr>
          <a:xfrm>
            <a:off x="0" y="5143680"/>
            <a:ext cx="1352520" cy="1419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242560" cy="11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571680" y="2428920"/>
          <a:ext cx="8229600" cy="3243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69848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ТОК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&gt; 3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476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ЕЛ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&lt; 5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TextBox 5"/>
          <p:cNvSpPr/>
          <p:nvPr/>
        </p:nvSpPr>
        <p:spPr>
          <a:xfrm>
            <a:off x="1304280" y="5572080"/>
            <a:ext cx="60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лово, составленное из первых четырех букв дан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1" descr="F:\11.jpeg"/>
          <p:cNvPicPr/>
          <p:nvPr/>
        </p:nvPicPr>
        <p:blipFill>
          <a:blip r:embed="rId3"/>
          <a:stretch/>
        </p:blipFill>
        <p:spPr>
          <a:xfrm>
            <a:off x="7500960" y="5057640"/>
            <a:ext cx="1214280" cy="145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242560" cy="11876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928800" y="2286000"/>
          <a:ext cx="6548400" cy="2400480"/>
        </p:xfrm>
        <a:graphic>
          <a:graphicData uri="http://schemas.openxmlformats.org/drawingml/2006/table">
            <a:tbl>
              <a:tblPr/>
              <a:tblGrid>
                <a:gridCol w="2182680"/>
                <a:gridCol w="2182680"/>
                <a:gridCol w="2183040"/>
              </a:tblGrid>
              <a:tr h="125748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М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Т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Т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4300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Box 4"/>
          <p:cNvSpPr/>
          <p:nvPr/>
        </p:nvSpPr>
        <p:spPr>
          <a:xfrm>
            <a:off x="3506400" y="5715000"/>
            <a:ext cx="168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4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2" descr="F:\6.jpeg"/>
          <p:cNvPicPr/>
          <p:nvPr/>
        </p:nvPicPr>
        <p:blipFill>
          <a:blip r:embed="rId3"/>
          <a:stretch/>
        </p:blipFill>
        <p:spPr>
          <a:xfrm>
            <a:off x="7715160" y="2714760"/>
            <a:ext cx="1204920" cy="2000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3" descr=""/>
          <p:cNvPicPr/>
          <p:nvPr/>
        </p:nvPicPr>
        <p:blipFill>
          <a:blip r:embed="rId2"/>
          <a:stretch/>
        </p:blipFill>
        <p:spPr>
          <a:xfrm>
            <a:off x="281160" y="743040"/>
            <a:ext cx="8843760" cy="14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457200" y="2522520"/>
          <a:ext cx="8229600" cy="2332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7760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 21, 22, 23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724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 7, 8, 9, 10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724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 2, 4, 6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TextBox 6"/>
          <p:cNvSpPr/>
          <p:nvPr/>
        </p:nvSpPr>
        <p:spPr>
          <a:xfrm>
            <a:off x="730440" y="5357880"/>
            <a:ext cx="395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з данных чисел выбрано прост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1" descr="F:\12.jpeg"/>
          <p:cNvPicPr/>
          <p:nvPr/>
        </p:nvPicPr>
        <p:blipFill>
          <a:blip r:embed="rId3"/>
          <a:stretch/>
        </p:blipFill>
        <p:spPr>
          <a:xfrm>
            <a:off x="7072200" y="4714920"/>
            <a:ext cx="1357560" cy="142236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2"/>
          <a:stretch/>
        </p:blipFill>
        <p:spPr>
          <a:xfrm>
            <a:off x="176040" y="701640"/>
            <a:ext cx="8809200" cy="11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457200" y="2757600"/>
          <a:ext cx="8229600" cy="1858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2952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ТА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РЕК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952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&lt; 6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&gt; 4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TextBox 4"/>
          <p:cNvSpPr/>
          <p:nvPr/>
        </p:nvSpPr>
        <p:spPr>
          <a:xfrm>
            <a:off x="326880" y="5286240"/>
            <a:ext cx="740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Целое число, находящееся в общей части данных неравен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2" descr="F:\14.jpeg"/>
          <p:cNvPicPr/>
          <p:nvPr/>
        </p:nvPicPr>
        <p:blipFill>
          <a:blip r:embed="rId3"/>
          <a:stretch/>
        </p:blipFill>
        <p:spPr>
          <a:xfrm>
            <a:off x="6877080" y="4508640"/>
            <a:ext cx="1909800" cy="21970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Найти неизвестное число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28760" y="1928880"/>
          <a:ext cx="8229600" cy="3581280"/>
        </p:xfrm>
        <a:graphic>
          <a:graphicData uri="http://schemas.openxmlformats.org/drawingml/2006/table">
            <a:tbl>
              <a:tblPr/>
              <a:tblGrid>
                <a:gridCol w="2025360"/>
                <a:gridCol w="3102120"/>
                <a:gridCol w="3102120"/>
              </a:tblGrid>
              <a:tr h="861480">
                <a:tc rowSpan="3"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х – 7 = 29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– 2х = 15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К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+ 5х = ?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Text Box 1"/>
          <p:cNvSpPr/>
          <p:nvPr/>
        </p:nvSpPr>
        <p:spPr>
          <a:xfrm>
            <a:off x="142920" y="2000160"/>
            <a:ext cx="297180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"/>
          <p:cNvSpPr/>
          <p:nvPr/>
        </p:nvSpPr>
        <p:spPr>
          <a:xfrm flipV="1">
            <a:off x="2286000" y="2214720"/>
            <a:ext cx="125748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"/>
          <p:cNvSpPr/>
          <p:nvPr/>
        </p:nvSpPr>
        <p:spPr>
          <a:xfrm>
            <a:off x="2286000" y="4071960"/>
            <a:ext cx="12574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2571840" y="350028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214200" y="5357880"/>
            <a:ext cx="8001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лово СОК получено из слова СТОК исключением второй букв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Корень уравнения в котором находится искомое число равен 2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7" descr="F:\15.jpeg"/>
          <p:cNvPicPr/>
          <p:nvPr/>
        </p:nvPicPr>
        <p:blipFill>
          <a:blip r:embed="rId2"/>
          <a:stretch/>
        </p:blipFill>
        <p:spPr>
          <a:xfrm>
            <a:off x="214200" y="1071720"/>
            <a:ext cx="1390680" cy="10382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242560" cy="11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457200" y="2201760"/>
          <a:ext cx="8229600" cy="2971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907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а -7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907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-2а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0640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а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5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TextBox 4"/>
          <p:cNvSpPr/>
          <p:nvPr/>
        </p:nvSpPr>
        <p:spPr>
          <a:xfrm>
            <a:off x="1029600" y="5500800"/>
            <a:ext cx="75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В слове ШКОЛА 5 букв. Найти значение выражения 30 - 3а при а =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5" descr="F:\17.jpeg"/>
          <p:cNvPicPr/>
          <p:nvPr/>
        </p:nvPicPr>
        <p:blipFill>
          <a:blip r:embed="rId3"/>
          <a:stretch/>
        </p:blipFill>
        <p:spPr>
          <a:xfrm>
            <a:off x="285840" y="73080"/>
            <a:ext cx="1214280" cy="1249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07:27:50Z</dcterms:created>
  <dc:creator>Olga</dc:creator>
  <dc:description/>
  <dc:language>en-US</dc:language>
  <cp:lastModifiedBy>Admin</cp:lastModifiedBy>
  <dcterms:modified xsi:type="dcterms:W3CDTF">2010-11-01T20:49:43Z</dcterms:modified>
  <cp:revision>31</cp:revision>
  <dc:subject/>
  <dc:title>Брейн – ринг «Думай! Решай! Отгадывай!»</dc:title>
</cp:coreProperties>
</file>