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A67-D198-4EDF-9497-B28A1ABC14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BF6-C45E-4735-A2F9-A0054CED7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244-F6C4-4661-B69E-78268062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97D-42C4-4F79-9161-65C1E21B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2AC-62E9-4843-B51C-1B2359FD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F7E-0363-4DFA-AF79-2C79AC8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1318-2392-4192-AF2D-3898375B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325-7E45-4D6E-AFC1-C85AEEB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B89E-CA60-4694-8F23-4A3732AA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0736-92A6-4EED-A4EC-13085AA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05F4-5F29-4CFC-9C35-CD39813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5CA-999D-4DFA-A0E0-4FE308B6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F4F-217A-4F2D-99F8-6AAEA36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4D6-0E8C-4215-AB48-511D525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352E-18E6-467D-9D5B-1A3B76B8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D672-8311-4542-843A-F629C458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80D4-A685-4871-A4C6-8149A13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2A65-51A1-4630-8090-31228EEE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B02-794D-495D-B922-C83B819D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E118-3002-400B-9D73-41669A95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FB0C-623B-4B7B-81C6-6540D315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2AD9-8DFB-435D-9EC3-C9C9761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3820-8543-4B7B-B81D-2148964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6EBE-FB6B-4CC0-96A7-937D0F7D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FDC-B7FC-4E88-86B8-BA1C6A4C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2A5B-EA99-4B37-A687-2B728A90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8B49-092D-4C20-8A70-5F373E2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18DE-3BAD-4B9B-B47F-686E6D4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5C5C-65FC-4D75-975C-4ABD2EB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05F6-5D8A-4168-9220-9652751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C65F-EE4F-4178-8463-5679DB55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9B85-2164-4CBA-8C6E-E906494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F0BC-E3EE-4B7E-91FC-2C1C0004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4C36-F89F-4AD0-82C9-31ACA3AC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4C93-698A-4BCC-A83E-3BAA3E7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1CE-AF15-45F9-8799-17D9EE3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C9E5-071B-4E74-97FF-D51F60A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18AF-00CA-4728-A414-AF5C1BA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A114-3DA6-4223-A27C-338ED0EA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8CE3-2197-4420-990E-64B2D9C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D834-80B5-4796-834D-00E2540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D4993-4B00-4EDD-90FE-2C8CE6E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FACB-509B-45FB-AA39-1980C2AB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26EB-E4C8-4541-B080-83509C5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9AF3-154F-427B-9D9D-1B82EF92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9E9-41F1-4960-A011-1951C5A9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85B-D354-4A37-AA1C-2E9693D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A1A-EECE-4436-8747-4F7CBAD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BAD-B33B-4DBE-B43C-0760488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3B0-89D8-4AF0-8439-6CB83F9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4AF-BF9F-4EA7-AF23-D144C9BDEC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5B3-BFED-43C1-B82E-95A6686CFB3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B44A-61AC-465C-BB17-170FC0F7109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8C7-3093-4252-AF64-65DA24D202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2988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Брейн</a:t>
            </a:r>
            <a:r>
              <a:rPr b="0" lang="ru-RU" sz="8000" spc="-1" strike="noStrike">
                <a:solidFill>
                  <a:srgbClr val="ff0000"/>
                </a:solidFill>
                <a:latin typeface="Harlow Solid Italic"/>
                <a:ea typeface="Times New Roman"/>
              </a:rPr>
              <a:t> – </a:t>
            </a:r>
            <a:r>
              <a:rPr b="0" lang="ru-RU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р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Дум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Реш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Отгадыв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F:\1.jpeg"/>
          <p:cNvPicPr/>
          <p:nvPr/>
        </p:nvPicPr>
        <p:blipFill>
          <a:blip r:embed="rId2"/>
          <a:stretch/>
        </p:blipFill>
        <p:spPr>
          <a:xfrm>
            <a:off x="214200" y="2786040"/>
            <a:ext cx="204624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11887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"/>
          <p:cNvGrpSpPr/>
          <p:nvPr/>
        </p:nvGrpSpPr>
        <p:grpSpPr>
          <a:xfrm>
            <a:off x="357120" y="1571760"/>
            <a:ext cx="8000640" cy="3929040"/>
            <a:chOff x="357120" y="1571760"/>
            <a:chExt cx="8000640" cy="3929040"/>
          </a:xfrm>
        </p:grpSpPr>
        <p:sp>
          <p:nvSpPr>
            <p:cNvPr id="243" name="Oval 4"/>
            <p:cNvSpPr/>
            <p:nvPr/>
          </p:nvSpPr>
          <p:spPr>
            <a:xfrm>
              <a:off x="5304960" y="2171520"/>
              <a:ext cx="2809080" cy="233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"/>
            <p:cNvSpPr/>
            <p:nvPr/>
          </p:nvSpPr>
          <p:spPr>
            <a:xfrm>
              <a:off x="5909760" y="2860920"/>
              <a:ext cx="244800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/…..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357120" y="1571760"/>
              <a:ext cx="1380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М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Н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1714680" y="3215160"/>
              <a:ext cx="3501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 flipV="1">
              <a:off x="1857600" y="4142880"/>
              <a:ext cx="360072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 flipV="1">
              <a:off x="1714680" y="3642480"/>
              <a:ext cx="354708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1589040" y="2010960"/>
              <a:ext cx="3672720" cy="87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5076360" y="5786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F:\2.jpeg"/>
          <p:cNvPicPr/>
          <p:nvPr/>
        </p:nvPicPr>
        <p:blipFill>
          <a:blip r:embed="rId3"/>
          <a:stretch/>
        </p:blipFill>
        <p:spPr>
          <a:xfrm>
            <a:off x="3000240" y="5214960"/>
            <a:ext cx="1495440" cy="15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57120" y="1714680"/>
          <a:ext cx="8229600" cy="3429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11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 – 2 = 58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 + 3 = 13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9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х = 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х – 1 = 23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3"/>
          <p:cNvSpPr/>
          <p:nvPr/>
        </p:nvSpPr>
        <p:spPr>
          <a:xfrm>
            <a:off x="911160" y="565200"/>
            <a:ext cx="1143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254240" y="714240"/>
            <a:ext cx="10285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3643200" y="1714680"/>
            <a:ext cx="1771920" cy="112860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4071960" y="3714840"/>
            <a:ext cx="785880" cy="71424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29160" y="5214960"/>
            <a:ext cx="871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Корень уравнения, записанного слева – числитель искомой др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, записанного справа – ее знамен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6" descr="F:\18.jpeg"/>
          <p:cNvPicPr/>
          <p:nvPr/>
        </p:nvPicPr>
        <p:blipFill>
          <a:blip r:embed="rId2"/>
          <a:stretch/>
        </p:blipFill>
        <p:spPr>
          <a:xfrm>
            <a:off x="7000920" y="5572080"/>
            <a:ext cx="1585800" cy="1189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498760"/>
          <a:ext cx="8229600" cy="2378160"/>
        </p:xfrm>
        <a:graphic>
          <a:graphicData uri="http://schemas.openxmlformats.org/drawingml/2006/table">
            <a:tbl>
              <a:tblPr/>
              <a:tblGrid>
                <a:gridCol w="3338640"/>
                <a:gridCol w="3087720"/>
                <a:gridCol w="1803240"/>
              </a:tblGrid>
              <a:tr h="1189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°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Группа 15"/>
          <p:cNvGrpSpPr/>
          <p:nvPr/>
        </p:nvGrpSpPr>
        <p:grpSpPr>
          <a:xfrm>
            <a:off x="357120" y="1357200"/>
            <a:ext cx="3786120" cy="4643640"/>
            <a:chOff x="357120" y="1357200"/>
            <a:chExt cx="3786120" cy="4643640"/>
          </a:xfrm>
        </p:grpSpPr>
        <p:grpSp>
          <p:nvGrpSpPr>
            <p:cNvPr id="263" name="Group 6"/>
            <p:cNvGrpSpPr/>
            <p:nvPr/>
          </p:nvGrpSpPr>
          <p:grpSpPr>
            <a:xfrm>
              <a:off x="357120" y="1357200"/>
              <a:ext cx="3772080" cy="2286000"/>
              <a:chOff x="357120" y="1357200"/>
              <a:chExt cx="3772080" cy="2286000"/>
            </a:xfrm>
          </p:grpSpPr>
          <p:sp>
            <p:nvSpPr>
              <p:cNvPr id="264" name="AutoShape 9"/>
              <p:cNvSpPr/>
              <p:nvPr/>
            </p:nvSpPr>
            <p:spPr>
              <a:xfrm>
                <a:off x="357120" y="1357200"/>
                <a:ext cx="377208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8"/>
              <p:cNvSpPr/>
              <p:nvPr/>
            </p:nvSpPr>
            <p:spPr>
              <a:xfrm>
                <a:off x="2185920" y="307188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"/>
              <p:cNvSpPr/>
              <p:nvPr/>
            </p:nvSpPr>
            <p:spPr>
              <a:xfrm>
                <a:off x="820800" y="3141720"/>
                <a:ext cx="308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"/>
            <p:cNvGrpSpPr/>
            <p:nvPr/>
          </p:nvGrpSpPr>
          <p:grpSpPr>
            <a:xfrm>
              <a:off x="642600" y="4000680"/>
              <a:ext cx="3500640" cy="2000160"/>
              <a:chOff x="642600" y="4000680"/>
              <a:chExt cx="3500640" cy="2000160"/>
            </a:xfrm>
          </p:grpSpPr>
          <p:sp>
            <p:nvSpPr>
              <p:cNvPr id="268" name="AutoShape 5"/>
              <p:cNvSpPr/>
              <p:nvPr/>
            </p:nvSpPr>
            <p:spPr>
              <a:xfrm>
                <a:off x="642600" y="4997520"/>
                <a:ext cx="3500640" cy="10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4"/>
              <p:cNvSpPr/>
              <p:nvPr/>
            </p:nvSpPr>
            <p:spPr>
              <a:xfrm>
                <a:off x="974160" y="4000680"/>
                <a:ext cx="0" cy="75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"/>
              <p:cNvSpPr/>
              <p:nvPr/>
            </p:nvSpPr>
            <p:spPr>
              <a:xfrm>
                <a:off x="1016280" y="4753080"/>
                <a:ext cx="24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"/>
              <p:cNvSpPr/>
              <p:nvPr/>
            </p:nvSpPr>
            <p:spPr>
              <a:xfrm>
                <a:off x="1016280" y="4702680"/>
                <a:ext cx="105840" cy="5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Box 13"/>
          <p:cNvSpPr/>
          <p:nvPr/>
        </p:nvSpPr>
        <p:spPr>
          <a:xfrm>
            <a:off x="4286160" y="5072040"/>
            <a:ext cx="15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0" descr="F:\8.jpeg"/>
          <p:cNvPicPr/>
          <p:nvPr/>
        </p:nvPicPr>
        <p:blipFill>
          <a:blip r:embed="rId2"/>
          <a:stretch/>
        </p:blipFill>
        <p:spPr>
          <a:xfrm>
            <a:off x="2000160" y="521496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2143080"/>
          <a:ext cx="8229600" cy="378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939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1285920" y="1928880"/>
                <a:ext cx="7142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8"/>
              <p:cNvSpPr txBox="1"/>
              <p:nvPr/>
            </p:nvSpPr>
            <p:spPr>
              <a:xfrm>
                <a:off x="3071880" y="2000160"/>
                <a:ext cx="8571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43000" y="3857760"/>
                <a:ext cx="7621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143160" y="3857760"/>
                <a:ext cx="642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Прямоугольник 14"/>
          <p:cNvSpPr/>
          <p:nvPr/>
        </p:nvSpPr>
        <p:spPr>
          <a:xfrm>
            <a:off x="785880" y="557208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лощадь квадрата, сторона которого – корень данного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11"/>
          <p:cNvGrpSpPr/>
          <p:nvPr/>
        </p:nvGrpSpPr>
        <p:grpSpPr>
          <a:xfrm>
            <a:off x="6143760" y="2071800"/>
            <a:ext cx="928440" cy="2928960"/>
            <a:chOff x="6143760" y="2071800"/>
            <a:chExt cx="928440" cy="2928960"/>
          </a:xfrm>
        </p:grpSpPr>
        <p:sp>
          <p:nvSpPr>
            <p:cNvPr id="282" name="Прямоугольник 15"/>
            <p:cNvSpPr/>
            <p:nvPr/>
          </p:nvSpPr>
          <p:spPr>
            <a:xfrm>
              <a:off x="6143760" y="2071800"/>
              <a:ext cx="928440" cy="928800"/>
            </a:xfrm>
            <a:prstGeom prst="rect">
              <a:avLst/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оугольник 16"/>
            <p:cNvSpPr/>
            <p:nvPr/>
          </p:nvSpPr>
          <p:spPr>
            <a:xfrm>
              <a:off x="6286320" y="4286520"/>
              <a:ext cx="714240" cy="714240"/>
            </a:xfrm>
            <a:prstGeom prst="rect">
              <a:avLst/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Picture 15" descr="F:\19.jpeg"/>
          <p:cNvPicPr/>
          <p:nvPr/>
        </p:nvPicPr>
        <p:blipFill>
          <a:blip r:embed="rId2"/>
          <a:stretch/>
        </p:blipFill>
        <p:spPr>
          <a:xfrm>
            <a:off x="285840" y="500040"/>
            <a:ext cx="1152360" cy="1419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слов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" y="1427040"/>
          <a:ext cx="8229600" cy="452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5880">
                <a:tc gridSpan="2"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≤ х &lt; 4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&lt; х &lt; 7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&lt; х &lt; 4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 &gt; 7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44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П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7" name="Группа 7"/>
          <p:cNvGrpSpPr/>
          <p:nvPr/>
        </p:nvGrpSpPr>
        <p:grpSpPr>
          <a:xfrm>
            <a:off x="2500200" y="2357280"/>
            <a:ext cx="4229280" cy="457200"/>
            <a:chOff x="2500200" y="2357280"/>
            <a:chExt cx="4229280" cy="457200"/>
          </a:xfrm>
        </p:grpSpPr>
        <p:sp>
          <p:nvSpPr>
            <p:cNvPr id="288" name="Line 3"/>
            <p:cNvSpPr/>
            <p:nvPr/>
          </p:nvSpPr>
          <p:spPr>
            <a:xfrm flipH="1">
              <a:off x="2500200" y="2357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"/>
            <p:cNvSpPr/>
            <p:nvPr/>
          </p:nvSpPr>
          <p:spPr>
            <a:xfrm>
              <a:off x="5929560" y="2357280"/>
              <a:ext cx="799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8"/>
          <p:cNvSpPr/>
          <p:nvPr/>
        </p:nvSpPr>
        <p:spPr>
          <a:xfrm>
            <a:off x="357120" y="5533920"/>
            <a:ext cx="7858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о натуральных чисел не больших 9 и входящих в данные числовые промежутки: 2, 3, 6, 7, 8, 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слова использовать 2, 3, 6, 7, 8, 9 бу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F:\23.jpeg"/>
          <p:cNvPicPr/>
          <p:nvPr/>
        </p:nvPicPr>
        <p:blipFill>
          <a:blip r:embed="rId2"/>
          <a:stretch/>
        </p:blipFill>
        <p:spPr>
          <a:xfrm>
            <a:off x="7886880" y="4643280"/>
            <a:ext cx="1257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790640"/>
          <a:ext cx="8229600" cy="3794040"/>
        </p:xfrm>
        <a:graphic>
          <a:graphicData uri="http://schemas.openxmlformats.org/drawingml/2006/table">
            <a:tbl>
              <a:tblPr/>
              <a:tblGrid>
                <a:gridCol w="2567160"/>
                <a:gridCol w="3376440"/>
                <a:gridCol w="2286000"/>
              </a:tblGrid>
              <a:tr h="18972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х – 5 =47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68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Ч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7х = 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Ч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Box 4"/>
          <p:cNvSpPr/>
          <p:nvPr/>
        </p:nvSpPr>
        <p:spPr>
          <a:xfrm>
            <a:off x="1071720" y="54291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 ДАЧА составлено из слова УДАЧА исключением первой бук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, записанного во второй строке задания равен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1" descr="F:\22.jpeg"/>
          <p:cNvPicPr/>
          <p:nvPr/>
        </p:nvPicPr>
        <p:blipFill>
          <a:blip r:embed="rId2"/>
          <a:stretch/>
        </p:blipFill>
        <p:spPr>
          <a:xfrm>
            <a:off x="214200" y="214200"/>
            <a:ext cx="135756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акое из данных чисел следует выбра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681200"/>
          <a:ext cx="8229600" cy="401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9280">
                <a:tc rowSpan="2"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1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47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А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47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1"/>
          <p:cNvSpPr/>
          <p:nvPr/>
        </p:nvSpPr>
        <p:spPr>
          <a:xfrm>
            <a:off x="274680" y="878040"/>
            <a:ext cx="262872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5"/>
          <p:cNvSpPr/>
          <p:nvPr/>
        </p:nvSpPr>
        <p:spPr>
          <a:xfrm>
            <a:off x="1000080" y="1571760"/>
            <a:ext cx="1714680" cy="435744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382400" y="6000840"/>
            <a:ext cx="47041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лово КИТ состоит из трех бук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данных чисел выбираем трехзначное чис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2" descr="F:\24.jpeg"/>
          <p:cNvPicPr/>
          <p:nvPr/>
        </p:nvPicPr>
        <p:blipFill>
          <a:blip r:embed="rId2"/>
          <a:stretch/>
        </p:blipFill>
        <p:spPr>
          <a:xfrm>
            <a:off x="6651720" y="5214960"/>
            <a:ext cx="170640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13840" y="928440"/>
            <a:ext cx="8572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4" descr="F:\14.jpeg"/>
          <p:cNvPicPr/>
          <p:nvPr/>
        </p:nvPicPr>
        <p:blipFill>
          <a:blip r:embed="rId2"/>
          <a:stretch/>
        </p:blipFill>
        <p:spPr>
          <a:xfrm>
            <a:off x="3214800" y="4143240"/>
            <a:ext cx="2143080" cy="21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78000" y="701640"/>
            <a:ext cx="841212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57200" y="1981080"/>
          <a:ext cx="8229600" cy="341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561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884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8 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Box 7"/>
          <p:cNvSpPr/>
          <p:nvPr/>
        </p:nvSpPr>
        <p:spPr>
          <a:xfrm>
            <a:off x="249120" y="5500800"/>
            <a:ext cx="82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, составленное из цифр данного, но записанных в обрат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F:\10.jpeg"/>
          <p:cNvPicPr/>
          <p:nvPr/>
        </p:nvPicPr>
        <p:blipFill>
          <a:blip r:embed="rId3"/>
          <a:stretch/>
        </p:blipFill>
        <p:spPr>
          <a:xfrm>
            <a:off x="642960" y="214200"/>
            <a:ext cx="128592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57200" y="2522520"/>
          <a:ext cx="8229600" cy="2322360"/>
        </p:xfrm>
        <a:graphic>
          <a:graphicData uri="http://schemas.openxmlformats.org/drawingml/2006/table">
            <a:tbl>
              <a:tblPr/>
              <a:tblGrid>
                <a:gridCol w="2165400"/>
                <a:gridCol w="2411280"/>
                <a:gridCol w="3114720"/>
                <a:gridCol w="538200"/>
              </a:tblGrid>
              <a:tr h="1544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Г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НОКЛ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2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1133640" y="208080"/>
            <a:ext cx="6370560" cy="25653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1305720" y="564372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, составленное из общих цифр да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F:\2.jpeg"/>
          <p:cNvPicPr/>
          <p:nvPr/>
        </p:nvPicPr>
        <p:blipFill>
          <a:blip r:embed="rId3"/>
          <a:stretch/>
        </p:blipFill>
        <p:spPr>
          <a:xfrm>
            <a:off x="0" y="5143680"/>
            <a:ext cx="1352520" cy="1419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71680" y="2428920"/>
          <a:ext cx="8229600" cy="324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984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ОК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gt; 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4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lt; 5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Box 5"/>
          <p:cNvSpPr/>
          <p:nvPr/>
        </p:nvSpPr>
        <p:spPr>
          <a:xfrm>
            <a:off x="1304280" y="5572080"/>
            <a:ext cx="60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, составленное из первых четырех букв д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F:\11.jpeg"/>
          <p:cNvPicPr/>
          <p:nvPr/>
        </p:nvPicPr>
        <p:blipFill>
          <a:blip r:embed="rId3"/>
          <a:stretch/>
        </p:blipFill>
        <p:spPr>
          <a:xfrm>
            <a:off x="7500960" y="5057640"/>
            <a:ext cx="1214280" cy="14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28800" y="2286000"/>
          <a:ext cx="6548400" cy="2400480"/>
        </p:xfrm>
        <a:graphic>
          <a:graphicData uri="http://schemas.openxmlformats.org/drawingml/2006/table">
            <a:tbl>
              <a:tblPr/>
              <a:tblGrid>
                <a:gridCol w="2182680"/>
                <a:gridCol w="2182680"/>
                <a:gridCol w="2183040"/>
              </a:tblGrid>
              <a:tr h="12574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30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4"/>
          <p:cNvSpPr/>
          <p:nvPr/>
        </p:nvSpPr>
        <p:spPr>
          <a:xfrm>
            <a:off x="3506400" y="5715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F:\6.jpeg"/>
          <p:cNvPicPr/>
          <p:nvPr/>
        </p:nvPicPr>
        <p:blipFill>
          <a:blip r:embed="rId3"/>
          <a:stretch/>
        </p:blipFill>
        <p:spPr>
          <a:xfrm>
            <a:off x="7715160" y="2714760"/>
            <a:ext cx="120492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2"/>
          <a:stretch/>
        </p:blipFill>
        <p:spPr>
          <a:xfrm>
            <a:off x="281160" y="743040"/>
            <a:ext cx="88437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457200" y="2522520"/>
          <a:ext cx="8229600" cy="2332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6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 21, 22, 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7, 8, 9, 10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4, 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Box 6"/>
          <p:cNvSpPr/>
          <p:nvPr/>
        </p:nvSpPr>
        <p:spPr>
          <a:xfrm>
            <a:off x="730440" y="535788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з данных чисел выбрано прост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F:\12.jpeg"/>
          <p:cNvPicPr/>
          <p:nvPr/>
        </p:nvPicPr>
        <p:blipFill>
          <a:blip r:embed="rId3"/>
          <a:stretch/>
        </p:blipFill>
        <p:spPr>
          <a:xfrm>
            <a:off x="7072200" y="4714920"/>
            <a:ext cx="1357560" cy="1422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76040" y="701640"/>
            <a:ext cx="880920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57200" y="2757600"/>
          <a:ext cx="8229600" cy="185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295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РЕ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95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lt; 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gt; 4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Box 4"/>
          <p:cNvSpPr/>
          <p:nvPr/>
        </p:nvSpPr>
        <p:spPr>
          <a:xfrm>
            <a:off x="326880" y="5286240"/>
            <a:ext cx="74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Целое число, находящееся в общей части данных неравен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F:\14.jpeg"/>
          <p:cNvPicPr/>
          <p:nvPr/>
        </p:nvPicPr>
        <p:blipFill>
          <a:blip r:embed="rId3"/>
          <a:stretch/>
        </p:blipFill>
        <p:spPr>
          <a:xfrm>
            <a:off x="6877080" y="4508640"/>
            <a:ext cx="1909800" cy="219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1928880"/>
          <a:ext cx="8229600" cy="3581280"/>
        </p:xfrm>
        <a:graphic>
          <a:graphicData uri="http://schemas.openxmlformats.org/drawingml/2006/table">
            <a:tbl>
              <a:tblPr/>
              <a:tblGrid>
                <a:gridCol w="2025360"/>
                <a:gridCol w="3102120"/>
                <a:gridCol w="3102120"/>
              </a:tblGrid>
              <a:tr h="861480">
                <a:tc rowSpan="3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х – 7 = 29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– 2х = 15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+ 5х = ?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1"/>
          <p:cNvSpPr/>
          <p:nvPr/>
        </p:nvSpPr>
        <p:spPr>
          <a:xfrm>
            <a:off x="142920" y="2000160"/>
            <a:ext cx="29718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"/>
          <p:cNvSpPr/>
          <p:nvPr/>
        </p:nvSpPr>
        <p:spPr>
          <a:xfrm flipV="1">
            <a:off x="2286000" y="2214720"/>
            <a:ext cx="125748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2286000" y="4071960"/>
            <a:ext cx="1257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571840" y="350028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214200" y="5357880"/>
            <a:ext cx="8001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лово СОК получено из слова СТОК исключением второй бук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 в котором находится искомое число равен 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F:\15.jpeg"/>
          <p:cNvPicPr/>
          <p:nvPr/>
        </p:nvPicPr>
        <p:blipFill>
          <a:blip r:embed="rId2"/>
          <a:stretch/>
        </p:blipFill>
        <p:spPr>
          <a:xfrm>
            <a:off x="214200" y="1071720"/>
            <a:ext cx="1390680" cy="103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" y="2201760"/>
          <a:ext cx="8229600" cy="297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-7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-2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64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Box 4"/>
          <p:cNvSpPr/>
          <p:nvPr/>
        </p:nvSpPr>
        <p:spPr>
          <a:xfrm>
            <a:off x="1029600" y="5500800"/>
            <a:ext cx="75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 слове ШКОЛА 5 букв. Найти значение выражения 30 - 3а при а 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F:\17.jpeg"/>
          <p:cNvPicPr/>
          <p:nvPr/>
        </p:nvPicPr>
        <p:blipFill>
          <a:blip r:embed="rId3"/>
          <a:stretch/>
        </p:blipFill>
        <p:spPr>
          <a:xfrm>
            <a:off x="285840" y="73080"/>
            <a:ext cx="1214280" cy="12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7:27:50Z</dcterms:created>
  <dc:creator>Olga</dc:creator>
  <dc:description/>
  <dc:language>en-US</dc:language>
  <cp:lastModifiedBy>Admin</cp:lastModifiedBy>
  <dcterms:modified xsi:type="dcterms:W3CDTF">2010-11-01T20:49:43Z</dcterms:modified>
  <cp:revision>31</cp:revision>
  <dc:subject/>
  <dc:title>Брейн – ринг «Думай! Решай! Отгадывай!»</dc:title>
</cp:coreProperties>
</file>