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0B2B-EC62-481D-BDC1-E0150F4AE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C5BA-053F-4B56-97B4-0ADCEDF4A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7F2D-17E5-41C0-8BFE-0E51C8BE2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292C-2523-46EA-B368-AAB9A8052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7E5FC-3339-4E31-A253-51D972BCE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BFF2D-9A84-4D79-8CAB-0AEEC7C1A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32F9E-32F4-4B8F-A182-32AA17C1A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891AF-1A32-434E-9604-44B3FEBC4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44204-4D42-4715-9AD7-368747360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3BE86-436E-430D-A4E7-9838DA0D6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927FC-5793-4324-A8A9-81303625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3DB6-9BFF-46D8-B955-0ACB52E75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B99CE-5DC1-4143-B9CD-154C2E8E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2B82F-8C93-4BEC-BDEE-673828CC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C6371-27FC-4C4C-8833-104FB10C3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1573C-9B7D-4DC5-BB69-19B3DDB09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A35D6-6432-4C51-92CF-6ED4A8C09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3F2E4-EF73-4637-B9A2-CEBC3E68B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CE214-76C6-4FF5-874E-2671D72D6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C17AD-D80D-4C9A-A9E6-56AE7C983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6F29F-B688-41B6-ABF2-1EB6F0ABA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F1E4B-5C2F-4A1B-99C1-2C8047474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3038-5037-4C01-AD39-2AEA19619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661BB-F030-42FE-9431-F5AAD7741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EA56C-F1A4-47C3-A089-9A667640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16D29-536E-4438-B4B9-C8C7BAC5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3F256-1432-4DA5-A952-7A4F5E6D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111FD-A6A4-4613-9D51-7DEB4FADB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31425-46D3-45D4-9A29-3922C1804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AD0E8-7684-460E-A32B-F8C39F76F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8653C-326C-4616-84A9-A84D6DF54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9436E-8CA1-4063-90F3-DC15D864E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89BF2-8BE6-474E-82C6-534A84A49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24F6-8B6A-480F-A27B-7051D8883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DEE6B-DA99-46F6-850D-9C704D1BE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99242-07AC-4F9A-82AC-1F7DF842A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F6FB0-2EFF-4016-9BB5-56E7BB2DE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167C9-1F41-4F5F-88B9-E952C7F1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A0773-D6CA-423C-9018-79CCF8F0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BE9FB-A8BD-4A24-ADC2-BDD43C88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5DCC4-8443-4939-B664-1DD1FAEEF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40807-755B-4ED2-9CE4-D3807E06F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4EA6C-701A-4390-8EBC-79E0F9380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B6E9C-C657-4E58-8B79-3B6B9934C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CEA6-D98B-4955-987F-305550928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DB9B9-41A0-45C9-B6B6-2D9E0CC9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3D442-C890-4B3B-8AFA-B74FCD9BB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7F187-4248-4905-82FF-7D4925912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035BF-F10A-401C-9D4E-4EA0C3521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4A4A0-8170-4F91-957A-C35762C4E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0A75F-EEA9-4ACA-B024-00970BEE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DBD08-CB8A-46AD-AA3D-AF58D815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85873-79E0-4F3C-A642-E1B1695E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3F957-06AB-4E9D-B4CA-66B1ECAC0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4D3FD-F9A1-428B-AB25-F3BE28729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8812-0767-44BB-ABF7-36A766A34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E5338-C279-49BF-B849-FDA200992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4755D-9997-45C1-99A8-662C9EB36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A613B-D5A7-4BBB-A1BC-CCF578A23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86D6B-24A1-4BF7-A9B2-CB2061F3A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56B1F-ED54-47A9-BD68-EF5C2B9DD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3E076-ADB5-41B9-8CC0-BCA5E08CA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81915-FE57-4D76-A2AE-1F592F5DF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3898B-26C5-4F51-843A-8E373D12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3D918-DABD-4B8A-AC2B-1931F268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6C1A1-0FA5-4E75-97FA-20701221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7008-AD0B-43FA-8B9A-A307430B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C4BD0-2CFF-4499-A213-5D95F3D63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4EBB1E-02DC-407A-B12B-7DA7C2343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96B86-C38C-4987-882D-5A9E74A7D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2AD5-5062-4469-86E1-694C35DC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2B91-791A-4794-A3E7-9789AB7B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348EC-3E51-49EF-A2E2-D4297AC3EC5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Полилиния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Полилиния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Прямая соединительная линия 19" descr=""/>
            <p:cNvPicPr/>
            <p:nvPr/>
          </p:nvPicPr>
          <p:blipFill>
            <a:blip r:embed="rId4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3AB8B-608B-40D2-A77F-7B609E4DF4E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F99C6-05F0-4147-ADD2-64E4720F563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AD1D4-5B63-498E-A458-D6E355AA087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EE2BB-E974-4911-85B5-9D4FE4346BF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29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0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2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3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23FF7-B79F-479C-85B5-D890F90BAC8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Заголовок 1" descr=""/>
          <p:cNvPicPr/>
          <p:nvPr/>
        </p:nvPicPr>
        <p:blipFill>
          <a:blip r:embed="rId1"/>
          <a:stretch/>
        </p:blipFill>
        <p:spPr>
          <a:xfrm>
            <a:off x="957240" y="549360"/>
            <a:ext cx="8223120" cy="225432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5364000" y="4076640"/>
            <a:ext cx="37800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464646"/>
                </a:solidFill>
                <a:latin typeface="Lucida Sans Unicode"/>
              </a:rPr>
              <a:t>Выполнила: ученица 2Б класса     Филипп Александра                        учитель: Чепкасова  Лариса Сергеевна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457200" y="1480680"/>
            <a:ext cx="822960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днажды эти письма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увидела  поэтесс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Белла Ахмадулина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«Да это же готова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овесть!» - сказала он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Так появилась книг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09" name="Picture 6" descr="&amp;Rcy;&amp;ocy;&amp;scy;&amp;scy;&amp;icy;&amp;yacy;. 1993 &amp;gcy;&amp;ocy;&amp;dcy;."/>
          <p:cNvPicPr/>
          <p:nvPr/>
        </p:nvPicPr>
        <p:blipFill>
          <a:blip r:embed="rId1"/>
          <a:stretch/>
        </p:blipFill>
        <p:spPr>
          <a:xfrm>
            <a:off x="4986360" y="1514520"/>
            <a:ext cx="3906720" cy="47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422280" y="907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 России «Прелестные приключения» издавалась дважды: в 1993 году, с иллюстрациями П. Волковой и в 2005 году – с рисунками автор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Рисунок автора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2520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12" name="Picture 2" descr=""/>
          <p:cNvPicPr/>
          <p:nvPr/>
        </p:nvPicPr>
        <p:blipFill>
          <a:blip r:embed="rId1"/>
          <a:stretch/>
        </p:blipFill>
        <p:spPr>
          <a:xfrm>
            <a:off x="684360" y="2565360"/>
            <a:ext cx="77072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Эту книгу знают и любят читатели из Чехии, Польши, Израиля, Грузии и Япони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Рисунок грузинских художников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15" name="Picture 2" descr="E:\Прелестные приключения.           Б. Окуджава\рисунки грузинских художников.jpg"/>
          <p:cNvPicPr/>
          <p:nvPr/>
        </p:nvPicPr>
        <p:blipFill>
          <a:blip r:embed="rId1"/>
          <a:stretch/>
        </p:blipFill>
        <p:spPr>
          <a:xfrm>
            <a:off x="561960" y="2666880"/>
            <a:ext cx="811368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457200" y="981000"/>
            <a:ext cx="85075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озже появилась идея выпустить аудиокнигу «Прелестные приключения» в формате аудиоспектакля: её должны были начитать профессиональные актёры.  Однако у сына автора оказалась уникальная аудиозапись этой сказки, сделанная самим Булатом Окуджавой за несколько лет до смерт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Рисунок автор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9080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18" name="Picture 4" descr="E:\ \Прелестные приключения.           Б. Окуджава\рисунок автора.jpg"/>
          <p:cNvPicPr/>
          <p:nvPr/>
        </p:nvPicPr>
        <p:blipFill>
          <a:blip r:embed="rId1"/>
          <a:stretch/>
        </p:blipFill>
        <p:spPr>
          <a:xfrm>
            <a:off x="3924360" y="4149720"/>
            <a:ext cx="491472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452520" y="9806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Аудиозапись была восстановлена и очищена специально для издания, снабжена полноценным музыкальным оформлением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2644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21" name="Picture 2" descr="E:\Прелестные приключения.           Б. Окуджава\аудиокнига.jpg"/>
          <p:cNvPicPr/>
          <p:nvPr/>
        </p:nvPicPr>
        <p:blipFill>
          <a:blip r:embed="rId1"/>
          <a:stretch/>
        </p:blipFill>
        <p:spPr>
          <a:xfrm>
            <a:off x="324000" y="2852640"/>
            <a:ext cx="848664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457200" y="1480680"/>
            <a:ext cx="82296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лушая ее кажется, что Булат Шалвович сидит на берегу моря и рассказывает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казку собравшимся вокруг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ебятам, а Добрая Змея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утенейский Баран Крэг и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Морской Гридиг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асположились рядом и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ажно кивают головам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24" name="Picture 4" descr="&amp;YAcy;&amp;pcy;&amp;ocy;&amp;ncy;&amp;icy;&amp;yacy;. 1997 &amp;gcy;&amp;ocy;&amp;dcy;."/>
          <p:cNvPicPr/>
          <p:nvPr/>
        </p:nvPicPr>
        <p:blipFill>
          <a:blip r:embed="rId1"/>
          <a:stretch/>
        </p:blipFill>
        <p:spPr>
          <a:xfrm>
            <a:off x="5580000" y="2565360"/>
            <a:ext cx="31561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468360" y="1052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а сегодняшний день, мы работаем над постановкой. У нас получается не всё ладно и складно. Ведь до нас никто ещё из ребят не работал над экранизацией по произведениям Б. Окуджава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Я играю КарудА. Это очень приставучий персонаж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Мы планируем показать постановку родителям в конце учебного год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9080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457200" y="1481040"/>
            <a:ext cx="8686800" cy="53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Я люблю заниматься театральной деятельностью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е раз участвовала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 различных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остановках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280" name="Picture 4" descr="C:\Users\eMachines\Desktop\учитель\фото 2013\DSCN6312.jpg"/>
          <p:cNvPicPr/>
          <p:nvPr/>
        </p:nvPicPr>
        <p:blipFill>
          <a:blip r:embed="rId1"/>
          <a:stretch/>
        </p:blipFill>
        <p:spPr>
          <a:xfrm>
            <a:off x="3995640" y="2349360"/>
            <a:ext cx="49802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457200" y="148068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днажды, на уроке Литературного чтения, в главе «В гостях у Незнайки» мы читали отрывок из сказки «Прелестные приключения», которую написал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Б. Окуджав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Меня заинтересовало это произведение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Я поняла, что мало знаю об авторе и его творчестве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Тогда решила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Познакомиться с биографией автор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Прочитать всю сказку и разобраться, что за секрет таится в этой сказке. Почему такие имена героям дал автор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3) Поработать над постановкой сказки для показа на сцене в школе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457200" y="1480680"/>
            <a:ext cx="850752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Для этого мне было  необходимо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айти информацию. Я обращалась к педагогу, родителям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скала ответы на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опросы в интернете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ходила в библиотеку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читала полную сказку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Б. Окуджавы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2644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287" name="Picture 4" descr="http://pr-blogger.de/wp-content/uploads/2011/06/berater-shutterstock_72039685.jpg"/>
          <p:cNvPicPr/>
          <p:nvPr/>
        </p:nvPicPr>
        <p:blipFill>
          <a:blip r:embed="rId1"/>
          <a:stretch/>
        </p:blipFill>
        <p:spPr>
          <a:xfrm>
            <a:off x="5003640" y="2421000"/>
            <a:ext cx="388800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-360" y="1483920"/>
            <a:ext cx="4932360" cy="45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89" name="Заголовок 2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454960" cy="1292400"/>
          </a:xfrm>
          <a:prstGeom prst="rect">
            <a:avLst/>
          </a:prstGeom>
          <a:ln w="0">
            <a:noFill/>
          </a:ln>
        </p:spPr>
      </p:pic>
      <p:sp>
        <p:nvSpPr>
          <p:cNvPr id="290" name="Прямоугольник 4"/>
          <p:cNvSpPr/>
          <p:nvPr/>
        </p:nvSpPr>
        <p:spPr>
          <a:xfrm>
            <a:off x="0" y="234936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Про Булата Окуджаву можно сказать то же, что и про Корнея Чуковского: на его произведениях выросла вся стран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91" name="Picture 2" descr="http://www.vzov.ru/images/2001/03/akudghava.jpg"/>
          <p:cNvPicPr/>
          <p:nvPr/>
        </p:nvPicPr>
        <p:blipFill>
          <a:blip r:embed="rId2"/>
          <a:stretch/>
        </p:blipFill>
        <p:spPr>
          <a:xfrm>
            <a:off x="4932360" y="1052640"/>
            <a:ext cx="399564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178920" y="1481040"/>
            <a:ext cx="880596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«Прелестные приключении» - это добрая, неторопливая философская сказка Булата Окуджавы о фантастических приключениях автора и его друзей – Доброй Змеи, Кутенейского Барана Крэга и Морского Гридига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93" name="Заголовок 2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667720" cy="1614600"/>
          </a:xfrm>
          <a:prstGeom prst="rect">
            <a:avLst/>
          </a:prstGeom>
          <a:ln w="0">
            <a:noFill/>
          </a:ln>
        </p:spPr>
      </p:pic>
      <p:sp>
        <p:nvSpPr>
          <p:cNvPr id="294" name="Прямоугольник 3"/>
          <p:cNvSpPr/>
          <p:nvPr/>
        </p:nvSpPr>
        <p:spPr>
          <a:xfrm>
            <a:off x="1042920" y="18446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95" name="Picture 8" descr="&amp;Ncy;&amp;acy;&amp;shcy;&amp;acy; &amp;Dcy;&amp;ocy;&amp;bcy;&amp;rcy;&amp;acy;&amp;yacy; &amp;Zcy;&amp;mcy;&amp;iecy;&amp;yacy;. &amp;Rcy;&amp;icy;&amp;scy;&amp;ucy;&amp;ncy;&amp;ocy;&amp;kcy; &amp;acy;&amp;vcy;&amp;tcy;&amp;ocy;&amp;rcy;&amp;acy;."/>
          <p:cNvPicPr/>
          <p:nvPr/>
        </p:nvPicPr>
        <p:blipFill>
          <a:blip r:embed="rId2"/>
          <a:stretch/>
        </p:blipFill>
        <p:spPr>
          <a:xfrm>
            <a:off x="2627280" y="6021360"/>
            <a:ext cx="2286000" cy="3808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0" descr="&amp;Ncy;&amp;acy;&amp;shcy;&amp;acy; &amp;Dcy;&amp;ocy;&amp;bcy;&amp;rcy;&amp;acy;&amp;yacy; &amp;Zcy;&amp;mcy;&amp;iecy;&amp;yacy;. &amp;Rcy;&amp;icy;&amp;scy;&amp;ucy;&amp;ncy;&amp;ocy;&amp;kcy; &amp;acy;&amp;vcy;&amp;tcy;&amp;ocy;&amp;rcy;&amp;acy;."/>
          <p:cNvPicPr/>
          <p:nvPr/>
        </p:nvPicPr>
        <p:blipFill>
          <a:blip r:embed="rId3"/>
          <a:stretch/>
        </p:blipFill>
        <p:spPr>
          <a:xfrm>
            <a:off x="169920" y="3552840"/>
            <a:ext cx="380880" cy="22860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0" descr="&amp;Ncy;&amp;acy;&amp;shcy;&amp;acy; &amp;Dcy;&amp;ocy;&amp;bcy;&amp;rcy;&amp;acy;&amp;yacy; &amp;Zcy;&amp;mcy;&amp;iecy;&amp;yacy;. &amp;Rcy;&amp;icy;&amp;scy;&amp;ucy;&amp;ncy;&amp;ocy;&amp;kcy; &amp;acy;&amp;vcy;&amp;tcy;&amp;ocy;&amp;rcy;&amp;acy;."/>
          <p:cNvPicPr/>
          <p:nvPr/>
        </p:nvPicPr>
        <p:blipFill>
          <a:blip r:embed="rId4"/>
          <a:stretch/>
        </p:blipFill>
        <p:spPr>
          <a:xfrm>
            <a:off x="8604360" y="1428840"/>
            <a:ext cx="380880" cy="22860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3" descr="E:\Прелестные приключения.           Б. Окуджава\Крэг Кутенейский Баран_рисунок.jpg"/>
          <p:cNvPicPr/>
          <p:nvPr/>
        </p:nvPicPr>
        <p:blipFill>
          <a:blip r:embed="rId5"/>
          <a:stretch/>
        </p:blipFill>
        <p:spPr>
          <a:xfrm>
            <a:off x="5940360" y="3573360"/>
            <a:ext cx="2664000" cy="31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456840" y="692280"/>
            <a:ext cx="8574120" cy="59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 1968 году Булат Окуджава жил в Ялте и писал оттуда письма своему маленькому сыну, в которых рассказывал истории о приключениях хорошо известных мальчику персонажей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фигурок и предметов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аходящихся в доме)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Таким образом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н хотел приучить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его к чтению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4644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01" name="Picture 2" descr=""/>
          <p:cNvPicPr/>
          <p:nvPr/>
        </p:nvPicPr>
        <p:blipFill>
          <a:blip r:embed="rId1"/>
          <a:stretch/>
        </p:blipFill>
        <p:spPr>
          <a:xfrm>
            <a:off x="6864480" y="3573360"/>
            <a:ext cx="2011320" cy="30416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" descr=""/>
          <p:cNvPicPr/>
          <p:nvPr/>
        </p:nvPicPr>
        <p:blipFill>
          <a:blip r:embed="rId2"/>
          <a:stretch/>
        </p:blipFill>
        <p:spPr>
          <a:xfrm>
            <a:off x="4643280" y="2492280"/>
            <a:ext cx="222120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539640" y="1412640"/>
            <a:ext cx="82296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Для того, чтобы ребёнку было интереснее читать, каждое письмо заканчивалось неожиданной загадкой, вопросом, историей, требующей продолжения. Всего было написано 12 писем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05" name="Picture 2" descr="E:\Прелестные приключения.           Б. Окуджава\Наша Добрая Змея_рисунок.jpg"/>
          <p:cNvPicPr/>
          <p:nvPr/>
        </p:nvPicPr>
        <p:blipFill>
          <a:blip r:embed="rId1"/>
          <a:stretch/>
        </p:blipFill>
        <p:spPr>
          <a:xfrm>
            <a:off x="4991040" y="3570120"/>
            <a:ext cx="3232080" cy="30988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2" descr="&amp;Ncy;&amp;acy;&amp;shcy;&amp;acy; &amp;Dcy;&amp;ocy;&amp;bcy;&amp;rcy;&amp;acy;&amp;yacy; &amp;Zcy;&amp;mcy;&amp;iecy;&amp;yacy;. &amp;Rcy;&amp;icy;&amp;scy;&amp;ucy;&amp;ncy;&amp;ocy;&amp;kcy; &amp;acy;&amp;vcy;&amp;tcy;&amp;ocy;&amp;rcy;&amp;acy;."/>
          <p:cNvPicPr/>
          <p:nvPr/>
        </p:nvPicPr>
        <p:blipFill>
          <a:blip r:embed="rId2"/>
          <a:stretch/>
        </p:blipFill>
        <p:spPr>
          <a:xfrm>
            <a:off x="1979640" y="5103720"/>
            <a:ext cx="228600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06:48:44Z</dcterms:created>
  <dc:creator>User</dc:creator>
  <dc:description/>
  <dc:language>en-US</dc:language>
  <cp:lastModifiedBy>eMachines</cp:lastModifiedBy>
  <dcterms:modified xsi:type="dcterms:W3CDTF">2014-03-24T08:14:24Z</dcterms:modified>
  <cp:revision>51</cp:revision>
  <dc:subject/>
  <dc:title>Булат Окуджава</dc:title>
</cp:coreProperties>
</file>