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CFF-A6E0-45FF-ACBE-37538E09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070-E9C9-4B4C-8971-88B5490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19B-9F6E-49FB-8AE2-EA648599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841-3562-43A1-88BF-B8C0E8AB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5B9-B34C-4A73-83E0-23A834B4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AB6C-59D5-41E5-87E7-B98F9DA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7AAB-578B-43F9-AD1B-7C9D611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705-D4D9-4A30-92E1-5DE8946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14D8-8F39-4516-9CF2-CEADE54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C8C3-59D8-49B1-9240-7DC09DC1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1AD-9F67-47C1-896A-5F0AAC5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769-2D71-4E3B-B10D-221A2EB0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571-87A3-4D9D-B079-EC10C21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58C-D5A2-4C63-A545-76EA7685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DD3F-0835-437E-907F-FC25AF0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C587-2889-4620-87AB-CF765BC1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AF90-E4A4-4DB1-AED5-25C52133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CA08-220E-4B24-BD30-867E20E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F28B-5978-475A-8975-FBB3ECA1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500E-5A5C-4D2F-959F-48E5AF3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0B8C-9530-4B3C-AAF3-BCB9B7C3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4AB6-336B-4D95-9792-34F3A14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58E-FD03-445B-8466-DE1A134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3C34-6091-40C1-8A41-08A2E07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A639-2A96-4A05-B43E-EB52222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5D79-B62D-431B-A862-B39F972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D132-FBCE-4828-BE8B-FD49147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E6C4-E786-4992-A2FA-709EBC30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3A34-7DEF-42D3-8C7E-4F6BA2E2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2AC5-953E-4A0C-8AF9-6EC2D09E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461F-B1A4-4056-B5A4-2683FFB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39ED-349A-40BF-8496-0D886D8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0B58-B1F1-44DA-ACD2-7BAC752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6D0-8BF1-4ABA-BDE6-DA626376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7F83-74C6-4BF4-B1C1-7C02CAC3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A7BD-7C42-440D-994C-860FAF9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F271-BB79-4D59-9D0A-B6CCDAA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2BF5-C475-4779-ADB8-E0F3010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94E2-3F93-4968-AF00-8FC4875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698F-E754-4421-B3E0-0C4DBF75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3AD1-2B95-4B5D-BB32-7BB4E9B5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6DB6-90BB-4041-B11A-CF634B6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5A15-3363-4EAE-9F5F-95DBA513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B259-D16F-4C56-A068-08018333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008-C8A5-4341-872D-7D170F13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F509-6CA3-403F-8430-65963899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AE91-B56B-4416-B13A-BA0DC79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5333-8D85-4ADB-BEF1-75AE5BD8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6D88-5A74-4A37-8ECA-89FAA6E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5E30-2C1B-4436-8A21-A120125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EE7B-A0E7-4242-9B11-10AF683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61986-1AFA-45A0-8015-44FF0F8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1611-643C-4EC6-9919-D87A09D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9078-90B3-49A6-80EB-DCE5B8B5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122CF-F17F-41F0-B4E3-A55DAE78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57C-9B5E-4108-8629-44046FD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2676-AD2D-4185-9B57-35E628BE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9D14-4F99-4111-9107-F576C987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58FC-B5F0-4DF8-8E39-CB10F07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5A0E-5110-461C-BD85-AA296AE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44E1-C15E-41DC-85C9-FC4C6C2A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8C27-A33C-486D-ADA8-7B24110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09EA-AE70-4D21-B985-6427C2A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D255-9489-41AE-BA0C-A00FA38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A446-A78E-4338-9B87-DA2717C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D709-C834-467D-995D-7EED23C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FB4-CCF2-4075-88E5-A541DEE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71B4-C0A7-4594-8F60-3A88E888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BC69-D878-4955-9ACB-181D086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2AA3-7040-46DD-B57F-1A475D4D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000-D283-4C6B-A9CF-072D254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75F-A206-47CD-B525-A115E54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07C-58B3-45A8-9F43-2D859CCD6C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2A8-57D3-4E01-9E99-085449093C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2D29-6AC9-42E1-BAEC-54C89FE611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49F-49FE-44BB-B893-C5B1B16ADD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EC4-8CE6-45E5-AE0D-445CADC0BE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13C-C199-403A-A4FC-580C38CF0F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957240" y="549360"/>
            <a:ext cx="8223120" cy="2254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64000" y="4076640"/>
            <a:ext cx="37800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Выполнила: ученица 2Б класса     Филипп Александра                        учитель: Чепкасова  Лариса Сергеевн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48068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 эти письм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идела  поэте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лла Ахмадули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Да это же готов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сть!» - сказала о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появилась книг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9" name="Picture 6" descr="&amp;Rcy;&amp;ocy;&amp;scy;&amp;scy;&amp;icy;&amp;yacy;. 1993 &amp;gcy;&amp;ocy;&amp;dcy;."/>
          <p:cNvPicPr/>
          <p:nvPr/>
        </p:nvPicPr>
        <p:blipFill>
          <a:blip r:embed="rId1"/>
          <a:stretch/>
        </p:blipFill>
        <p:spPr>
          <a:xfrm>
            <a:off x="4986360" y="1514520"/>
            <a:ext cx="3906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2228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оссии «Прелестные приключения» издавалась дважды: в 1993 году, с иллюстрациями П. Волковой и в 2005 году – с рисунками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автор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07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у книгу знают и любят читатели из Чехии, Польши, Израиля, Грузии и Япо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грузинских художник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5" name="Picture 2" descr="E:\Прелестные приключения.           Б. Окуджава\рисунки грузинских художников.jpg"/>
          <p:cNvPicPr/>
          <p:nvPr/>
        </p:nvPicPr>
        <p:blipFill>
          <a:blip r:embed="rId1"/>
          <a:stretch/>
        </p:blipFill>
        <p:spPr>
          <a:xfrm>
            <a:off x="561960" y="2666880"/>
            <a:ext cx="8113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зже появилась идея выпустить аудиокнигу «Прелестные приключения» в формате аудиоспектакля: её должны были начитать профессиональные актёры.  Однако у сына автора оказалась уникальная аудиозапись этой сказки, сделанная самим Булатом Окуджавой за несколько лет до смер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8" name="Picture 4" descr="E:\ \Прелестные приключения.           Б. Окуджава\рисунок автора.jpg"/>
          <p:cNvPicPr/>
          <p:nvPr/>
        </p:nvPicPr>
        <p:blipFill>
          <a:blip r:embed="rId1"/>
          <a:stretch/>
        </p:blipFill>
        <p:spPr>
          <a:xfrm>
            <a:off x="3924360" y="4149720"/>
            <a:ext cx="491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252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удиозапись была восстановлена и очищена специально для издания, снабжена полноценным музыкальным оформление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1" name="Picture 2" descr="E:\Прелестные приключения.           Б. Окуджава\аудиокнига.jpg"/>
          <p:cNvPicPr/>
          <p:nvPr/>
        </p:nvPicPr>
        <p:blipFill>
          <a:blip r:embed="rId1"/>
          <a:stretch/>
        </p:blipFill>
        <p:spPr>
          <a:xfrm>
            <a:off x="324000" y="2852640"/>
            <a:ext cx="8486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ушая ее кажется, что Булат Шалвович сидит на берегу моря и рассказыва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азку собравшимся вокруг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ятам, а Добрая Змея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утенейский Баран Крэг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рской Гридиг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положились рядом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жно кивают голо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4" name="Picture 4" descr="&amp;YAcy;&amp;pcy;&amp;ocy;&amp;ncy;&amp;icy;&amp;yacy;. 1997 &amp;gcy;&amp;ocy;&amp;dcy;."/>
          <p:cNvPicPr/>
          <p:nvPr/>
        </p:nvPicPr>
        <p:blipFill>
          <a:blip r:embed="rId1"/>
          <a:stretch/>
        </p:blipFill>
        <p:spPr>
          <a:xfrm>
            <a:off x="5580000" y="2565360"/>
            <a:ext cx="3156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36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сегодняшний день, мы работаем над постановкой. У нас получается не всё ладно и складно. Ведь до нас никто ещё из ребят не работал над экранизацией по произведениям Б. Окуджав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играю КарудА. Это очень приставучий персона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ы планируем показать постановку родителям в конце учебного го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686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люблю заниматься театральной деятельностью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раз участвовал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азлич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ановка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80" name="Picture 4" descr="C:\Users\eMachines\Desktop\учитель\фото 2013\DSCN6312.jpg"/>
          <p:cNvPicPr/>
          <p:nvPr/>
        </p:nvPicPr>
        <p:blipFill>
          <a:blip r:embed="rId1"/>
          <a:stretch/>
        </p:blipFill>
        <p:spPr>
          <a:xfrm>
            <a:off x="3995640" y="2349360"/>
            <a:ext cx="498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, на уроке Литературного чтения, в главе «В гостях у Незнайки» мы читали отрывок из сказки «Прелестные приключения», которую написа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. Окуджа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ня заинтересовало это произведе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поняла, что мало знаю об авторе и его творче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гда реши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Познакомиться с биографией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читать всю сказку и разобраться, что за секрет таится в этой сказке. Почему такие имена героям дал автор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Поработать над постановкой сказки для показа на сцене в школ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80680"/>
            <a:ext cx="8507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этого мне было  необходим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йти информацию. Я обращалась к педагогу, родителя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кала ответы н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просы в интернет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одила в библиотеку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тала полную сказк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. Окуджав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87" name="Picture 4" descr="http://pr-blogger.de/wp-content/uploads/2011/06/berater-shutterstock_72039685.jpg"/>
          <p:cNvPicPr/>
          <p:nvPr/>
        </p:nvPicPr>
        <p:blipFill>
          <a:blip r:embed="rId1"/>
          <a:stretch/>
        </p:blipFill>
        <p:spPr>
          <a:xfrm>
            <a:off x="5003640" y="24210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-360" y="1483920"/>
            <a:ext cx="4932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4"/>
          <p:cNvSpPr/>
          <p:nvPr/>
        </p:nvSpPr>
        <p:spPr>
          <a:xfrm>
            <a:off x="0" y="2349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 Булата Окуджаву можно сказать то же, что и про Корнея Чуковского: на его произведениях выросла вся стра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1" name="Picture 2" descr="http://www.vzov.ru/images/2001/03/akudghava.jpg"/>
          <p:cNvPicPr/>
          <p:nvPr/>
        </p:nvPicPr>
        <p:blipFill>
          <a:blip r:embed="rId2"/>
          <a:stretch/>
        </p:blipFill>
        <p:spPr>
          <a:xfrm>
            <a:off x="4932360" y="1052640"/>
            <a:ext cx="3995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78920" y="1481040"/>
            <a:ext cx="88059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Прелестные приключении» - это добрая, неторопливая философская сказка Булата Окуджавы о фантастических приключениях автора и его друзей – Доброй Змеи, Кутенейского Барана Крэга и Морского Гридиг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67720" cy="161460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104292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5" name="Picture 8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2"/>
          <a:stretch/>
        </p:blipFill>
        <p:spPr>
          <a:xfrm>
            <a:off x="2627280" y="602136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3"/>
          <a:stretch/>
        </p:blipFill>
        <p:spPr>
          <a:xfrm>
            <a:off x="169920" y="3552840"/>
            <a:ext cx="380880" cy="228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4"/>
          <a:stretch/>
        </p:blipFill>
        <p:spPr>
          <a:xfrm>
            <a:off x="8604360" y="1428840"/>
            <a:ext cx="38088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E:\Прелестные приключения.           Б. Окуджава\Крэг Кутенейский Баран_рисунок.jpg"/>
          <p:cNvPicPr/>
          <p:nvPr/>
        </p:nvPicPr>
        <p:blipFill>
          <a:blip r:embed="rId5"/>
          <a:stretch/>
        </p:blipFill>
        <p:spPr>
          <a:xfrm>
            <a:off x="5940360" y="3573360"/>
            <a:ext cx="26640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692280"/>
            <a:ext cx="857412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1968 году Булат Окуджава жил в Ялте и писал оттуда письма своему маленькому сыну, в которых рассказывал истории о приключениях хорошо известных мальчику персонаже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фигурок и предметов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ходящихся в доме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м образом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хотел приучи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го к чтени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6864480" y="3573360"/>
            <a:ext cx="2011320" cy="304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2212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39640" y="141264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того, чтобы ребёнку было интереснее читать, каждое письмо заканчивалось неожиданной загадкой, вопросом, историей, требующей продолжения. Всего было написано 12 писе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5" name="Picture 2" descr="E:\Прелестные приключения.           Б. Окуджава\Наша Добрая Змея_рисунок.jpg"/>
          <p:cNvPicPr/>
          <p:nvPr/>
        </p:nvPicPr>
        <p:blipFill>
          <a:blip r:embed="rId1"/>
          <a:stretch/>
        </p:blipFill>
        <p:spPr>
          <a:xfrm>
            <a:off x="4991040" y="3570120"/>
            <a:ext cx="3232080" cy="3098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2"/>
          <a:stretch/>
        </p:blipFill>
        <p:spPr>
          <a:xfrm>
            <a:off x="1979640" y="5103720"/>
            <a:ext cx="22860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6:48:44Z</dcterms:created>
  <dc:creator>User</dc:creator>
  <dc:description/>
  <dc:language>en-US</dc:language>
  <cp:lastModifiedBy>eMachines</cp:lastModifiedBy>
  <dcterms:modified xsi:type="dcterms:W3CDTF">2014-03-24T08:14:24Z</dcterms:modified>
  <cp:revision>51</cp:revision>
  <dc:subject/>
  <dc:title>Булат Окуджава</dc:title>
</cp:coreProperties>
</file>