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204-B4C3-45FF-8D8E-BAE3419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3EA-4DFF-4C82-8B9F-15444BC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D93-8736-44CD-8615-FB4C791E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D87-3631-475B-81E0-408721EE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6C1A-0716-4962-B349-170133E6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8581-35FC-48A8-8EA0-61593C9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79BE7-2A2D-4F99-A4D5-9D61386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1942-CE7D-475E-AB97-42EEA48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3467E-8FF1-458E-B51F-38C099C4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9973C-0DB7-4C1C-8252-2D2A1A6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7FEA7-3829-4E9D-84AC-C3233F0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29E-D45B-4118-9C80-F16FEAB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29FD-2101-45F4-9F35-AA011D1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F3316-CD75-4A88-B715-B77825B3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E18EF-9922-4E46-BF5D-6AADA13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68158-88C3-42EC-ADAC-BFA23906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58F92-5E72-4B01-989D-CB5EC573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0DE-1C21-468E-BE06-1A6DF6E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96F-7F23-4274-9ED3-F8660DA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4CF-16E6-4915-A29E-83D968DE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919-36ED-48AB-A8E2-8B5D953D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B15-8E15-4CED-B457-9BFDCA1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E1D-BE34-448A-AB9D-B44FBE79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21C-1BCA-4AD8-B7CC-BEF66F0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4825-341A-41EA-98E8-379B7587C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EABF-D695-4A8E-8662-A813A0C8E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file:///Pesnya-o-kapitane-Kapitan-kapitan-ulybnites_(muzofon.com).mp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http://festival.1september.ru/articles/611630/presentation/1.JPG"/>
          <p:cNvPicPr/>
          <p:nvPr/>
        </p:nvPicPr>
        <p:blipFill>
          <a:blip r:embed="rId2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00200" y="2286000"/>
            <a:ext cx="5943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ва армии непобедимой!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ва миру на земл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97720" y="304920"/>
            <a:ext cx="418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1918 год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Первая мировая вой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В лютые дни феврал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Армия билась не зр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д Нарвой врагов сокрушила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беду в боях заслужи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Тогда этот праздник родилс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Мы славим героев сейчас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Чтоб силой своею гордилс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Российский бесстрашный солд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1" descr="http://festival.1september.ru/articles/611630/presentation/7.JPG"/>
          <p:cNvPicPr/>
          <p:nvPr/>
        </p:nvPicPr>
        <p:blipFill>
          <a:blip r:embed="rId2"/>
          <a:stretch/>
        </p:blipFill>
        <p:spPr>
          <a:xfrm>
            <a:off x="838080" y="628560"/>
            <a:ext cx="8305920" cy="622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191280" cy="4648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19520" y="609480"/>
            <a:ext cx="542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1941 год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Великая отечественная вой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8" descr="http://festival.1september.ru/articles/611630/presentation/14.JPG"/>
          <p:cNvPicPr/>
          <p:nvPr/>
        </p:nvPicPr>
        <p:blipFill>
          <a:blip r:embed="rId2"/>
          <a:stretch/>
        </p:blipFill>
        <p:spPr>
          <a:xfrm>
            <a:off x="0" y="-762120"/>
            <a:ext cx="7467480" cy="56008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9" descr="http://festival.1september.ru/articles/611630/presentation/15.JPG"/>
          <p:cNvPicPr/>
          <p:nvPr/>
        </p:nvPicPr>
        <p:blipFill>
          <a:blip r:embed="rId3"/>
          <a:stretch/>
        </p:blipFill>
        <p:spPr>
          <a:xfrm>
            <a:off x="2895480" y="2666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3680" y="121320"/>
            <a:ext cx="56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Афганская война (1979—1989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640" y="304704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Чечня (1994-1996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06120" y="228600"/>
            <a:ext cx="4630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Слава нашим генерала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Слава нашим адмирала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И солдатам рядов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Пешим, плавающим, конн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Утомленным, закалённ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Слава павшим и жив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От души спасибо 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3886200"/>
            <a:ext cx="5715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днём защитн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ечеств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8" descr="http://festival.1september.ru/articles/611630/presentation/24.JPG"/>
          <p:cNvPicPr/>
          <p:nvPr/>
        </p:nvPicPr>
        <p:blipFill>
          <a:blip r:embed="rId2"/>
          <a:stretch/>
        </p:blipFill>
        <p:spPr>
          <a:xfrm>
            <a:off x="0" y="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" descr="http://virtual-sevastopol.ru/album/navyday/09_53_mercury7.jpg"/>
          <p:cNvPicPr/>
          <p:nvPr/>
        </p:nvPicPr>
        <p:blipFill>
          <a:blip r:embed="rId3"/>
          <a:stretch/>
        </p:blipFill>
        <p:spPr>
          <a:xfrm>
            <a:off x="3124080" y="3681360"/>
            <a:ext cx="6019920" cy="4519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4"/>
          </p:cNvPr>
          <p:cNvSpPr/>
          <p:nvPr/>
        </p:nvSpPr>
        <p:spPr>
          <a:xfrm>
            <a:off x="5105520" y="541008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1384600">
            <a:off x="837720" y="1294920"/>
            <a:ext cx="7923240" cy="41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ная програ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ва корабля!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2" descr="http://festival.1september.ru/articles/611630/presentation/18.JPG"/>
          <p:cNvPicPr/>
          <p:nvPr/>
        </p:nvPicPr>
        <p:blipFill>
          <a:blip r:embed="rId2"/>
          <a:stretch/>
        </p:blipFill>
        <p:spPr>
          <a:xfrm>
            <a:off x="3200400" y="11430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3" descr="http://festival.1september.ru/articles/611630/presentation/19.JPG"/>
          <p:cNvPicPr/>
          <p:nvPr/>
        </p:nvPicPr>
        <p:blipFill>
          <a:blip r:embed="rId3"/>
          <a:stretch/>
        </p:blipFill>
        <p:spPr>
          <a:xfrm>
            <a:off x="0" y="2400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тник Отечества…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Рисунок 20" descr="http://festival.1september.ru/articles/611630/presentation/16.JPG"/>
          <p:cNvPicPr/>
          <p:nvPr/>
        </p:nvPicPr>
        <p:blipFill>
          <a:blip r:embed="rId4"/>
          <a:stretch/>
        </p:blipFill>
        <p:spPr>
          <a:xfrm>
            <a:off x="39625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4" descr="http://festival.1september.ru/articles/611630/presentation/20.JPG"/>
          <p:cNvPicPr/>
          <p:nvPr/>
        </p:nvPicPr>
        <p:blipFill>
          <a:blip r:embed="rId2"/>
          <a:stretch/>
        </p:blipFill>
        <p:spPr>
          <a:xfrm>
            <a:off x="3200400" y="-2286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7" descr="http://festival.1september.ru/articles/611630/presentation/23.JPG"/>
          <p:cNvPicPr/>
          <p:nvPr/>
        </p:nvPicPr>
        <p:blipFill>
          <a:blip r:embed="rId3"/>
          <a:stretch/>
        </p:blipFill>
        <p:spPr>
          <a:xfrm>
            <a:off x="0" y="18288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4343400"/>
            <a:ext cx="8458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лон тебе, солдат России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ы, родимый с нами есть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6" descr="http://festival.1september.ru/articles/611630/presentation/22.JPG"/>
          <p:cNvPicPr/>
          <p:nvPr/>
        </p:nvPicPr>
        <p:blipFill>
          <a:blip r:embed="rId2"/>
          <a:stretch/>
        </p:blipFill>
        <p:spPr>
          <a:xfrm>
            <a:off x="0" y="-3808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5" descr="http://festival.1september.ru/articles/611630/presentation/21.JPG"/>
          <p:cNvPicPr/>
          <p:nvPr/>
        </p:nvPicPr>
        <p:blipFill>
          <a:blip r:embed="rId3"/>
          <a:stretch/>
        </p:blipFill>
        <p:spPr>
          <a:xfrm>
            <a:off x="3809880" y="-2286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7" descr="http://festival.1september.ru/articles/611630/presentation/13.JPG"/>
          <p:cNvPicPr/>
          <p:nvPr/>
        </p:nvPicPr>
        <p:blipFill>
          <a:blip r:embed="rId4"/>
          <a:stretch/>
        </p:blipFill>
        <p:spPr>
          <a:xfrm>
            <a:off x="137160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80880" y="4343400"/>
            <a:ext cx="8458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лон тебе, солдат Отчизны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ы, родимый с нами есть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10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5334120" cy="399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124080" y="2643120"/>
            <a:ext cx="6172200" cy="436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4864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4" descr="035nesvizh07v"/>
          <p:cNvPicPr/>
          <p:nvPr/>
        </p:nvPicPr>
        <p:blipFill>
          <a:blip r:embed="rId2"/>
          <a:stretch/>
        </p:blipFill>
        <p:spPr>
          <a:xfrm>
            <a:off x="0" y="0"/>
            <a:ext cx="490536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ay9_04"/>
          <p:cNvPicPr/>
          <p:nvPr/>
        </p:nvPicPr>
        <p:blipFill>
          <a:blip r:embed="rId3"/>
          <a:stretch/>
        </p:blipFill>
        <p:spPr>
          <a:xfrm>
            <a:off x="3352680" y="0"/>
            <a:ext cx="5791320" cy="4319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523880" y="3429000"/>
            <a:ext cx="6096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у слава будет вечн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не забудется в веках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752480" y="0"/>
            <a:ext cx="11277360" cy="72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72400" cy="517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819520" y="2071800"/>
            <a:ext cx="6324480" cy="47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5320" y="-720"/>
            <a:ext cx="57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Татаро-монгольская ор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880" y="6019200"/>
            <a:ext cx="52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Рыцари – крестоносц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http://festival.1september.ru/articles/611630/presentation/2.JPG"/>
          <p:cNvPicPr/>
          <p:nvPr/>
        </p:nvPicPr>
        <p:blipFill>
          <a:blip r:embed="rId2"/>
          <a:stretch/>
        </p:blipFill>
        <p:spPr>
          <a:xfrm>
            <a:off x="2666880" y="200016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http://festival.1september.ru/articles/611630/presentation/6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5000" y="2971080"/>
            <a:ext cx="71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Отечественная война 1812 го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5T14:53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