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15F-E8DA-4212-A705-EDBFF2B8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303-0F94-4A45-A274-01CA46C7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4E2-64E5-497E-BB1A-68EB5676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FA6-B45E-4917-BB7A-CF94D22D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1D884-7564-4953-B397-3DD37B21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E0BF6-9A8A-44B1-8F38-C4A630EE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5DFB4-700C-45A4-976C-9F5B7C1C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DF211-88D5-46EA-8940-B3667F3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7A34B-2826-457E-9CA9-3322E3E6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77AEC-AD8C-438E-A9FB-E4E07362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2E4DD-1E9A-4B9B-B659-28C0CE0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CC3-9F89-4072-8FC9-E3B72BAB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1A46F-B79E-4AB2-A46B-FBFB1D9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98D2C-8061-4856-B3F5-6D6AB86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0BC4C-8299-4D5E-90ED-F08A1FA9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F7E8F-E31B-4ED7-9E1B-7FEDA410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3D2C9-7BA5-47DD-811D-1B362209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EB2-905D-469F-903A-3CF553A2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E14-728F-4833-AF8A-7E48AD47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F72-8E26-4ACB-953C-EF3E901E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10F-E933-47D0-89B9-EC2484B9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81C-E38F-43AE-91F9-77B2E93F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98E-8CC9-47C7-855A-52074DC4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4AF-95A5-4853-A900-248D7C10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B2E-7FBA-48AF-8BB5-231A3B3D0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7079-653D-4E6B-9EF1-CC4161B1A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file:///Pesnya-o-kapitane-Kapitan-kapitan-ulybnites_(muzofon.com).mp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http://festival.1september.ru/articles/611630/presentation/1.JPG"/>
          <p:cNvPicPr/>
          <p:nvPr/>
        </p:nvPicPr>
        <p:blipFill>
          <a:blip r:embed="rId2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600200" y="2286000"/>
            <a:ext cx="5943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ава армии непобедимой!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ава миру на земл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97720" y="304920"/>
            <a:ext cx="418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1918 год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Первая мировая вой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В лютые дни февраля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Армия билась не зря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д Нарвой врагов сокрушила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беду в боях заслужи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Тогда этот праздник родился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Мы славим героев сейчас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Чтоб силой своею гордился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Российский бесстрашный солд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1" descr="http://festival.1september.ru/articles/611630/presentation/7.JPG"/>
          <p:cNvPicPr/>
          <p:nvPr/>
        </p:nvPicPr>
        <p:blipFill>
          <a:blip r:embed="rId2"/>
          <a:stretch/>
        </p:blipFill>
        <p:spPr>
          <a:xfrm>
            <a:off x="838080" y="628560"/>
            <a:ext cx="8305920" cy="622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191280" cy="4648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19520" y="609480"/>
            <a:ext cx="542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1941 год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Великая отечественная вой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8" descr="http://festival.1september.ru/articles/611630/presentation/14.JPG"/>
          <p:cNvPicPr/>
          <p:nvPr/>
        </p:nvPicPr>
        <p:blipFill>
          <a:blip r:embed="rId2"/>
          <a:stretch/>
        </p:blipFill>
        <p:spPr>
          <a:xfrm>
            <a:off x="0" y="-762120"/>
            <a:ext cx="7467480" cy="56008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9" descr="http://festival.1september.ru/articles/611630/presentation/15.JPG"/>
          <p:cNvPicPr/>
          <p:nvPr/>
        </p:nvPicPr>
        <p:blipFill>
          <a:blip r:embed="rId3"/>
          <a:stretch/>
        </p:blipFill>
        <p:spPr>
          <a:xfrm>
            <a:off x="2895480" y="26668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3680" y="121320"/>
            <a:ext cx="56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Афганская война (1979—1989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640" y="3047040"/>
            <a:ext cx="34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Чечня (1994-1996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06120" y="228600"/>
            <a:ext cx="4630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Слава нашим генерала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Слава нашим адмирала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И солдатам рядовы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Пешим, плавающим, конны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Утомленным, закалённы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Слава павшим и живым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Times New Roman"/>
              </a:rPr>
              <a:t>От души спасибо 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76520" y="3886200"/>
            <a:ext cx="5715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днём защитн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ечества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8" descr="http://festival.1september.ru/articles/611630/presentation/24.JPG"/>
          <p:cNvPicPr/>
          <p:nvPr/>
        </p:nvPicPr>
        <p:blipFill>
          <a:blip r:embed="rId2"/>
          <a:stretch/>
        </p:blipFill>
        <p:spPr>
          <a:xfrm>
            <a:off x="0" y="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" descr="http://virtual-sevastopol.ru/album/navyday/09_53_mercury7.jpg"/>
          <p:cNvPicPr/>
          <p:nvPr/>
        </p:nvPicPr>
        <p:blipFill>
          <a:blip r:embed="rId3"/>
          <a:stretch/>
        </p:blipFill>
        <p:spPr>
          <a:xfrm>
            <a:off x="3124080" y="3681360"/>
            <a:ext cx="6019920" cy="45198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4"/>
          </p:cNvPr>
          <p:cNvSpPr/>
          <p:nvPr/>
        </p:nvSpPr>
        <p:spPr>
          <a:xfrm>
            <a:off x="5105520" y="541008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21384600">
            <a:off x="837720" y="1294920"/>
            <a:ext cx="7923240" cy="41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курсная програм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ва корабля!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2" descr="http://festival.1september.ru/articles/611630/presentation/18.JPG"/>
          <p:cNvPicPr/>
          <p:nvPr/>
        </p:nvPicPr>
        <p:blipFill>
          <a:blip r:embed="rId2"/>
          <a:stretch/>
        </p:blipFill>
        <p:spPr>
          <a:xfrm>
            <a:off x="3200400" y="114300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3" descr="http://festival.1september.ru/articles/611630/presentation/19.JPG"/>
          <p:cNvPicPr/>
          <p:nvPr/>
        </p:nvPicPr>
        <p:blipFill>
          <a:blip r:embed="rId3"/>
          <a:stretch/>
        </p:blipFill>
        <p:spPr>
          <a:xfrm>
            <a:off x="0" y="240048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щитник Отечества…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Рисунок 20" descr="http://festival.1september.ru/articles/611630/presentation/16.JPG"/>
          <p:cNvPicPr/>
          <p:nvPr/>
        </p:nvPicPr>
        <p:blipFill>
          <a:blip r:embed="rId4"/>
          <a:stretch/>
        </p:blipFill>
        <p:spPr>
          <a:xfrm>
            <a:off x="39625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4" descr="http://festival.1september.ru/articles/611630/presentation/20.JPG"/>
          <p:cNvPicPr/>
          <p:nvPr/>
        </p:nvPicPr>
        <p:blipFill>
          <a:blip r:embed="rId2"/>
          <a:stretch/>
        </p:blipFill>
        <p:spPr>
          <a:xfrm>
            <a:off x="3200400" y="-22860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7" descr="http://festival.1september.ru/articles/611630/presentation/23.JPG"/>
          <p:cNvPicPr/>
          <p:nvPr/>
        </p:nvPicPr>
        <p:blipFill>
          <a:blip r:embed="rId3"/>
          <a:stretch/>
        </p:blipFill>
        <p:spPr>
          <a:xfrm>
            <a:off x="0" y="182880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0880" y="4343400"/>
            <a:ext cx="8458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лон тебе, солдат России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ы, родимый с нами есть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6" descr="http://festival.1september.ru/articles/611630/presentation/22.JPG"/>
          <p:cNvPicPr/>
          <p:nvPr/>
        </p:nvPicPr>
        <p:blipFill>
          <a:blip r:embed="rId2"/>
          <a:stretch/>
        </p:blipFill>
        <p:spPr>
          <a:xfrm>
            <a:off x="0" y="-38088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5" descr="http://festival.1september.ru/articles/611630/presentation/21.JPG"/>
          <p:cNvPicPr/>
          <p:nvPr/>
        </p:nvPicPr>
        <p:blipFill>
          <a:blip r:embed="rId3"/>
          <a:stretch/>
        </p:blipFill>
        <p:spPr>
          <a:xfrm>
            <a:off x="3809880" y="-22860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7" descr="http://festival.1september.ru/articles/611630/presentation/13.JPG"/>
          <p:cNvPicPr/>
          <p:nvPr/>
        </p:nvPicPr>
        <p:blipFill>
          <a:blip r:embed="rId4"/>
          <a:stretch/>
        </p:blipFill>
        <p:spPr>
          <a:xfrm>
            <a:off x="1371600" y="2057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80880" y="4343400"/>
            <a:ext cx="8458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лон тебе, солдат Отчизны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ы, родимый с нами есть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105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5334120" cy="399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124080" y="2643120"/>
            <a:ext cx="6172200" cy="4367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4864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4" descr="035nesvizh07v"/>
          <p:cNvPicPr/>
          <p:nvPr/>
        </p:nvPicPr>
        <p:blipFill>
          <a:blip r:embed="rId2"/>
          <a:stretch/>
        </p:blipFill>
        <p:spPr>
          <a:xfrm>
            <a:off x="0" y="0"/>
            <a:ext cx="490536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ay9_04"/>
          <p:cNvPicPr/>
          <p:nvPr/>
        </p:nvPicPr>
        <p:blipFill>
          <a:blip r:embed="rId3"/>
          <a:stretch/>
        </p:blipFill>
        <p:spPr>
          <a:xfrm>
            <a:off x="3352680" y="0"/>
            <a:ext cx="5791320" cy="4319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523880" y="3429000"/>
            <a:ext cx="60962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у слава будет вечна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не забудется в веках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1752480" y="0"/>
            <a:ext cx="11277360" cy="72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72400" cy="517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819520" y="2071800"/>
            <a:ext cx="6324480" cy="47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5320" y="-720"/>
            <a:ext cx="57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Татаро-монгольская ор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6880" y="6019200"/>
            <a:ext cx="52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Рыцари – крестоносц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" descr="http://festival.1september.ru/articles/611630/presentation/2.JPG"/>
          <p:cNvPicPr/>
          <p:nvPr/>
        </p:nvPicPr>
        <p:blipFill>
          <a:blip r:embed="rId2"/>
          <a:stretch/>
        </p:blipFill>
        <p:spPr>
          <a:xfrm>
            <a:off x="2666880" y="2000160"/>
            <a:ext cx="6477120" cy="48578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" descr="http://festival.1september.ru/articles/611630/presentation/6.JPG"/>
          <p:cNvPicPr/>
          <p:nvPr/>
        </p:nvPicPr>
        <p:blipFill>
          <a:blip r:embed="rId3"/>
          <a:stretch/>
        </p:blipFill>
        <p:spPr>
          <a:xfrm>
            <a:off x="0" y="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55000" y="2971080"/>
            <a:ext cx="71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Отечественная война 1812 го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25T14:53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