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26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EE5B-AE00-4F29-8E6A-616A22FEE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C781-A9A3-46BD-A983-7FEC6DD39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72F9-D390-4811-A4E9-95328BCBA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C06F-C3F7-47C8-B6F1-1F31764F6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A742-55A4-47F9-8D8E-2C0D44916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1BA8-0EA5-44D9-801D-AC49CFE4D8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7155-6CA6-40DF-9B1E-B23CA6F145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EEAE-57C9-429D-85D4-501E6FBAE8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A335-45CA-45BB-928F-FF30946BF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5062-DC41-48FB-A5C9-D839070D6B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73DB-64A0-4066-AEBB-E4B06C83EE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7701-B569-4E26-B87A-4306832D4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0987-9D2B-43A5-A911-2FA9ABF9CD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CEEF-49F6-4DC8-AFED-8E3383BC7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3030-B309-45C3-B1EB-A626A4AD4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311B-E910-45AD-9AF4-8FD5374F1A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E86D-E23A-467C-A380-F88D857D34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7BF3-6300-4A0D-B88B-C040A959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57C9C-C970-4813-933F-10A87323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24C9E-47D3-43A4-BA17-6B4D95D2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DBA0E-65D7-4C9B-8B75-061E853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FF8CA-A018-49AB-B716-B9D8EFA7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4B65-CA04-42F8-A2EA-44392255AC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AC920-9CA7-412A-8DEE-6CF7E00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58704-5785-448E-9617-06D7110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3ED6-86C2-4E50-8888-7B5B8B7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EEF33-CBE8-4938-9031-F930464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B7396-77F5-48B1-880F-C44EEDC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653E-DF5F-430A-B028-59EF03E9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FB0A-F05D-4DBB-A2D6-AB999C55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A663-822A-4861-9347-E9A82803E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711E-0138-41FD-8816-969889FC5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058-647F-40B1-8E09-8DBD5DFEB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991C-F48E-47C8-A41D-F6C33E282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EE8F-B038-4816-BB9F-617781C30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86F3-3B0B-4F95-BC3F-99CC6890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72e2e"/>
                </a:gs>
                <a:gs pos="50000">
                  <a:srgbClr val="800000"/>
                </a:gs>
                <a:gs pos="100000">
                  <a:srgbClr val="97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62434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750135-07F9-4B92-B270-229937B5D05A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72e2e"/>
                </a:gs>
                <a:gs pos="50000">
                  <a:srgbClr val="800000"/>
                </a:gs>
                <a:gs pos="100000">
                  <a:srgbClr val="97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F2A7CA-CD1A-4CE3-9002-1B3E0A9E639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CCEE6E-D8A8-4C76-95E5-132307CEB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428840"/>
            <a:ext cx="8229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Arial"/>
              </a:rPr>
              <a:t>Детям о спорт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2333520" cy="155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57960" y="642960"/>
            <a:ext cx="2073240" cy="3114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143160" y="785880"/>
            <a:ext cx="2324160" cy="1562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0" y="2428920"/>
            <a:ext cx="3006720" cy="2000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071880" y="4500720"/>
            <a:ext cx="16761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5651640" y="4357800"/>
            <a:ext cx="2973240" cy="18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2113200" cy="2643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714760" y="357120"/>
            <a:ext cx="2047680" cy="2830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572080" y="500040"/>
            <a:ext cx="3422520" cy="2357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428920" y="3786120"/>
            <a:ext cx="2870280" cy="1909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715000" y="3786120"/>
            <a:ext cx="316692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062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Участвуют больше одного человек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команд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00000" y="2637000"/>
            <a:ext cx="2448000" cy="2981160"/>
            <a:chOff x="900000" y="2637000"/>
            <a:chExt cx="2448000" cy="298116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900000" y="2637000"/>
              <a:ext cx="244800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00000" y="2637000"/>
              <a:ext cx="2448000" cy="29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857840" y="1571760"/>
            <a:ext cx="2995560" cy="41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86200" y="1000080"/>
            <a:ext cx="3338640" cy="2500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2286000" y="4000680"/>
            <a:ext cx="3332160" cy="2295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823000" y="4071960"/>
            <a:ext cx="3112920" cy="20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Участвует 1 человек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индивиду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292720" y="2276640"/>
            <a:ext cx="2849400" cy="3744720"/>
            <a:chOff x="5292720" y="2276640"/>
            <a:chExt cx="2849400" cy="374472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5292720" y="2276640"/>
              <a:ext cx="284940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292720" y="2276640"/>
              <a:ext cx="28494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042920" y="2276640"/>
            <a:ext cx="3013200" cy="3744720"/>
            <a:chOff x="1042920" y="2276640"/>
            <a:chExt cx="3013200" cy="37447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1042920" y="2276640"/>
              <a:ext cx="301320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42920" y="2276640"/>
              <a:ext cx="30132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2440" y="407880"/>
            <a:ext cx="2815920" cy="2616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357800" y="428760"/>
            <a:ext cx="3852720" cy="2552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643720" y="3643200"/>
            <a:ext cx="3295440" cy="2633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357280" y="4214880"/>
            <a:ext cx="2973600" cy="18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Награды  и грамот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28880" y="1500120"/>
            <a:ext cx="1444680" cy="2189160"/>
            <a:chOff x="1928880" y="1500120"/>
            <a:chExt cx="1444680" cy="218916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1928880" y="1500120"/>
              <a:ext cx="14446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28880" y="1500120"/>
              <a:ext cx="144468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715000" y="1571760"/>
            <a:ext cx="2189160" cy="2189160"/>
            <a:chOff x="5715000" y="1571760"/>
            <a:chExt cx="2189160" cy="218916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715000" y="1571760"/>
              <a:ext cx="2189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715000" y="1571760"/>
              <a:ext cx="21891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000240" y="4143240"/>
            <a:ext cx="2189160" cy="2189160"/>
            <a:chOff x="3000240" y="4143240"/>
            <a:chExt cx="2189160" cy="2189160"/>
          </a:xfrm>
        </p:grpSpPr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000240" y="4143240"/>
              <a:ext cx="2189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000240" y="4143240"/>
              <a:ext cx="21891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286680" y="4143240"/>
            <a:ext cx="1477800" cy="2189160"/>
            <a:chOff x="6286680" y="4143240"/>
            <a:chExt cx="1477800" cy="2189160"/>
          </a:xfrm>
        </p:grpSpPr>
        <p:pic>
          <p:nvPicPr>
            <p:cNvPr id="290" name="" descr=""/>
            <p:cNvPicPr/>
            <p:nvPr/>
          </p:nvPicPr>
          <p:blipFill>
            <a:blip r:embed="rId4"/>
            <a:stretch/>
          </p:blipFill>
          <p:spPr>
            <a:xfrm>
              <a:off x="6286680" y="4143240"/>
              <a:ext cx="147780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286680" y="4143240"/>
              <a:ext cx="147780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-5334120" y="-5715000"/>
            <a:ext cx="187812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211640" y="4319640"/>
            <a:ext cx="298764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1800360" y="2519280"/>
            <a:ext cx="6480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Продолжение следует..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6215040" y="4714920"/>
            <a:ext cx="2459160" cy="1639800"/>
            <a:chOff x="6215040" y="4714920"/>
            <a:chExt cx="2459160" cy="163980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215040" y="4714920"/>
              <a:ext cx="24591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215040" y="4714920"/>
              <a:ext cx="2459160" cy="16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Что такое спорт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357720" y="1071720"/>
            <a:ext cx="2333520" cy="1552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8760" y="1285920"/>
            <a:ext cx="2744640" cy="1714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643200" y="2786040"/>
            <a:ext cx="212436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643800" y="934920"/>
            <a:ext cx="1714320" cy="2576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00200" y="4714920"/>
            <a:ext cx="1895760" cy="19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635040"/>
            <a:ext cx="250020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72120" y="3429000"/>
            <a:ext cx="2617920" cy="1812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14920" y="64296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286000" y="3214800"/>
            <a:ext cx="3071880" cy="20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786200" y="642960"/>
            <a:ext cx="3606840" cy="2405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214720" y="3286080"/>
            <a:ext cx="3633480" cy="2427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000840" y="3500280"/>
            <a:ext cx="2867040" cy="201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5840" y="-285840"/>
            <a:ext cx="3857400" cy="3086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643120" y="3000240"/>
            <a:ext cx="2119320" cy="261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00800" y="928800"/>
            <a:ext cx="3449520" cy="25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Как было раньше…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2361960" cy="1533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71920" y="1571760"/>
            <a:ext cx="1866960" cy="194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215040" y="1643040"/>
            <a:ext cx="2286000" cy="19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143760" y="3714840"/>
            <a:ext cx="1914480" cy="1895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786040" y="4000680"/>
            <a:ext cx="2305080" cy="158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062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Кто такой спортсмен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1590840" cy="2286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286080" y="785880"/>
            <a:ext cx="1476360" cy="245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857920" y="928800"/>
            <a:ext cx="1809720" cy="2000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714760" y="3857760"/>
            <a:ext cx="2200320" cy="1647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715000" y="3500280"/>
            <a:ext cx="2763720" cy="183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Профессиональный 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1571760"/>
            <a:ext cx="3019320" cy="2000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000680" y="1571760"/>
            <a:ext cx="2714400" cy="2033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786040" y="4071960"/>
            <a:ext cx="2390760" cy="1514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43760" y="3786120"/>
            <a:ext cx="2763720" cy="183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3925800" cy="2004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572160" y="1428840"/>
            <a:ext cx="2124000" cy="3192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357280" y="3929040"/>
            <a:ext cx="3554640" cy="221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а</dc:creator>
  <dc:description/>
  <dc:language>en-US</dc:language>
  <cp:lastModifiedBy>Михаил</cp:lastModifiedBy>
  <cp:revision>0</cp:revision>
  <dc:subject/>
  <dc:title>PowerPoint Presentation</dc:title>
</cp:coreProperties>
</file>