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17.jpeg" ContentType="image/jpeg"/>
  <Override PartName="/ppt/media/image50.jpeg" ContentType="image/jpeg"/>
  <Override PartName="/ppt/media/image51.jpeg" ContentType="image/jpeg"/>
  <Override PartName="/ppt/media/image26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A3FF-9C28-4F28-A4E4-34BB4BFBA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3FBA-38DF-42F4-940A-ECA6ADDE4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3A98-C2AB-4602-B5DE-44338F37E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CC98-536A-40E5-AE50-2B42C2679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5CEC-4E0E-49D5-90D8-5FDB3FBA1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5814-3700-432E-B662-809A9CA9C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C9D3-8266-4A04-877A-F544BD1BD6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CC78-8EEB-4A2B-9F3D-6BEF79D46D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260B-EFFB-4551-86D2-9B3FECE50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6F7E-0A34-49DE-B183-9623BB4C74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B7C3-46D5-4EA7-80B2-EAC40ACA9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60FF-2866-470F-80D7-ECE9C08AF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3544-F76E-4CB5-874A-85FC1B9470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2B9F-0FF9-41F0-985D-CC3F24DC7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5B4D-C332-48C0-B7D0-D318CAFBD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00A8-001C-4281-8BDB-DF3A366A49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A239-21CE-4487-8D75-83E0484BC3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A239-B758-4F61-8316-168D050E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9812E-AAA9-49E8-AF0B-3887FBFD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D6359-4198-45B4-9049-35C9D45C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A07E8-F011-4C91-B489-3E0BF76C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995B9-E0C3-49F9-8CAC-542CC337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2620-C063-4FF6-A18F-49CC182990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52330-61C3-4B12-8ABA-D42E2FD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00EA-C477-438B-8A8B-2B68BA7C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4C275-3B25-4970-81E5-CCD5C955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C110D-9C2A-44EF-A8F9-41AFB04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3A5D5-A8D4-4F72-AD8D-FDF9C9AA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BB3A7-96B3-4D28-A32B-10E5E32A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139EF-ABC8-4828-B426-65D79BFD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D94B-55B7-49C6-9D0B-4B0C2BF24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FF92-9211-45D1-9F23-EE28199D6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5D33-D33B-4358-A61C-DFECBDE98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B05C-3A35-495C-8E0E-DBB8344A6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D3B2-5B55-49AB-9ABF-6B0CE313D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83DD-101C-4BF1-985A-5FBD42C9F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72e2e"/>
                </a:gs>
                <a:gs pos="50000">
                  <a:srgbClr val="800000"/>
                </a:gs>
                <a:gs pos="100000">
                  <a:srgbClr val="97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62434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D4290A-5293-429E-A3AA-95B8EE6B208E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72e2e"/>
                </a:gs>
                <a:gs pos="50000">
                  <a:srgbClr val="800000"/>
                </a:gs>
                <a:gs pos="100000">
                  <a:srgbClr val="97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3980F6-0A0A-4523-AE65-9BF7D218335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774B66-524B-466D-9047-D745775451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42884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Arial"/>
              </a:rPr>
              <a:t>Детям о спорт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2333520" cy="1552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57960" y="642960"/>
            <a:ext cx="2073240" cy="3114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143160" y="785880"/>
            <a:ext cx="2324160" cy="1562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0" y="2428920"/>
            <a:ext cx="3006720" cy="2000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071880" y="4500720"/>
            <a:ext cx="167616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5651640" y="4357800"/>
            <a:ext cx="2973240" cy="18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2113200" cy="2643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714760" y="357120"/>
            <a:ext cx="2047680" cy="2830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572080" y="500040"/>
            <a:ext cx="3422520" cy="2357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428920" y="3786120"/>
            <a:ext cx="2870280" cy="1909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715000" y="3786120"/>
            <a:ext cx="316692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1062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Участвуют больше одного человек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команд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00000" y="2637000"/>
            <a:ext cx="2448000" cy="2981160"/>
            <a:chOff x="900000" y="2637000"/>
            <a:chExt cx="2448000" cy="298116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900000" y="2637000"/>
              <a:ext cx="244800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900000" y="2637000"/>
              <a:ext cx="2448000" cy="29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857840" y="1571760"/>
            <a:ext cx="2995560" cy="415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86200" y="1000080"/>
            <a:ext cx="3338640" cy="2500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286000" y="4000680"/>
            <a:ext cx="3332160" cy="2295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823000" y="4071960"/>
            <a:ext cx="3112920" cy="20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Участвует 1 человек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индивиду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292720" y="2276640"/>
            <a:ext cx="2849400" cy="3744720"/>
            <a:chOff x="5292720" y="2276640"/>
            <a:chExt cx="2849400" cy="374472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5292720" y="2276640"/>
              <a:ext cx="284940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292720" y="2276640"/>
              <a:ext cx="284940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42920" y="2276640"/>
            <a:ext cx="3013200" cy="3744720"/>
            <a:chOff x="1042920" y="2276640"/>
            <a:chExt cx="3013200" cy="37447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1042920" y="2276640"/>
              <a:ext cx="301320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42920" y="2276640"/>
              <a:ext cx="301320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2440" y="407880"/>
            <a:ext cx="2815920" cy="2616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357800" y="428760"/>
            <a:ext cx="3852720" cy="2552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643720" y="3643200"/>
            <a:ext cx="3295440" cy="2633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357280" y="4214880"/>
            <a:ext cx="2973600" cy="18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Награды  и грамот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28880" y="1500120"/>
            <a:ext cx="1444680" cy="2189160"/>
            <a:chOff x="1928880" y="1500120"/>
            <a:chExt cx="1444680" cy="218916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1928880" y="1500120"/>
              <a:ext cx="14446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28880" y="1500120"/>
              <a:ext cx="144468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715000" y="1571760"/>
            <a:ext cx="2189160" cy="2189160"/>
            <a:chOff x="5715000" y="1571760"/>
            <a:chExt cx="2189160" cy="218916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715000" y="1571760"/>
              <a:ext cx="2189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715000" y="1571760"/>
              <a:ext cx="21891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000240" y="4143240"/>
            <a:ext cx="2189160" cy="2189160"/>
            <a:chOff x="3000240" y="4143240"/>
            <a:chExt cx="2189160" cy="2189160"/>
          </a:xfrm>
        </p:grpSpPr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3000240" y="4143240"/>
              <a:ext cx="2189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000240" y="4143240"/>
              <a:ext cx="21891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286680" y="4143240"/>
            <a:ext cx="1477800" cy="2189160"/>
            <a:chOff x="6286680" y="4143240"/>
            <a:chExt cx="1477800" cy="2189160"/>
          </a:xfrm>
        </p:grpSpPr>
        <p:pic>
          <p:nvPicPr>
            <p:cNvPr id="290" name="" descr=""/>
            <p:cNvPicPr/>
            <p:nvPr/>
          </p:nvPicPr>
          <p:blipFill>
            <a:blip r:embed="rId4"/>
            <a:stretch/>
          </p:blipFill>
          <p:spPr>
            <a:xfrm>
              <a:off x="6286680" y="4143240"/>
              <a:ext cx="147780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286680" y="4143240"/>
              <a:ext cx="147780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-5334120" y="-5715000"/>
            <a:ext cx="1878120" cy="173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211640" y="4319640"/>
            <a:ext cx="298764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1800360" y="2519280"/>
            <a:ext cx="6480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Продолжение следует..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6215040" y="4714920"/>
            <a:ext cx="2459160" cy="1639800"/>
            <a:chOff x="6215040" y="4714920"/>
            <a:chExt cx="2459160" cy="163980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6215040" y="4714920"/>
              <a:ext cx="24591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215040" y="4714920"/>
              <a:ext cx="2459160" cy="16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Что такое спорт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357720" y="1071720"/>
            <a:ext cx="2333520" cy="1552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28760" y="1285920"/>
            <a:ext cx="2744640" cy="1714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643200" y="2786040"/>
            <a:ext cx="212436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643800" y="934920"/>
            <a:ext cx="1714320" cy="2576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00200" y="4714920"/>
            <a:ext cx="1895760" cy="19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635040"/>
            <a:ext cx="2500200" cy="199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72120" y="3429000"/>
            <a:ext cx="2617920" cy="1812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14920" y="64296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286000" y="3214800"/>
            <a:ext cx="3071880" cy="20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786200" y="642960"/>
            <a:ext cx="3606840" cy="2405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214720" y="3286080"/>
            <a:ext cx="3633480" cy="2427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000840" y="3500280"/>
            <a:ext cx="2867040" cy="201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5840" y="-285840"/>
            <a:ext cx="3857400" cy="3086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643120" y="3000240"/>
            <a:ext cx="2119320" cy="261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500800" y="928800"/>
            <a:ext cx="3449520" cy="257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Как было раньше…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2361960" cy="1533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71920" y="1571760"/>
            <a:ext cx="1866960" cy="1942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215040" y="1643040"/>
            <a:ext cx="2286000" cy="19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143760" y="3714840"/>
            <a:ext cx="1914480" cy="1895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786040" y="4000680"/>
            <a:ext cx="2305080" cy="158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062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Кто такой спортсмен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1590840" cy="2286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286080" y="785880"/>
            <a:ext cx="1476360" cy="245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857920" y="928800"/>
            <a:ext cx="1809720" cy="2000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714760" y="3857760"/>
            <a:ext cx="2200320" cy="1647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715000" y="3500280"/>
            <a:ext cx="2763720" cy="183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Профессиональный 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1571760"/>
            <a:ext cx="3019320" cy="2000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000680" y="1571760"/>
            <a:ext cx="2714400" cy="2033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786040" y="4071960"/>
            <a:ext cx="2390760" cy="1514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143760" y="3786120"/>
            <a:ext cx="2763720" cy="183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3925800" cy="2004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572160" y="1428840"/>
            <a:ext cx="2124000" cy="3192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357280" y="3929040"/>
            <a:ext cx="3554640" cy="221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на</dc:creator>
  <dc:description/>
  <dc:language>en-US</dc:language>
  <cp:lastModifiedBy>Михаил</cp:lastModifiedBy>
  <cp:revision>0</cp:revision>
  <dc:subject/>
  <dc:title>PowerPoint Presentation</dc:title>
</cp:coreProperties>
</file>