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5B8F-FC6A-49C8-B252-33ABFC2099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have a br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82E1-FE22-41C2-BA92-C822B224C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will listen to the dialog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1D61-8B97-4A27-9ABF-F693A4C08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0ED-D488-49F2-8B20-1C03592F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477-7416-4B34-A805-FB181BAC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C44-A2DB-4F41-810F-8B936E2A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7D9-E0F5-4422-81A3-33C610A9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FF2-BA98-4010-A851-93FC369B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063-A315-421B-8D90-916F068D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A58-99B5-4533-984B-F466A612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E86-1FEA-495C-9C80-2F7A0404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1D1-5CD4-4F92-910E-D76E1095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B1E-6F1B-4605-AD32-B836CE97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46C-15C7-428C-8B41-342F452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44F-67E3-487B-B523-2B7A85BB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A66F-C199-4A2C-B900-513A413F6C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912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33"/>
                </a:solidFill>
                <a:latin typeface="Monotype Corsiva"/>
              </a:rPr>
              <a:t>Brea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886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407360" cy="5857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2629440" y="-100440"/>
            <a:ext cx="822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33"/>
                </a:solidFill>
                <a:latin typeface="Monotype Corsiva"/>
              </a:rPr>
              <a:t>Liste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7920" y="63961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.32 ex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08000" y="1268280"/>
            <a:ext cx="5619960" cy="4214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360360" y="130320"/>
            <a:ext cx="370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33"/>
                </a:solidFill>
                <a:latin typeface="Monotype Corsiva"/>
              </a:rPr>
              <a:t>Dialogu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219120" y="5661000"/>
            <a:ext cx="29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Her food 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Monotype Corsiva"/>
              </a:rPr>
              <a:t>Healthy</a:t>
            </a:r>
            <a:r>
              <a:rPr b="0" lang="en-US" sz="6000" spc="-1" strike="noStrike">
                <a:solidFill>
                  <a:srgbClr val="006600"/>
                </a:solidFill>
                <a:latin typeface="Monotype Corsiva"/>
              </a:rPr>
              <a:t>        </a:t>
            </a:r>
            <a:r>
              <a:rPr b="1" lang="en-US" sz="6000" spc="-1" strike="noStrike">
                <a:solidFill>
                  <a:srgbClr val="006600"/>
                </a:solidFill>
                <a:latin typeface="Monotype Corsiva"/>
              </a:rPr>
              <a:t>Unhealth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762720" cy="352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667320" cy="343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3132000" y="4292640"/>
            <a:ext cx="2835360" cy="198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7" descr=""/>
          <p:cNvPicPr/>
          <p:nvPr/>
        </p:nvPicPr>
        <p:blipFill>
          <a:blip r:embed="rId4"/>
          <a:stretch/>
        </p:blipFill>
        <p:spPr>
          <a:xfrm>
            <a:off x="3492360" y="4889520"/>
            <a:ext cx="2232000" cy="179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"/>
          <p:cNvPicPr/>
          <p:nvPr/>
        </p:nvPicPr>
        <p:blipFill>
          <a:blip r:embed="rId5"/>
          <a:stretch/>
        </p:blipFill>
        <p:spPr>
          <a:xfrm>
            <a:off x="2987640" y="443700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9" descr=""/>
          <p:cNvPicPr/>
          <p:nvPr/>
        </p:nvPicPr>
        <p:blipFill>
          <a:blip r:embed="rId6"/>
          <a:stretch/>
        </p:blipFill>
        <p:spPr>
          <a:xfrm>
            <a:off x="3203640" y="4437000"/>
            <a:ext cx="3168720" cy="2109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"/>
          <p:cNvPicPr/>
          <p:nvPr/>
        </p:nvPicPr>
        <p:blipFill>
          <a:blip r:embed="rId7"/>
          <a:stretch/>
        </p:blipFill>
        <p:spPr>
          <a:xfrm>
            <a:off x="3635280" y="4581360"/>
            <a:ext cx="2808360" cy="186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"/>
          <p:cNvPicPr/>
          <p:nvPr/>
        </p:nvPicPr>
        <p:blipFill>
          <a:blip r:embed="rId8"/>
          <a:stretch/>
        </p:blipFill>
        <p:spPr>
          <a:xfrm>
            <a:off x="4284720" y="4581360"/>
            <a:ext cx="998640" cy="187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"/>
          <p:cNvPicPr/>
          <p:nvPr/>
        </p:nvPicPr>
        <p:blipFill>
          <a:blip r:embed="rId9"/>
          <a:stretch/>
        </p:blipFill>
        <p:spPr>
          <a:xfrm>
            <a:off x="3348000" y="4508640"/>
            <a:ext cx="2664000" cy="165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"/>
          <p:cNvPicPr/>
          <p:nvPr/>
        </p:nvPicPr>
        <p:blipFill>
          <a:blip r:embed="rId10"/>
          <a:stretch/>
        </p:blipFill>
        <p:spPr>
          <a:xfrm>
            <a:off x="3492360" y="4292640"/>
            <a:ext cx="2159280" cy="2149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"/>
          <p:cNvPicPr/>
          <p:nvPr/>
        </p:nvPicPr>
        <p:blipFill>
          <a:blip r:embed="rId11"/>
          <a:stretch/>
        </p:blipFill>
        <p:spPr>
          <a:xfrm>
            <a:off x="3564000" y="4076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12"/>
          <a:stretch/>
        </p:blipFill>
        <p:spPr>
          <a:xfrm>
            <a:off x="2987640" y="436572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"/>
          <p:cNvPicPr/>
          <p:nvPr/>
        </p:nvPicPr>
        <p:blipFill>
          <a:blip r:embed="rId13"/>
          <a:stretch/>
        </p:blipFill>
        <p:spPr>
          <a:xfrm>
            <a:off x="3492360" y="4336920"/>
            <a:ext cx="2519640" cy="2521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14"/>
          <a:stretch/>
        </p:blipFill>
        <p:spPr>
          <a:xfrm>
            <a:off x="4284720" y="4797360"/>
            <a:ext cx="1209600" cy="165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"/>
          <p:cNvPicPr/>
          <p:nvPr/>
        </p:nvPicPr>
        <p:blipFill>
          <a:blip r:embed="rId15"/>
          <a:stretch/>
        </p:blipFill>
        <p:spPr>
          <a:xfrm>
            <a:off x="3851280" y="47242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"/>
          <p:cNvPicPr/>
          <p:nvPr/>
        </p:nvPicPr>
        <p:blipFill>
          <a:blip r:embed="rId16"/>
          <a:stretch/>
        </p:blipFill>
        <p:spPr>
          <a:xfrm>
            <a:off x="3708360" y="4724280"/>
            <a:ext cx="2305080" cy="166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"/>
          <p:cNvPicPr/>
          <p:nvPr/>
        </p:nvPicPr>
        <p:blipFill>
          <a:blip r:embed="rId17"/>
          <a:stretch/>
        </p:blipFill>
        <p:spPr>
          <a:xfrm>
            <a:off x="4140360" y="4653000"/>
            <a:ext cx="1295280" cy="1668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"/>
          <p:cNvPicPr/>
          <p:nvPr/>
        </p:nvPicPr>
        <p:blipFill>
          <a:blip r:embed="rId18"/>
          <a:stretch/>
        </p:blipFill>
        <p:spPr>
          <a:xfrm>
            <a:off x="3924360" y="5157720"/>
            <a:ext cx="1942920" cy="1309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19"/>
          <a:stretch/>
        </p:blipFill>
        <p:spPr>
          <a:xfrm>
            <a:off x="4067280" y="5013360"/>
            <a:ext cx="1414440" cy="120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0"/>
          <a:stretch/>
        </p:blipFill>
        <p:spPr>
          <a:xfrm>
            <a:off x="3780000" y="5084640"/>
            <a:ext cx="2050920" cy="136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" descr=""/>
          <p:cNvPicPr/>
          <p:nvPr/>
        </p:nvPicPr>
        <p:blipFill>
          <a:blip r:embed="rId21"/>
          <a:stretch/>
        </p:blipFill>
        <p:spPr>
          <a:xfrm>
            <a:off x="3851280" y="5013360"/>
            <a:ext cx="1874880" cy="1339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2"/>
          <a:stretch/>
        </p:blipFill>
        <p:spPr>
          <a:xfrm>
            <a:off x="3924360" y="5157720"/>
            <a:ext cx="1655640" cy="1158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23"/>
          <a:stretch/>
        </p:blipFill>
        <p:spPr>
          <a:xfrm>
            <a:off x="3780000" y="4724280"/>
            <a:ext cx="1898640" cy="182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"/>
          <p:cNvPicPr/>
          <p:nvPr/>
        </p:nvPicPr>
        <p:blipFill>
          <a:blip r:embed="rId24"/>
          <a:stretch/>
        </p:blipFill>
        <p:spPr>
          <a:xfrm>
            <a:off x="3924360" y="5084640"/>
            <a:ext cx="170316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38 0.05718 C -0.16007 0.06204 -0.32552 0.06713 -0.35052 0.01412 C -0.37552 -0.03889 -0.18281 -0.21458 -0.14462 -0.26042 E">
                                      <p:cBhvr>
                                        <p:cTn id="2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6296E-006 C -0.19045 -0.01412 -0.3809 -0.02824 -0.42066 -0.0824 C -0.46042 -0.13657 -0.34931 -0.23125 -0.2382 -0.32569 E">
                                      <p:cBhvr>
                                        <p:cTn id="3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C 0.18802 -0.01482 0.37604 -0.0294 0.41771 -0.06667 C 0.45938 -0.10394 0.28229 -0.19422 0.25 -0.22361 C 0.21771 -0.25301 0.23281 -0.21065 0.22361 -0.24329 E">
                                      <p:cBhvr>
                                        <p:cTn id="4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5.18519E-006 C -0.20451 -0.01319 -0.40885 -0.02615 -0.44409 -0.05879 C -0.47933 -0.09143 -0.25051 -0.17244 -0.2118 -0.19606 E">
                                      <p:cBhvr>
                                        <p:cTn id="56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C 0.15329 0.00741 0.30677 0.01505 0.34114 -0.02731 C 0.37552 -0.06968 0.29062 -0.16227 0.2059 -0.25486 E">
                                      <p:cBhvr>
                                        <p:cTn id="6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C 0.14948 -0.00533 0.29896 -0.01042 0.32934 -0.06274 C 0.35972 -0.11505 0.20625 -0.27176 0.18229 -0.31366 E">
                                      <p:cBhvr>
                                        <p:cTn id="7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9.62963E-006 C -0.20781 0.00787 -0.4158 0.01574 -0.44722 -0.01575 C -0.47847 -0.04723 -0.23767 -0.15903 -0.18819 -0.18843 E">
                                      <p:cBhvr>
                                        <p:cTn id="8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222E-006 C -0.21215 -0.00208 -0.42413 -0.00393 -0.46771 -0.04305 C -0.51129 -0.08217 -0.2967 -0.20185 -0.26181 -0.23518 E">
                                      <p:cBhvr>
                                        <p:cTn id="9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2.96296E-006 C -0.22118 0.0463 -0.44202 0.09282 -0.48212 0.0588 C -0.52222 0.02477 -0.38177 -0.08958 -0.24115 -0.20394 E">
                                      <p:cBhvr>
                                        <p:cTn id="101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C 0.18091 -0.03773 0.36181 -0.07546 0.4099 -0.12662 C 0.45799 -0.17777 0.37309 -0.24236 0.2882 -0.30671 E">
                                      <p:cBhvr>
                                        <p:cTn id="11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77778E-006 C -0.15799 0.01621 -0.31563 0.03241 -0.35 -0.01782 C -0.38438 -0.06805 -0.23021 -0.25462 -0.2066 -0.30208 E">
                                      <p:cBhvr>
                                        <p:cTn id="119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C -0.1349 -0.03079 -0.26962 -0.06157 -0.3132 -0.0956 C -0.35677 -0.12963 -0.3092 -0.16713 -0.26163 -0.2044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C 0.1526 -0.00208 0.30538 -0.00417 0.33836 -0.03773 C 0.37135 -0.0713 0.28489 -0.13681 0.19843 -0.20208 E">
                                      <p:cBhvr>
                                        <p:cTn id="137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6 C -0.17326 -0.04815 -0.34652 -0.0963 -0.38489 -0.14213 C -0.42326 -0.18796 -0.25607 -0.25625 -0.22986 -0.27546 C -0.20364 -0.29468 -0.21597 -0.27616 -0.22812 -0.25764 E">
                                      <p:cBhvr>
                                        <p:cTn id="14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07407E-006 C -0.19583 -0.04444 -0.39167 -0.08888 -0.425 -0.14884 C -0.45833 -0.20879 -0.32917 -0.28449 -0.2 -0.35995 E">
                                      <p:cBhvr>
                                        <p:cTn id="15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C -0.13351 -0.05532 -0.26701 -0.11065 -0.3 -0.15995 C -0.33299 -0.20926 -0.26562 -0.25231 -0.19826 -0.29537 E">
                                      <p:cBhvr>
                                        <p:cTn id="16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C 0.16459 0.00995 0.32917 0.01991 0.3783 -0.02685 C 0.42743 -0.07361 0.36111 -0.17685 0.29497 -0.28009 E">
                                      <p:cBhvr>
                                        <p:cTn id="173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6.66667E-006 C 0.13403 0.00718 0.26823 0.01436 0.3151 -0.03772 C 0.36198 -0.08981 0.28542 -0.2699 0.28177 -0.31319 E">
                                      <p:cBhvr>
                                        <p:cTn id="18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03704E-006 C -0.17778 -0.03935 -0.35504 -0.07847 -0.3934 -0.14004 C -0.43177 -0.20161 -0.3309 -0.28541 -0.23004 -0.36897 E">
                                      <p:cBhvr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8.14815E-006 C -0.14636 0.02732 -0.29254 0.05464 -0.33004 0.00232 C -0.36754 -0.04999 -0.29636 -0.18171 -0.225 -0.31319 E">
                                      <p:cBhvr>
                                        <p:cTn id="20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8 0.00556 C 0.23281 -0.08426 0.39305 -0.17476 0.41389 -0.23402 C 0.43333 -0.29213 0.31354 -0.32129 0.19357 -0.3493 E">
                                      <p:cBhvr>
                                        <p:cTn id="20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82 -0.04352 C -0.13611 0.00116 -0.32621 0.04584 -0.37795 0.00047 C -0.43038 -0.04467 -0.34271 -0.18009 -0.25625 -0.31481 E">
                                      <p:cBhvr>
                                        <p:cTn id="21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95640" y="2536920"/>
            <a:ext cx="4321080" cy="4321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908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or breakfast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dobe Gothic Std B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ust ea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or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unch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dobe Gothic Std B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ust e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or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dinner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dobe Gothic Std B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ust e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908360" y="-27000"/>
            <a:ext cx="7127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33"/>
                </a:solidFill>
                <a:latin typeface="Monotype Corsiva"/>
              </a:rPr>
              <a:t>My men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33"/>
                </a:solidFill>
                <a:latin typeface="Monotype Corsiva"/>
              </a:rPr>
              <a:t>Hometas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0" t="17458" r="0" b="17458"/>
          <a:stretch/>
        </p:blipFill>
        <p:spPr>
          <a:xfrm>
            <a:off x="539640" y="2060640"/>
            <a:ext cx="4324320" cy="3744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4067640" y="2060640"/>
            <a:ext cx="461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. стр. 33 №4 – вып. сл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т., пер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 стр. 23 ур.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33"/>
                </a:solidFill>
                <a:latin typeface="Monotype Corsiva"/>
              </a:rPr>
              <a:t>Goodbye, Childre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11413" t="21654" r="7476" b="2751"/>
          <a:stretch/>
        </p:blipFill>
        <p:spPr>
          <a:xfrm>
            <a:off x="1042920" y="141300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рт</cp:lastModifiedBy>
  <dcterms:modified xsi:type="dcterms:W3CDTF">2015-01-25T19:33:47Z</dcterms:modified>
  <cp:revision>704</cp:revision>
  <dc:subject/>
  <dc:title>Diapositiva 1</dc:title>
</cp:coreProperties>
</file>