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DF33-C689-4A8A-9E58-695E1611F7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me of our lesson i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and healt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What will we have to discuss on our lesson according to the theme. (the food we know, healthy food, unhealthy fo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3316-20EE-4326-BC5E-1177DE742F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C904-34F7-4870-8680-8CE7AC2EFB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ем строки и выясняем, какому звуку и буквосочетанию посвящена ст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F113-857B-4D4C-9EDD-20FC74FD53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авляем пропущенные буквы, ищем лишнее сл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3384-AEC2-4F47-998E-440A9813F8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your hometask fo today’s lesson?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ли своё меню на недел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881E-2D7A-4312-97A8-4323D0E3C2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your menu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A53C-DD30-4784-AD8C-DF6BB9567B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5ED-0028-4155-883D-E135A73E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56C-6595-46C2-9630-CC2F7997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59B-5526-42BA-8F78-1FBEB8E6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C9E3-E4DA-4E6D-B0B7-70852562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5D1D-F1B5-46DF-A3EB-74A3BFC6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4192-2915-48E0-B6D6-E286EF17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08A-EC36-4B21-8C52-828B75F2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B3E0-1E02-4075-93E1-65D9855A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830-8E81-46AD-B8A0-72A93AC1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3FD-48A8-438C-82E7-3DD7ED89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570-58D3-40C5-8E97-174F2F83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B0B-8996-4D4C-AC90-9980F02E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B586-A6BE-4689-917A-54368CD832D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Arial"/>
              </a:rPr>
              <a:t>Good morning, Childre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93712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7" descr=""/>
          <p:cNvPicPr/>
          <p:nvPr/>
        </p:nvPicPr>
        <p:blipFill>
          <a:blip r:embed="rId1"/>
          <a:stretch/>
        </p:blipFill>
        <p:spPr>
          <a:xfrm rot="498000">
            <a:off x="2333160" y="2474640"/>
            <a:ext cx="5978520" cy="334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 rot="21175200">
            <a:off x="830160" y="2220840"/>
            <a:ext cx="5180040" cy="3873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Food</a:t>
            </a: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and Heal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16000" y="44280"/>
            <a:ext cx="37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33"/>
                </a:solidFill>
                <a:latin typeface="Monotype Corsiva"/>
              </a:rPr>
              <a:t>The Theme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1116000" y="2349360"/>
            <a:ext cx="694692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906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505640" cy="4997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708360" y="1844640"/>
            <a:ext cx="3959280" cy="17398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Green Sch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Monotype Corsiva"/>
              </a:rPr>
              <a:t>Read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83664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di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, m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ng, h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, sh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, f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, c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sm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ff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s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s, m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, ice-cr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, t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ese, sandwi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colate, pea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:\Users\Артбук\Desktop\к презентациям\0_6fd01_9387dd10_XL.png"/>
          <p:cNvPicPr/>
          <p:nvPr/>
        </p:nvPicPr>
        <p:blipFill>
          <a:blip r:embed="rId1"/>
          <a:stretch/>
        </p:blipFill>
        <p:spPr>
          <a:xfrm>
            <a:off x="2195640" y="3573360"/>
            <a:ext cx="3644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4452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Monotype Corsiva"/>
              </a:rPr>
              <a:t>Writ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692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_ne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_m_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_i_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_r_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_n_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g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_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_ma_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_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987640" y="774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r_i_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_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_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_e_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_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_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_ba_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_l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_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одержимое 4"/>
          <p:cNvSpPr/>
          <p:nvPr/>
        </p:nvSpPr>
        <p:spPr>
          <a:xfrm>
            <a:off x="-36360" y="7034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u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g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l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одержимое 5"/>
          <p:cNvSpPr/>
          <p:nvPr/>
        </p:nvSpPr>
        <p:spPr>
          <a:xfrm>
            <a:off x="2987640" y="774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r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w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u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u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3203640" y="2205000"/>
            <a:ext cx="2305080" cy="6476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1"/>
          <a:stretch/>
        </p:blipFill>
        <p:spPr>
          <a:xfrm>
            <a:off x="0" y="981000"/>
            <a:ext cx="690732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Users\Артбук\Desktop\к презентациям\0_78bd9_3c9106d4_orig.png"/>
          <p:cNvPicPr/>
          <p:nvPr/>
        </p:nvPicPr>
        <p:blipFill>
          <a:blip r:embed="rId2"/>
          <a:stretch/>
        </p:blipFill>
        <p:spPr>
          <a:xfrm>
            <a:off x="5565600" y="3141720"/>
            <a:ext cx="354348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419960" cy="5776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1080" y="0"/>
            <a:ext cx="329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Monotype Corsiva"/>
              </a:rPr>
              <a:t>Homet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Скругленный прямоугольник 3"/>
          <p:cNvGrpSpPr/>
          <p:nvPr/>
        </p:nvGrpSpPr>
        <p:grpSpPr>
          <a:xfrm>
            <a:off x="133200" y="390600"/>
            <a:ext cx="8845560" cy="6218280"/>
            <a:chOff x="133200" y="390600"/>
            <a:chExt cx="8845560" cy="6218280"/>
          </a:xfrm>
        </p:grpSpPr>
        <p:pic>
          <p:nvPicPr>
            <p:cNvPr id="7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33200" y="390600"/>
              <a:ext cx="8845560" cy="62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46040" y="706320"/>
              <a:ext cx="8215200" cy="55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4"/>
          <p:cNvSpPr/>
          <p:nvPr/>
        </p:nvSpPr>
        <p:spPr>
          <a:xfrm>
            <a:off x="2844360" y="333360"/>
            <a:ext cx="265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Monotype Corsiva"/>
              </a:rPr>
              <a:t>Men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Скругленный прямоугольник 6"/>
          <p:cNvGrpSpPr/>
          <p:nvPr/>
        </p:nvGrpSpPr>
        <p:grpSpPr>
          <a:xfrm>
            <a:off x="285840" y="1170000"/>
            <a:ext cx="2658960" cy="1420920"/>
            <a:chOff x="285840" y="1170000"/>
            <a:chExt cx="2658960" cy="1420920"/>
          </a:xfrm>
        </p:grpSpPr>
        <p:pic>
          <p:nvPicPr>
            <p:cNvPr id="75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285840" y="1170000"/>
              <a:ext cx="265896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84120" y="1263600"/>
              <a:ext cx="24652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Arial"/>
                </a:rPr>
                <a:t>Monda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Скругленный прямоугольник 7"/>
          <p:cNvGrpSpPr/>
          <p:nvPr/>
        </p:nvGrpSpPr>
        <p:grpSpPr>
          <a:xfrm>
            <a:off x="285840" y="2755800"/>
            <a:ext cx="2658960" cy="1419480"/>
            <a:chOff x="285840" y="2755800"/>
            <a:chExt cx="2658960" cy="1419480"/>
          </a:xfrm>
        </p:grpSpPr>
        <p:pic>
          <p:nvPicPr>
            <p:cNvPr id="78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85840" y="2755800"/>
              <a:ext cx="265896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82680" y="2847960"/>
              <a:ext cx="246672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Arial"/>
                </a:rPr>
                <a:t>Tuesda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Скругленный прямоугольник 8"/>
          <p:cNvGrpSpPr/>
          <p:nvPr/>
        </p:nvGrpSpPr>
        <p:grpSpPr>
          <a:xfrm>
            <a:off x="365040" y="4479840"/>
            <a:ext cx="2792520" cy="1281240"/>
            <a:chOff x="365040" y="4479840"/>
            <a:chExt cx="2792520" cy="1281240"/>
          </a:xfrm>
        </p:grpSpPr>
        <p:pic>
          <p:nvPicPr>
            <p:cNvPr id="81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365040" y="4479840"/>
              <a:ext cx="279252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55760" y="4568760"/>
              <a:ext cx="261612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Arial"/>
                </a:rPr>
                <a:t>Wednesda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Скругленный прямоугольник 9"/>
          <p:cNvGrpSpPr/>
          <p:nvPr/>
        </p:nvGrpSpPr>
        <p:grpSpPr>
          <a:xfrm>
            <a:off x="3322800" y="3614760"/>
            <a:ext cx="2571480" cy="1427040"/>
            <a:chOff x="3322800" y="3614760"/>
            <a:chExt cx="2571480" cy="1427040"/>
          </a:xfrm>
        </p:grpSpPr>
        <p:pic>
          <p:nvPicPr>
            <p:cNvPr id="84" name="Скругленный 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3322800" y="3614760"/>
              <a:ext cx="257148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414600" y="3711600"/>
              <a:ext cx="23860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Arial"/>
                </a:rPr>
                <a:t>Frida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Скругленный прямоугольник 11"/>
          <p:cNvGrpSpPr/>
          <p:nvPr/>
        </p:nvGrpSpPr>
        <p:grpSpPr>
          <a:xfrm>
            <a:off x="3322800" y="2030400"/>
            <a:ext cx="2571480" cy="1425600"/>
            <a:chOff x="3322800" y="2030400"/>
            <a:chExt cx="2571480" cy="1425600"/>
          </a:xfrm>
        </p:grpSpPr>
        <p:pic>
          <p:nvPicPr>
            <p:cNvPr id="87" name="Скругленный прямоугольник 11" descr=""/>
            <p:cNvPicPr/>
            <p:nvPr/>
          </p:nvPicPr>
          <p:blipFill>
            <a:blip r:embed="rId6"/>
            <a:stretch/>
          </p:blipFill>
          <p:spPr>
            <a:xfrm>
              <a:off x="3322800" y="2030400"/>
              <a:ext cx="257148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414600" y="2127240"/>
              <a:ext cx="23860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Arial"/>
                </a:rPr>
                <a:t>Thursda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2" descr=""/>
          <p:cNvPicPr/>
          <p:nvPr/>
        </p:nvPicPr>
        <p:blipFill>
          <a:blip r:embed="rId7"/>
          <a:stretch/>
        </p:blipFill>
        <p:spPr>
          <a:xfrm>
            <a:off x="5894280" y="1316160"/>
            <a:ext cx="29685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арт</cp:lastModifiedBy>
  <dcterms:modified xsi:type="dcterms:W3CDTF">2015-01-25T19:32:43Z</dcterms:modified>
  <cp:revision>704</cp:revision>
  <dc:subject/>
  <dc:title>Diapositiva 1</dc:title>
</cp:coreProperties>
</file>