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128A-4109-4C56-81B8-E0FF8B83F2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eme of our lesson i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and healt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What will we have to discuss on our lesson according to the theme. (the food we know, healthy food, unhealthy foo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EE22-F596-4D58-A0F3-B547FE2FCB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6FB1-197C-4834-BB94-7DBC98E8CF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ем строки и выясняем, какому звуку и буквосочетанию посвящена ст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F82E-C022-4D97-BEB2-6499FA38D9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авляем пропущенные буквы, ищем лишнее сл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BC28-C819-44F8-A7C7-80C69CA1C4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as your hometask fo today’s lesson?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ли своё меню на недел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2A6E-D127-4B44-A134-6B3A171FFD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your menu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E535-72F3-436A-8355-D70A8AD806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82C5-A72B-4EE2-8D3B-E23AC095C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0160-92A1-4766-AA4D-D9DF4727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9FC9-0991-437B-9312-C7CB5F0C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BFD6-C30D-438C-9E1A-A4E19FB6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6BD8-1A4D-4DBF-B486-A9931160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5E66-9917-4509-8EA7-E0787157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B9DD-AD18-4089-9526-B3B6FA9D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6A93-19AD-4A96-8CA0-BC321505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422-7FEF-4C2D-8B5D-A84F297E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1E08-B41F-40EE-BD1E-1FA8EDE5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3286-B9F8-4AA9-82D8-38AACBAA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3D56-4ECA-4F93-BAF6-4FF1ABD2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E0B8-AD83-469A-8BCD-D70227A982E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Arial"/>
              </a:rPr>
              <a:t>Good morning, Childre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593712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7" descr=""/>
          <p:cNvPicPr/>
          <p:nvPr/>
        </p:nvPicPr>
        <p:blipFill>
          <a:blip r:embed="rId1"/>
          <a:stretch/>
        </p:blipFill>
        <p:spPr>
          <a:xfrm rot="498000">
            <a:off x="2333160" y="2474640"/>
            <a:ext cx="5978520" cy="334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 rot="21175200">
            <a:off x="830160" y="2220840"/>
            <a:ext cx="5180040" cy="3873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Food</a:t>
            </a: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and Heal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216000" y="44280"/>
            <a:ext cx="37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33"/>
                </a:solidFill>
                <a:latin typeface="Monotype Corsiva"/>
              </a:rPr>
              <a:t>The Theme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1116000" y="2349360"/>
            <a:ext cx="694692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6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560"/>
                            </p:stCondLst>
                            <p:childTnLst>
                              <p:par>
                                <p:cTn id="18" nodeType="afterEffect" fill="hold" presetClass="entr" presetID="1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906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505640" cy="499752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3708360" y="1844640"/>
            <a:ext cx="3959280" cy="17398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Green Scho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Monotype Corsiva"/>
              </a:rPr>
              <a:t>Read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8000" y="83664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di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,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, m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ng, h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, sh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, f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, c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sm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,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ff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sw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s, m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, ice-cr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, t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ese, sandwi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colate, pea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C:\Users\Артбук\Desktop\к презентациям\0_6fd01_9387dd10_XL.png"/>
          <p:cNvPicPr/>
          <p:nvPr/>
        </p:nvPicPr>
        <p:blipFill>
          <a:blip r:embed="rId1"/>
          <a:stretch/>
        </p:blipFill>
        <p:spPr>
          <a:xfrm>
            <a:off x="2195640" y="3573360"/>
            <a:ext cx="36446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4452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Monotype Corsiva"/>
              </a:rPr>
              <a:t>Writ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692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_ne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_m_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_i_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_r_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_n_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g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_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_ma_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_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987640" y="774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r_i_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_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_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_e_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_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_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_ba_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_l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_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одержимое 4"/>
          <p:cNvSpPr/>
          <p:nvPr/>
        </p:nvSpPr>
        <p:spPr>
          <a:xfrm>
            <a:off x="-36360" y="7034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u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c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g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g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l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одержимое 5"/>
          <p:cNvSpPr/>
          <p:nvPr/>
        </p:nvSpPr>
        <p:spPr>
          <a:xfrm>
            <a:off x="2987640" y="77472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r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w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h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u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g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u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9"/>
          <p:cNvSpPr/>
          <p:nvPr/>
        </p:nvSpPr>
        <p:spPr>
          <a:xfrm>
            <a:off x="3203640" y="2205000"/>
            <a:ext cx="2305080" cy="6476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"/>
          <p:cNvPicPr/>
          <p:nvPr/>
        </p:nvPicPr>
        <p:blipFill>
          <a:blip r:embed="rId1"/>
          <a:stretch/>
        </p:blipFill>
        <p:spPr>
          <a:xfrm>
            <a:off x="0" y="981000"/>
            <a:ext cx="6907320" cy="280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Users\Артбук\Desktop\к презентациям\0_78bd9_3c9106d4_orig.png"/>
          <p:cNvPicPr/>
          <p:nvPr/>
        </p:nvPicPr>
        <p:blipFill>
          <a:blip r:embed="rId2"/>
          <a:stretch/>
        </p:blipFill>
        <p:spPr>
          <a:xfrm>
            <a:off x="5565600" y="3141720"/>
            <a:ext cx="354348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419960" cy="577692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1080" y="0"/>
            <a:ext cx="329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Monotype Corsiva"/>
              </a:rPr>
              <a:t>Homet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Скругленный прямоугольник 3"/>
          <p:cNvGrpSpPr/>
          <p:nvPr/>
        </p:nvGrpSpPr>
        <p:grpSpPr>
          <a:xfrm>
            <a:off x="133200" y="390600"/>
            <a:ext cx="8845560" cy="6218280"/>
            <a:chOff x="133200" y="390600"/>
            <a:chExt cx="8845560" cy="6218280"/>
          </a:xfrm>
        </p:grpSpPr>
        <p:pic>
          <p:nvPicPr>
            <p:cNvPr id="71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33200" y="390600"/>
              <a:ext cx="8845560" cy="621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46040" y="706320"/>
              <a:ext cx="8215200" cy="55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4"/>
          <p:cNvSpPr/>
          <p:nvPr/>
        </p:nvSpPr>
        <p:spPr>
          <a:xfrm>
            <a:off x="2844360" y="333360"/>
            <a:ext cx="265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00"/>
                </a:solidFill>
                <a:latin typeface="Monotype Corsiva"/>
              </a:rPr>
              <a:t>Men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Скругленный прямоугольник 6"/>
          <p:cNvGrpSpPr/>
          <p:nvPr/>
        </p:nvGrpSpPr>
        <p:grpSpPr>
          <a:xfrm>
            <a:off x="285840" y="1170000"/>
            <a:ext cx="2658960" cy="1420920"/>
            <a:chOff x="285840" y="1170000"/>
            <a:chExt cx="2658960" cy="1420920"/>
          </a:xfrm>
        </p:grpSpPr>
        <p:pic>
          <p:nvPicPr>
            <p:cNvPr id="75" name="Скругленный 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285840" y="1170000"/>
              <a:ext cx="265896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84120" y="1263600"/>
              <a:ext cx="246528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Arial"/>
                </a:rPr>
                <a:t>Monda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Скругленный прямоугольник 7"/>
          <p:cNvGrpSpPr/>
          <p:nvPr/>
        </p:nvGrpSpPr>
        <p:grpSpPr>
          <a:xfrm>
            <a:off x="285840" y="2755800"/>
            <a:ext cx="2658960" cy="1419480"/>
            <a:chOff x="285840" y="2755800"/>
            <a:chExt cx="2658960" cy="1419480"/>
          </a:xfrm>
        </p:grpSpPr>
        <p:pic>
          <p:nvPicPr>
            <p:cNvPr id="78" name="Скругленный 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85840" y="2755800"/>
              <a:ext cx="265896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82680" y="2847960"/>
              <a:ext cx="246672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Arial"/>
                </a:rPr>
                <a:t>Tuesda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Скругленный прямоугольник 8"/>
          <p:cNvGrpSpPr/>
          <p:nvPr/>
        </p:nvGrpSpPr>
        <p:grpSpPr>
          <a:xfrm>
            <a:off x="365040" y="4479840"/>
            <a:ext cx="2792520" cy="1281240"/>
            <a:chOff x="365040" y="4479840"/>
            <a:chExt cx="2792520" cy="1281240"/>
          </a:xfrm>
        </p:grpSpPr>
        <p:pic>
          <p:nvPicPr>
            <p:cNvPr id="81" name="Скругленный 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365040" y="4479840"/>
              <a:ext cx="279252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55760" y="4568760"/>
              <a:ext cx="261612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Arial"/>
                </a:rPr>
                <a:t>Wednesda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Скругленный прямоугольник 9"/>
          <p:cNvGrpSpPr/>
          <p:nvPr/>
        </p:nvGrpSpPr>
        <p:grpSpPr>
          <a:xfrm>
            <a:off x="3322800" y="3614760"/>
            <a:ext cx="2571480" cy="1427040"/>
            <a:chOff x="3322800" y="3614760"/>
            <a:chExt cx="2571480" cy="1427040"/>
          </a:xfrm>
        </p:grpSpPr>
        <p:pic>
          <p:nvPicPr>
            <p:cNvPr id="84" name="Скругленный прямоугольник 9" descr=""/>
            <p:cNvPicPr/>
            <p:nvPr/>
          </p:nvPicPr>
          <p:blipFill>
            <a:blip r:embed="rId5"/>
            <a:stretch/>
          </p:blipFill>
          <p:spPr>
            <a:xfrm>
              <a:off x="3322800" y="3614760"/>
              <a:ext cx="257148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414600" y="3711600"/>
              <a:ext cx="238608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Arial"/>
                </a:rPr>
                <a:t>Frida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Скругленный прямоугольник 11"/>
          <p:cNvGrpSpPr/>
          <p:nvPr/>
        </p:nvGrpSpPr>
        <p:grpSpPr>
          <a:xfrm>
            <a:off x="3322800" y="2030400"/>
            <a:ext cx="2571480" cy="1425600"/>
            <a:chOff x="3322800" y="2030400"/>
            <a:chExt cx="2571480" cy="1425600"/>
          </a:xfrm>
        </p:grpSpPr>
        <p:pic>
          <p:nvPicPr>
            <p:cNvPr id="87" name="Скругленный прямоугольник 11" descr=""/>
            <p:cNvPicPr/>
            <p:nvPr/>
          </p:nvPicPr>
          <p:blipFill>
            <a:blip r:embed="rId6"/>
            <a:stretch/>
          </p:blipFill>
          <p:spPr>
            <a:xfrm>
              <a:off x="3322800" y="2030400"/>
              <a:ext cx="257148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414600" y="2127240"/>
              <a:ext cx="238608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Arial"/>
                </a:rPr>
                <a:t>Thursda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2" descr=""/>
          <p:cNvPicPr/>
          <p:nvPr/>
        </p:nvPicPr>
        <p:blipFill>
          <a:blip r:embed="rId7"/>
          <a:stretch/>
        </p:blipFill>
        <p:spPr>
          <a:xfrm>
            <a:off x="5894280" y="1316160"/>
            <a:ext cx="29685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арт</cp:lastModifiedBy>
  <dcterms:modified xsi:type="dcterms:W3CDTF">2015-01-25T19:32:43Z</dcterms:modified>
  <cp:revision>704</cp:revision>
  <dc:subject/>
  <dc:title>Diapositiva 1</dc:title>
</cp:coreProperties>
</file>