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24.jpeg" ContentType="image/jpeg"/>
  <Override PartName="/ppt/media/image22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3.gif" ContentType="image/gif"/>
  <Override PartName="/ppt/media/image18.gif" ContentType="image/gif"/>
  <Override PartName="/ppt/media/image17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9B2-9901-45F4-9435-682E6E99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28C-E317-4DE0-BACB-C14ED710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C65-BEBD-4F0A-8126-93495622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2CC-9067-4D34-BB75-BC1BD3A1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EF2-F5DF-4487-AC8F-ADDD282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DE6-9905-49FF-B237-B4C3F84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1B5-DF17-40E5-88BC-AC13A66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FBC-1832-4ED2-ACDE-C72CA64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2FE-AACB-4598-BEE7-FBBED77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DE0-527E-4E20-93AD-B17E42C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DCA-576C-49CF-B990-30BA1E2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5BF-D4E0-4F23-BDA3-94DA8DF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259-BB5F-4521-9DA2-5F9D2B58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197000"/>
            <a:ext cx="7489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 элемент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80000" y="4724280"/>
            <a:ext cx="2664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1280" y="549360"/>
            <a:ext cx="734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Горение фосф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4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8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42920" y="620640"/>
            <a:ext cx="684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заимодействие с хлоро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644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8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42920" y="83664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 богаты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сфор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227640" y="400536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39640" y="256536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667240" cy="2667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341360"/>
            <a:ext cx="712944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олее 300 лет назад гамбургский алхимик Генинг Бранд открыл новый элемент – фосф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Рецепт Бра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еобходимо выпарить мочу, смешать ее с углем, песком и продолжать выпаривать без доступа воздуха. О чудо! В реторте образовалось вещество, которое светится в темнот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им свойством нового вещества Бранд не замедлил воспользоваться. Он стал показывать фосфор различным привилегированным лицам, получая от них подарки и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476280"/>
            <a:ext cx="705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открыт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87640" y="260280"/>
            <a:ext cx="5977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…Да! Это была собака, огромная, черная, как смоль… Из ее отверстной пасти вырывалось пламя, глаза метали искры, по морде и загривку переливался мерцающий огонь… Я дотронулся до этой светящейся головы и, отняв руку, увидел, что мои пальцы тоже засветились в темноте. Фосфор, - сказал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 Дой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в какой скверной истории оказался замешан этот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808360" cy="243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94000">
            <a:off x="982800" y="189000"/>
            <a:ext cx="3671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ноголи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47840" y="566100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ноголикость фосфора – это его способность находиться в нескольких аллотропных модифик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1773360"/>
            <a:ext cx="1726920" cy="1563480"/>
          </a:xfrm>
          <a:custGeom>
            <a:avLst/>
            <a:gdLst>
              <a:gd name="textAreaLeft" fmla="*/ 394200 w 1726920"/>
              <a:gd name="textAreaRight" fmla="*/ 1332720 w 1726920"/>
              <a:gd name="textAreaTop" fmla="*/ 356760 h 1563480"/>
              <a:gd name="textAreaBottom" fmla="*/ 120672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34936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93372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78936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657080" cy="144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216036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932360" y="1125360"/>
            <a:ext cx="38512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340000" y="3789360"/>
            <a:ext cx="4606920" cy="280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68360" y="476280"/>
            <a:ext cx="422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ение фосфо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32000" y="333360"/>
            <a:ext cx="611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сфор в природ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773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олю фосфора приходится 0,08% веса земной коры. Фосфор занимает 13 место по распространенности среди всех эле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223640" cy="194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стениях фосфор содержится в основном в плодах, с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059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рганизме  животных, птиц, рыб – в скелете и нервн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59480" y="5248440"/>
            <a:ext cx="32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ле человека содержится около 1,5 кг фосфора, из которых 1,4 кг приходится на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987640" y="4076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877080" y="3213000"/>
            <a:ext cx="1224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55640" y="404640"/>
            <a:ext cx="73454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Элемент жизн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мысли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421000"/>
            <a:ext cx="55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ли бы фосфор исчез из костей, наше тело превратилось бы в бесформенные массы. Если бы фосфор исчез из мышц, мы утратили бы способность двигаться. А из нервной ткани – мы перестали бы мыслить. Академик А. Е. Ферсман назвал фосфор «элементом жизни и мыс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13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57:41Z</dcterms:created>
  <dc:creator>Unattended</dc:creator>
  <dc:description/>
  <dc:language>en-US</dc:language>
  <cp:lastModifiedBy>Эшрокова</cp:lastModifiedBy>
  <dcterms:modified xsi:type="dcterms:W3CDTF">2012-08-05T05:26:54Z</dcterms:modified>
  <cp:revision>35</cp:revision>
  <dc:subject/>
  <dc:title>Слайд 1</dc:title>
</cp:coreProperties>
</file>