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12.png" ContentType="image/png"/>
  <Override PartName="/ppt/media/image24.jpeg" ContentType="image/jpeg"/>
  <Override PartName="/ppt/media/image22.png" ContentType="image/png"/>
  <Override PartName="/ppt/media/image7.png" ContentType="image/png"/>
  <Override PartName="/ppt/media/image1.jpeg" ContentType="image/jpeg"/>
  <Override PartName="/ppt/media/image23.jpeg" ContentType="image/jpeg"/>
  <Override PartName="/ppt/media/image3.gif" ContentType="image/gif"/>
  <Override PartName="/ppt/media/image18.gif" ContentType="image/gif"/>
  <Override PartName="/ppt/media/image17.jpeg" ContentType="image/jpeg"/>
  <Override PartName="/ppt/media/image21.png" ContentType="image/png"/>
  <Override PartName="/ppt/media/image19.png" ContentType="image/png"/>
  <Override PartName="/ppt/media/image16.gif" ContentType="image/gif"/>
  <Override PartName="/ppt/media/image15.gif" ContentType="image/gif"/>
  <Override PartName="/ppt/media/image20.png" ContentType="image/png"/>
  <Override PartName="/ppt/media/image14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B9D-88F3-488E-A1C1-F151B35C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8C5-2D66-4B3C-9C66-E0208DB2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6F1-B6DA-4D8E-9529-788A0280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B82-054C-44D9-A7D4-41A78C14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E8D-D6CA-4656-822E-8A7AA133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3DA2-85D1-4871-9F39-AB52BE98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4D34-D382-4A71-AC51-56E0D0C1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A68E-8595-465A-8DB8-61F20FD5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E5F-7FD5-47B5-92EA-D592AEC9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B4A-D327-4E82-BAF3-5267A2D8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D8E-19D5-4261-8060-A0F40B32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5F8-8A3C-4920-B4BD-14F8A7B2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960C-4533-49E1-B343-3EEF712B6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11280" y="1197000"/>
            <a:ext cx="74898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гия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 элемент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189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80000" y="4724280"/>
            <a:ext cx="2664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20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11280" y="549360"/>
            <a:ext cx="734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Горение фосф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640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8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0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042920" y="620640"/>
            <a:ext cx="6842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заимодействие с хлором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644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8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1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042920" y="836640"/>
            <a:ext cx="6553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обенно богаты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сфором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6227640" y="400536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539640" y="2565360"/>
            <a:ext cx="2160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300720" y="3933720"/>
            <a:ext cx="2667240" cy="2667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341360"/>
            <a:ext cx="7129440" cy="52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олее 300 лет назад гамбургский алхимик Генинг Бранд открыл новый элемент – фосф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Рецепт Бран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Необходимо выпарить мочу, смешать ее с углем, песком и продолжать выпаривать без доступа воздуха. О чудо! В реторте образовалось вещество, которое светится в темноте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Этим свойством нового вещества Бранд не замедлил воспользоваться. Он стал показывать фосфор различным привилегированным лицам, получая от них подарки и день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00000" y="476280"/>
            <a:ext cx="7056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открыт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87640" y="260280"/>
            <a:ext cx="59770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…Да! Это была собака, огромная, черная, как смоль… Из ее отверстной пасти вырывалось пламя, глаза метали искры, по морде и загривку переливался мерцающий огонь… Я дотронулся до этой светящейся головы и, отняв руку, увидел, что мои пальцы тоже засветились в темноте. Фосфор, - сказал 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. Дой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т в какой скверной истории оказался замешан этот эл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808360" cy="243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 rot="594000">
            <a:off x="982800" y="189000"/>
            <a:ext cx="36716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ноголик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ле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447840" y="5661000"/>
            <a:ext cx="83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ноголикость фосфора – это его способность находиться в нескольких аллотропных модифик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1773360"/>
            <a:ext cx="1726920" cy="1563480"/>
          </a:xfrm>
          <a:custGeom>
            <a:avLst/>
            <a:gdLst>
              <a:gd name="textAreaLeft" fmla="*/ 394200 w 1726920"/>
              <a:gd name="textAreaRight" fmla="*/ 1332720 w 1726920"/>
              <a:gd name="textAreaTop" fmla="*/ 356760 h 1563480"/>
              <a:gd name="textAreaBottom" fmla="*/ 120672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с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349360"/>
            <a:ext cx="1727280" cy="1563840"/>
          </a:xfrm>
          <a:custGeom>
            <a:avLst/>
            <a:gdLst>
              <a:gd name="textAreaLeft" fmla="*/ 394200 w 1727280"/>
              <a:gd name="textAreaRight" fmla="*/ 1333080 w 1727280"/>
              <a:gd name="textAreaTop" fmla="*/ 356760 h 1563840"/>
              <a:gd name="textAreaBottom" fmla="*/ 1207080 h 1563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3933720"/>
            <a:ext cx="1727280" cy="1563840"/>
          </a:xfrm>
          <a:custGeom>
            <a:avLst/>
            <a:gdLst>
              <a:gd name="textAreaLeft" fmla="*/ 394200 w 1727280"/>
              <a:gd name="textAreaRight" fmla="*/ 1333080 w 1727280"/>
              <a:gd name="textAreaTop" fmla="*/ 356760 h 1563840"/>
              <a:gd name="textAreaBottom" fmla="*/ 1207080 h 1563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7640" y="3789360"/>
            <a:ext cx="1727280" cy="1563840"/>
          </a:xfrm>
          <a:custGeom>
            <a:avLst/>
            <a:gdLst>
              <a:gd name="textAreaLeft" fmla="*/ 394200 w 1727280"/>
              <a:gd name="textAreaRight" fmla="*/ 1333080 w 1727280"/>
              <a:gd name="textAreaTop" fmla="*/ 356760 h 1563840"/>
              <a:gd name="textAreaBottom" fmla="*/ 1207080 h 1563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олет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5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657080" cy="1443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2160360" cy="2303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932360" y="1125360"/>
            <a:ext cx="385128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340000" y="3789360"/>
            <a:ext cx="4606920" cy="280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268360" y="476280"/>
            <a:ext cx="422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оение фосфо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332000" y="333360"/>
            <a:ext cx="611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осфор в природ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1773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долю фосфора приходится 0,08% веса земной коры. Фосфор занимает 13 место по распространенности среди всех элем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1223640" cy="1944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5013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растениях фосфор содержится в основном в плодах, сем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3059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рганизме  животных, птиц, рыб – в скелете и нервной тк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59480" y="5248440"/>
            <a:ext cx="326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еле человека содержится около 1,5 кг фосфора, из которых 1,4 кг приходится на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987640" y="407664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877080" y="3213000"/>
            <a:ext cx="1224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55640" y="404640"/>
            <a:ext cx="734544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 Элемент жизни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 мысли 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2421000"/>
            <a:ext cx="554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ли бы фосфор исчез из костей, наше тело превратилось бы в бесформенные массы. Если бы фосфор исчез из мышц, мы утратили бы способность двигаться. А из нервной ткани – мы перестали бы мыслить. Академик А. Е. Ферсман назвал фосфор «элементом жизни и мыс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236000" y="3068640"/>
            <a:ext cx="113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57:41Z</dcterms:created>
  <dc:creator>Unattended</dc:creator>
  <dc:description/>
  <dc:language>en-US</dc:language>
  <cp:lastModifiedBy>Эшрокова</cp:lastModifiedBy>
  <dcterms:modified xsi:type="dcterms:W3CDTF">2012-08-05T05:26:54Z</dcterms:modified>
  <cp:revision>35</cp:revision>
  <dc:subject/>
  <dc:title>Слайд 1</dc:title>
</cp:coreProperties>
</file>