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8EC-F90C-4440-9FBA-7E0A6EBB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411-F5A9-423F-B807-2256417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CA7-9C10-4524-855D-D8FF5BF5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FA6-2F07-405D-86BE-70E572BA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098-BDF0-4851-BF61-466B7CD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245-EDFB-4F3F-BC92-5A63A08F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429-CAAE-4F6D-945E-C4ED309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612-C720-4513-A242-281148F1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8EB-EE06-4025-A56C-C041176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A0C-1F2A-4D36-BD42-03B2C10B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3CC-EDBA-4BA7-AFAE-726D445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C08-8D0A-46F5-925C-8BD6D132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4AC-5FBE-4831-A9DB-2C78106B7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784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рижеры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826920" y="3858840"/>
            <a:ext cx="504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представить организм как слаженный оркестр молекул, атомов и прочих химических соединений, то роль дирижера в нем, несомненно, будут исполнять гормоны. Именно от их указаний зависит, кто – «скрипки» или «ударные» - исполнит в данный момент сольную пар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1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71640" y="549360"/>
            <a:ext cx="727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моны счаст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76640"/>
            <a:ext cx="58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но они определяют наши вкусы и пристрастия. «Вестников счастья» называют </a:t>
            </a:r>
            <a:r>
              <a:rPr b="1" lang="ru-RU" sz="2400" spc="-1" strike="noStrike">
                <a:solidFill>
                  <a:srgbClr val="f26475"/>
                </a:solidFill>
                <a:latin typeface="Arial"/>
              </a:rPr>
              <a:t>эндорфин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ни обеспечивают повышенный жизненный тонус, стабильно хорошее настроение, умение радоваться жизни, крепкое здоровье, солидную стрессоустойчивость. При их недостатке могут случаться уныние, апатия, ск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31626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71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ликсир молод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66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70828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2565360"/>
            <a:ext cx="511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0 году с легкой руки доктора Даниэля Рудмана гормон роста стали считать настоящим «эликсиром молодости». Все подопытные добровольцы, участвующие в эксперименте, сбросили по меньшей мере 20 лет. У некоторых разгладились морщины, восстановился цвет волос. После прекращения гормона все вернулось на круги своя… Увы, с годами мы теряем этот ценный гормон. Но, затормозить естественный процесс возможно. На пользу гормону роста идут полноценный сон, физические упражнения и ограниченный прием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3024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476280"/>
            <a:ext cx="720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"/>
              </a:rPr>
              <a:t>Сэр тестосте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ff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0920" y="2194560"/>
            <a:ext cx="62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, что входит в понятие «мужественность» определяется тестостероном. Самоуверенность, агрессивность, половое влечение и даже умение ориентироваться в пространстве дает сильной половине человечества этот гормон. В норме тестостерон обеспечивает нормальное половое функционирование. Избыток приводит к оволосению по мужскому типу: над верхней губой, по линии живота, на бедрах и даже на гру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2920" y="4410000"/>
            <a:ext cx="21970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28828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476280"/>
            <a:ext cx="806472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26475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рный помощни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26475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133720"/>
            <a:ext cx="58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Эстрог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вечает за все женское, что есть в женщине. Главная его задача – обеспечить продолжение жизни. Он дарует нам женские формы, готовит к половой жизни и наделяет материнским инстинктом. Отсюда вечное женское стремление навести порядок и о ком-нибудь позаботиться. Эстроген приносит мир в женскую душу, снимая напряжение и подавляя агрессию. Он способствует накоплению жира в определенных женских местах – в области живота и бедер. По задумке природы в случае голода эти запасы должны помочь выносить потомство. При его дефиците появляются морщины, дряблая кожа, тусклые волосы, ломкие ногти, раздражительность, бессонница. «Перебор» ведет к бесплод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33336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дренал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21000"/>
            <a:ext cx="5398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ерняка каждый из вас знает: чтобы заполучить адреналин, за ним надо побегать в поисках острых ощущений. Все правильно – этот гормон достался нам в наследство от предков, которым приходилось изрядно попотеть, чтобы среди бронтозавров и мамонтов отстоять свое право на жизнь. В минуту опасности адреналин выходит на арену и «разруливает» ситуацию. Под его руководством сосуды внутренних органов сужаются, сосуды, снабжающие кровью мышцы расширяются. Угнетается деятельность ЖКТ, зато усиливается работа мозга и бронхов. В общем организм настраивается на выживание, стимулируя одни органы и сажая на «голодный паек» друг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31622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2708280"/>
            <a:ext cx="7416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26475"/>
                    </a:gs>
                    <a:gs pos="50000">
                      <a:srgbClr val="ffffff"/>
                    </a:gs>
                    <a:gs pos="100000">
                      <a:srgbClr val="f264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и в гармони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26475"/>
                  </a:gs>
                  <a:gs pos="50000">
                    <a:srgbClr val="ffffff"/>
                  </a:gs>
                  <a:gs pos="100000">
                    <a:srgbClr val="f264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0910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1120" y="1268280"/>
            <a:ext cx="635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азывается, большая часть наших поступков продиктована… гормон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429264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самим собой и с окружающим ми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916360" cy="347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3600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7:35:17Z</dcterms:created>
  <dc:creator>Виталий</dc:creator>
  <dc:description/>
  <dc:language>en-US</dc:language>
  <cp:lastModifiedBy>Эшрокова</cp:lastModifiedBy>
  <dcterms:modified xsi:type="dcterms:W3CDTF">2008-05-08T04:11:25Z</dcterms:modified>
  <cp:revision>41</cp:revision>
  <dc:subject/>
  <dc:title>Слайд 1</dc:title>
</cp:coreProperties>
</file>