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7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EF78A3-D1BF-4FF5-8656-E7CF9E0A1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D7D37B-90BA-4F3A-B44A-BDE713C8E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5FBF47-44A9-4968-A118-EB9B93E12F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9D6133-EE17-40CD-8156-2C2BCC343F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B57-A308-41A5-9EFE-02F8F843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A31-860B-4325-B6EA-3A08057F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D72-D832-4B1A-8A4D-3FA3955D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F31-959F-44F7-8E58-665AF63F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D8B6-941A-45ED-B9B0-D0645A6A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AA2E-35CA-4D6A-B9F9-D7F43D32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6D60-0D5F-40BD-BB72-504449B2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AF6A-1F16-479C-AE29-5A4F2F5D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37A8-4317-4C79-AF3D-8BCA49DE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ADEF-FD56-4BE5-9077-26399ABD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76C4-77EF-4AE8-9781-51E3C934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AA3-737D-493A-901B-FF88417C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2DEF-48A7-4B6D-8EA2-1DFE5ED1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C71A-61A6-4A6B-B303-87CB34D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E847-0912-4F95-BB3E-E9922174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0ECA-807A-4A11-A5FF-FCFD8CBD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6214-E8F2-4F5C-9D33-C0FFA120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83A3-5B7D-4378-96BA-42DAE887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AE4B-630D-4475-B5EE-4F5D03AE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0EFD-6EFC-4981-AF8B-5C34D5E7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B82B-13C1-414C-9A9D-13024DD9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746F-6A07-4BD8-B36A-C71E4280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798-DE96-4CE0-A728-C1C1011C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0175-4992-4A86-AEE0-1F28FCD1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9593-35D3-4B88-9713-940926A9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B32B-1B34-414E-BB5A-3DD9175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4D729-B4E3-487E-B0EB-75253E1C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F694-AD93-4A24-A468-47D1628B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4C0E-79C7-427D-8BF0-C360C2E2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E47A-4DCA-4793-AB97-BAB2F318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1759-3374-48FD-A1A5-68FA44F8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71AE-E25A-4DC7-966D-8A45440B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571D1-CA52-4C94-9D23-A9D2B7E5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8F6-D1E0-43DE-A207-2DCC9962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F1B6E-BFCA-4869-B32B-53438C53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1C67-05A8-425C-BBEA-346E9A2F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19BB-E1FA-4F6F-95E1-6FA6F0AD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D8BF-BFDB-4CFE-B771-52582723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EF59B-70C2-417A-9772-75B5946F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4B18-1D8E-40FC-83D5-A3F0EF2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DA161-8D82-4C71-86C0-3FECD857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E714-6940-4F72-81CD-E295CCD0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A3840-FD73-45E3-B4C7-B562DA5C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9E0-B753-4918-8DD7-806A5333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D65-2097-495E-9AEC-E59DFE4C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8A3-469F-49DF-8E59-C1575BE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ADD-1FBF-4B08-82AC-C29594CE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1F3-38B5-47C3-B846-9A848412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3"/>
            </a:gs>
            <a:gs pos="100000">
              <a:srgbClr val="8a8a63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"/>
          <p:cNvGrpSpPr/>
          <p:nvPr/>
        </p:nvGrpSpPr>
        <p:grpSpPr>
          <a:xfrm>
            <a:off x="0" y="0"/>
            <a:ext cx="8762760" cy="5943240"/>
            <a:chOff x="0" y="0"/>
            <a:chExt cx="8762760" cy="5943240"/>
          </a:xfrm>
        </p:grpSpPr>
        <p:sp>
          <p:nvSpPr>
            <p:cNvPr id="7" name="Rectangle 3"/>
            <p:cNvSpPr/>
            <p:nvPr/>
          </p:nvSpPr>
          <p:spPr>
            <a:xfrm>
              <a:off x="0" y="0"/>
              <a:ext cx="1752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4"/>
            <p:cNvGrpSpPr/>
            <p:nvPr/>
          </p:nvGrpSpPr>
          <p:grpSpPr>
            <a:xfrm>
              <a:off x="0" y="3505320"/>
              <a:ext cx="8762760" cy="2437920"/>
              <a:chOff x="0" y="3505320"/>
              <a:chExt cx="8762760" cy="2437920"/>
            </a:xfrm>
          </p:grpSpPr>
          <p:sp>
            <p:nvSpPr>
              <p:cNvPr id="9" name="Rectangle 5"/>
              <p:cNvSpPr/>
              <p:nvPr/>
            </p:nvSpPr>
            <p:spPr>
              <a:xfrm>
                <a:off x="990720" y="3505320"/>
                <a:ext cx="7772040" cy="24379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6"/>
              <p:cNvSpPr/>
              <p:nvPr/>
            </p:nvSpPr>
            <p:spPr>
              <a:xfrm>
                <a:off x="1038240" y="3733920"/>
                <a:ext cx="7648200" cy="2138040"/>
              </a:xfrm>
              <a:prstGeom prst="rect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7"/>
              <p:cNvSpPr/>
              <p:nvPr/>
            </p:nvSpPr>
            <p:spPr>
              <a:xfrm>
                <a:off x="0" y="4876560"/>
                <a:ext cx="990360" cy="360"/>
              </a:xfrm>
              <a:prstGeom prst="line">
                <a:avLst/>
              </a:prstGeom>
              <a:ln w="5080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8"/>
            <p:cNvGrpSpPr/>
            <p:nvPr/>
          </p:nvGrpSpPr>
          <p:grpSpPr>
            <a:xfrm>
              <a:off x="634680" y="533520"/>
              <a:ext cx="8077320" cy="304560"/>
              <a:chOff x="634680" y="533520"/>
              <a:chExt cx="8077320" cy="304560"/>
            </a:xfrm>
          </p:grpSpPr>
          <p:sp>
            <p:nvSpPr>
              <p:cNvPr id="13" name="Rectangle 9"/>
              <p:cNvSpPr/>
              <p:nvPr/>
            </p:nvSpPr>
            <p:spPr>
              <a:xfrm>
                <a:off x="6273720" y="533520"/>
                <a:ext cx="2437920" cy="3045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634680" y="685800"/>
                <a:ext cx="8077320" cy="360"/>
              </a:xfrm>
              <a:prstGeom prst="line">
                <a:avLst/>
              </a:prstGeom>
              <a:ln w="444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9040" cy="220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dt" idx="1"/>
          </p:nvPr>
        </p:nvSpPr>
        <p:spPr>
          <a:xfrm>
            <a:off x="912960" y="62514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2"/>
          </p:nvPr>
        </p:nvSpPr>
        <p:spPr>
          <a:xfrm>
            <a:off x="33544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0AE4DB-5999-45C2-905A-D04E676578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3"/>
            </a:gs>
            <a:gs pos="100000">
              <a:srgbClr val="8a8a63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57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59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E80B08-C317-43B2-B8BE-982BCF5B6A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3"/>
            </a:gs>
            <a:gs pos="100000">
              <a:srgbClr val="8a8a63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04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9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3D82E7-46BD-4F24-8E86-1BE391583C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3"/>
            </a:gs>
            <a:gs pos="100000">
              <a:srgbClr val="8a8a63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51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153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56A66E-C132-46DC-B26B-46105B68F3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www4.com/w216/98066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sprinter.ru/pic/big/bd58664c80ec2e09cf481f6ff7bc974e.jpg" TargetMode="External"/><Relationship Id="rId4" Type="http://schemas.openxmlformats.org/officeDocument/2006/relationships/image" Target="../media/image20.png"/><Relationship Id="rId5" Type="http://schemas.openxmlformats.org/officeDocument/2006/relationships/hyperlink" Target="http://www.wwww4.com/w3778/69530.jp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www.ozon.ru/multimedia/books_covers/1000633213.jpg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razvivalki.ru/shop/f2855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www.profkniga.ru/obl/10638.jpg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www.phoenixrostov.ru/_booksimg/O0034122.jpg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www.flip.kz/prod/51366_550.jpg" TargetMode="External"/><Relationship Id="rId16" Type="http://schemas.openxmlformats.org/officeDocument/2006/relationships/image" Target="../media/image26.jpeg"/><Relationship Id="rId17" Type="http://schemas.openxmlformats.org/officeDocument/2006/relationships/slideLayout" Target="../slideLayouts/slideLayout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349-sh-673-fw-1124-fh-467-pd-1&amp;p=9&amp;text=&#1082;&#1072;&#1088;&#1090;&#1080;&#1085;&#1082;&#1080;%20&#1072;&#1085;&#1080;&#1084;&#1072;&#1094;&#1080;&#1103;%20%20&#1087;&#1077;&#1076;&#1072;&#1075;&#1086;&#1075;&#1080;&#1082;&#1072;-%20&#1076;&#1077;&#1090;&#1080;&amp;noreask=1&amp;pos=290&amp;rpt=simage&amp;lr=39&amp;img_url=http://www.livegif.ru/Gallery/POSTCARD/other/flowers/blue_rose_anim.gif" TargetMode="Externa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1360" y="642960"/>
            <a:ext cx="7772040" cy="216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Родительское собрание для</a:t>
            </a:r>
            <a:br>
              <a:rPr sz="4000"/>
            </a:b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родителей будущих первоклассников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28760" y="1500120"/>
            <a:ext cx="8389440" cy="295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Что такое психологическая готовность к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F:\Users\Наташа\Desktop\Новая папка\DSC0225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858000" y="3714840"/>
            <a:ext cx="1856880" cy="214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F:\Users\Наташа\Desktop\Новая папка\DSC02254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929120" y="3714840"/>
            <a:ext cx="1928520" cy="214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F:\Users\Наташа\Desktop\Новая папка\DSC02255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3071880" y="3714840"/>
            <a:ext cx="1856880" cy="214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F:\Users\Наташа\Desktop\Новая папка\DSC02235.JPG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1071360" y="3714840"/>
            <a:ext cx="1999800" cy="2142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1763640" y="44640"/>
            <a:ext cx="720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детский сад №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: Филина Ольга Владими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Интеллектуальная готовность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35776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    </a:t>
            </a: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предполагает развитие внимания, памяти, сформированные мыслительные операции анализа, синтеза, обобщения, умение устанавливать связи между явлениями и событиями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   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    </a:t>
            </a:r>
            <a:r>
              <a:rPr b="0" lang="ru-RU" sz="2000" spc="-1" strike="noStrike" u="sng">
                <a:solidFill>
                  <a:schemeClr val="accent5">
                    <a:lumMod val="10000"/>
                  </a:schemeClr>
                </a:solidFill>
                <a:uFillTx/>
                <a:latin typeface="Cambria"/>
              </a:rPr>
              <a:t>К 6–7-и годам ребенок должен знать: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свой адрес и название города, в котором он живет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название страны и ее столицы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имена и отчества своих родителей, информацию о местах их работы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времена года, их последовательность и основные признаки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названия месяцев, дней недели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основные виды деревьев и цветов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ему следует уметь различать домашних и диких животных, понимать, что бабушка — это мама отца или матери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Иными словами, он должен ориентироваться во времени, пространстве и своем ближайшем окружении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F:\Users\Наташа\Desktop\Новая папка\DSC0228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28760" y="71280"/>
            <a:ext cx="13633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Мотивационная готовность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440" cy="511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подразумевает наличие у ребенка желания принять новую социальную роль —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роль школьника.</a:t>
            </a: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 этой целью родителям необходимо объяснить своему ребенку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что дети ходят учиться для получения знаний, которые необходимы каждому человеку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ледует давать ребенку только позитивную информацию о школе. Помните, что ваши оценки с легкостью заимствуются детьми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Ребенок должен видеть, что родители спокойно и уверенно смотрят на его предстоящее поступление в школу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ичиной нежелания идти в школу может быть и то, что ребенок “не наигрался”. Но в возрасте 6–7 лет психическое развитие очень пластично, и дети, которые “не наигрались”, придя в класс, скоро начинают испытывать удовольствие от процесса учебы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ам не обязательно до начала учебного года формировать любовь к школе, поскольку невозможно полюбить то, с чем еще не сталкивался. Достаточно дать понять ребенку, ч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учеба — это обязанность каждого человека и от того, насколько он будет успешен в учении, зависит отношение к нему многих из окружающих ребенка людей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1" descr="F:\Users\Наташа\Desktop\Новая папка\DSC0226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28760" y="0"/>
            <a:ext cx="128556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Волевая готовност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4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предполагает наличие у ребенка: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способностей ставить перед собой цель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принять решение о начале деятельности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наметить план действий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выполнить его, проявив определенные усилия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оценить результат своей деятельности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а также умения длительно выполнять не очень привлекательную работу.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F:\Users\Наташа\Desktop\Новая папка\DSC02452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57120" y="0"/>
            <a:ext cx="1775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Коммуникативная готовность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440" cy="4852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  </a:t>
            </a: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проявляется в умении ребенка подчинять свое поведение законам детских групп и нормам поведения, установленным в классе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В целях развития коммуникативной компетентности следует поддерживать доброжелательные отношения вашего сына или дочери с окружающими. Личный пример терпимости во взаимоотношениях с друзьями, родными, соседями также играет большую роль в формировании этого вида готовности к школе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9" descr="F:\Users\Наташа\Desktop\Новая папка\DSC02328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356920" cy="14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Как помочь дошкольнику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9294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. Выбор школы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сли ребёнок в детстве часто болел, если ему трудно долгое время удерживать внимание на чём-то одном, если вы видите, что он морально не готов стать первоклассником - посоветуйтесь с психологом. Возможно, ему было  бы полезно ещё один год посидеть дома или походить на подготовительные занятия. Или же вам нужно серьёзно подойти к выбору школы: нагрузка в первый год учёбы должна быть посильной для ребёнка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. Самостоятельность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Чтобы ребёнок быстрее смог адаптироваться в школе, он должен быть достаточно самостоятельным. Постарайтесь меньше опекать его, дайте ему возможность принимать самостоятельные решения и отвечать за них. Поручите ему какие-нибудь домашние дела, он научился выполнять свою работу без помощи взрослых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1" lang="ru-RU" sz="1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. Коллектив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сли ребёнок редко  ходит  в детский сад, по разным причинам, постарайтесь, чтобы оставшееся время перед школой он больше общался со сверстниками. Иначе одновременно привыкать и к урокам и к большому коллективу ему будет слож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F:\Users\Наташа\Desktop\Новая папка\DSC02273.JPG"/>
          <p:cNvPicPr/>
          <p:nvPr/>
        </p:nvPicPr>
        <p:blipFill>
          <a:blip r:embed="rId1"/>
          <a:stretch/>
        </p:blipFill>
        <p:spPr>
          <a:xfrm>
            <a:off x="403920" y="0"/>
            <a:ext cx="2024280" cy="14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5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тов ли ребенок к школе?</a:t>
            </a:r>
            <a:br>
              <a:rPr sz="2800"/>
            </a:b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ест для родителе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2960" y="1957320"/>
            <a:ext cx="857232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Хочет ли Ваш ребенок идти в школу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ривлекает ли Вашего ребенка в школе то, что в ней будет интересно учиться, и он многое узнает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Ваш ребенок заниматься самостоятельно каким-либо делом, требующим сосредоточенности в течение 30 минут (например, собирать конструктор)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ерно ли, что Ваш ребенок в присутствии незнакомых нисколько не стесняется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ет ли Ваш ребенок составлять рассказы по картинке не короче чем из 5 предложений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ет ли Ваш ребенок рассказать наизусть несколько стихотворений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F:\Users\Наташа\Desktop\Новая папка\DSC02404.JPG"/>
          <p:cNvPicPr/>
          <p:nvPr/>
        </p:nvPicPr>
        <p:blipFill>
          <a:blip r:embed="rId1"/>
          <a:stretch/>
        </p:blipFill>
        <p:spPr>
          <a:xfrm>
            <a:off x="0" y="0"/>
            <a:ext cx="154080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тов ли ребенок к школе?</a:t>
            </a:r>
            <a:br>
              <a:rPr sz="2800"/>
            </a:b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ест для родителе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0040" y="2100240"/>
            <a:ext cx="914364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ет ли он изменять существительные по числам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ет ли Ваш ребенок читать по слогам или, что еще лучше, целыми словами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меет ли Ваш ребенок считать до 10 и обратно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ерно ли, что Ваш ребенок имеет твердую руку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он решать простые задачи на вычитание или прибавление единицы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Любит ли он рисовать и раскрашивать картинки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F:\Users\Наташа\Desktop\Новая папка\DSC02404.JPG"/>
          <p:cNvPicPr/>
          <p:nvPr/>
        </p:nvPicPr>
        <p:blipFill>
          <a:blip r:embed="rId1"/>
          <a:stretch/>
        </p:blipFill>
        <p:spPr>
          <a:xfrm>
            <a:off x="0" y="0"/>
            <a:ext cx="154080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тов ли ребенок к школе?</a:t>
            </a:r>
            <a:br>
              <a:rPr sz="2800"/>
            </a:b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ест для родителе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85880" y="1886040"/>
            <a:ext cx="857196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Ваш ребенок пользоваться ножницами и клеем (например, делать аппликации)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он собрать разрезанную картинку из 5 частей за 1 минуту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нает ли ребенок названия диких и домашних животных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Ваш ребенок понимать и точно выполнять словесные инструкции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жет ли он обобщать понятия (например, назвать одним словом “овощи” помидоры, морковь, лук)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Любит ли Ваш ребенок заниматься самостоятельно рисовать, собирать мозаику и т. д. ?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F:\Users\Наташа\Desktop\Новая папка\DSC02404.JPG"/>
          <p:cNvPicPr/>
          <p:nvPr/>
        </p:nvPicPr>
        <p:blipFill>
          <a:blip r:embed="rId1"/>
          <a:stretch/>
        </p:blipFill>
        <p:spPr>
          <a:xfrm>
            <a:off x="0" y="0"/>
            <a:ext cx="154080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70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тов ли ребенок к школе?</a:t>
            </a:r>
            <a:br>
              <a:rPr sz="2800"/>
            </a:b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ест для родителе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3640" cy="53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Подсчитайте количество положительных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ответов на вопросы теста. Если оно составляет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15-18 баллов</a:t>
            </a: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можно считать, что ребенок вполне готов к тому, чтобы идти в школу. Вы не напрасно много с ним занимались, а школьные трудности, если и возникнут, будут легко преодолимыми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10-14 баллов</a:t>
            </a: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Вы на правильном пути, ребенок многому научился, а содержание вопросов, на которые Вы ответили отрицанием, подскажет Вам точки приложения дальнейших усилий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меньше 9 баллов</a:t>
            </a: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ребенку нужна ваша помощь, почитайте другую специальную литературу, постарайтесь уделять больше времени занятиям с ребенком и обратите особое внимание на то, чего он не умеет!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F:\Users\Наташа\Desktop\Новая папка\DSC02404.JPG"/>
          <p:cNvPicPr/>
          <p:nvPr/>
        </p:nvPicPr>
        <p:blipFill>
          <a:blip r:embed="rId1"/>
          <a:stretch/>
        </p:blipFill>
        <p:spPr>
          <a:xfrm>
            <a:off x="0" y="0"/>
            <a:ext cx="154080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ВЕТЫ РОДИТЕЛЯМ </a:t>
            </a:r>
            <a:br>
              <a:rPr sz="3800"/>
            </a:b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Как подготовить малыша к школе</a:t>
            </a: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6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чадо различать право-лево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жите, как правильно укладывать в портфель книжки и тетрадки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ерите пенал. В нем должны лежать две простые шариковые синие ручки, одна красная, одна зеленая, два заточенных карандаша, набор из пяти цветных карандашей, линейка и ластик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учите с малышом ваш домашний адрес и телефон, объясните ему, как звонить, если он потеряется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будущего первоклассника писать мелом (можно даже купить маленькую доску и устроить тренировочный урок)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часто боятся или стесняются просить у строгого учителя разрешения выйти во время урока, так что проговорите с чадом этот момент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у вашего ребенка есть логопедические проблемы, постарайтесь решить их до начала учебы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йте вашего первоклассника во всем. Хвалите за дело, говорите, как здорово у него получается выводить буквы (считать, рисовать и т. д.). Это придаст ему уверенности в себе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ите ребенку, что он сам несет ответственность за свою учебу. Если мама и папа зарабатывают деньги на работе, то его работа - ходить в школу и "зарабатывать" хорошие отметки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рьте, умеет ли ваше чадо самостоятельно завязывать шнурки, застегивать пуговицы и молнии, переодеваться без вашей помощи в спортивный костюм, складывать аккуратно свои вещи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9560" y="1287360"/>
            <a:ext cx="8362440" cy="1498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100" spc="-1" strike="noStrike">
                <a:solidFill>
                  <a:srgbClr val="330033"/>
                </a:solidFill>
                <a:latin typeface="Cambria"/>
              </a:rPr>
              <a:t>Занесите свои ответы в табличку: 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Cambria"/>
              </a:rPr>
              <a:t>если Вы согласны с утверждением, поставьте крестик после косой черты, если не согласны, оставьте клетку пустой. </a:t>
            </a:r>
            <a:endParaRPr b="0" lang="ru-RU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Group 50"/>
          <p:cNvGraphicFramePr/>
          <p:nvPr/>
        </p:nvGraphicFramePr>
        <p:xfrm>
          <a:off x="2297160" y="2879640"/>
          <a:ext cx="6346440" cy="3620880"/>
        </p:xfrm>
        <a:graphic>
          <a:graphicData uri="http://schemas.openxmlformats.org/drawingml/2006/table">
            <a:tbl>
              <a:tblPr/>
              <a:tblGrid>
                <a:gridCol w="1269720"/>
                <a:gridCol w="1268280"/>
                <a:gridCol w="1269720"/>
                <a:gridCol w="1268280"/>
                <a:gridCol w="1269720"/>
              </a:tblGrid>
              <a:tr h="90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61"/>
                        </a:spcBef>
                        <a:tabLst>
                          <a:tab algn="l" pos="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2"/>
          <p:cNvSpPr/>
          <p:nvPr/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Cambria"/>
              </a:rPr>
              <a:t>Тест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“Готовы ли вы отдавать своего ребенка в школу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Картинка 18 из 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1040" y="3500280"/>
            <a:ext cx="2588400" cy="33573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1" name="Picture 9" descr="Картинка 82 из 12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3680" y="1000080"/>
            <a:ext cx="1714320" cy="24123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2" name="Picture 11" descr="Картинка 97 из 1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9840" y="3500280"/>
            <a:ext cx="2593800" cy="33573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3" name="Picture 13" descr="Картинка 107 из 33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48360" y="409680"/>
            <a:ext cx="2015640" cy="30189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4" name="Picture 15" descr="Картинка 115 из 33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1000080"/>
            <a:ext cx="1677600" cy="24285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5" name="Picture 17" descr="Картинка 276 из 33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00280" y="1000080"/>
            <a:ext cx="1571400" cy="24285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Советуем прочитать…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4" descr="Картинка 279 из 458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85960" y="1000080"/>
            <a:ext cx="1642680" cy="24285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78" name="Picture 26" descr="Картинка 212 из 458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17320" y="3500280"/>
            <a:ext cx="2783160" cy="3357360"/>
          </a:xfrm>
          <a:prstGeom prst="rect">
            <a:avLst/>
          </a:prstGeom>
          <a:ln cap="sq" w="88900">
            <a:solidFill>
              <a:srgbClr val="e2e2ca">
                <a:lumMod val="5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3168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Все программы обучения. Начальная школа</a:t>
            </a:r>
            <a:br>
              <a:rPr sz="42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настоящее время существуют две системы подготовки детей в начальной школе: традиционная и развивающая. Внутри каждой есть свои программы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 традиционной относятся программы: «Начальная школа 21 века», «Школа 2100», «Школа России», «Гармония», «Перспективная начальная школа», «Классическая начальная школа», «Планета знаний»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 развивающим системам относятся две программы: Л.В. Занкова и Д.Б. Эльконина — В.В. Давыдов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3"/>
          <p:cNvSpPr/>
          <p:nvPr/>
        </p:nvSpPr>
        <p:spPr>
          <a:xfrm>
            <a:off x="357120" y="-285840"/>
            <a:ext cx="878652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Система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Д.В. Эльконина-В.В. Давыд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этой программе особое место уделяется теоретическим знаниям и логической стороне обучения. Уровень преподаваемых предметов — предельно сложный. Система обучения Эльконина-Давыдова предполагает формирование у выпускников начальной школы большого набора навыков. Ребенок должен научиться искать недостающую информацию при столкновении с новой задачей, осуществлять проверку собственных гипотез. Более того, система предполагает, что младший школьник самостоятельно будет организовывать взаимодействие с учителем и другими учениками, анализировать и критически оценивать собственные действия и точки зрения партнеров. Эта система подойдет тем, кто хочет развивать в ребенке не столько способность к анализу, сколько умение необычно, глубоко мыслить. В этой системе, правда, может отпугнуть отсутствие отметок. Но специалисты уверяют, что все под контролем: учителя сообщают все нужные рекомендации и пожелания родителям и собирают своего рода портфолио творческих работ учеников. Оно и выполняет роль показателя успеваемости вместо привычного дневн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http://lib.mgppu.ru/SoftUnicode/AbsoRes/AbsoDbUnicode0/Notices/big/64057.jpg"/>
          <p:cNvPicPr/>
          <p:nvPr/>
        </p:nvPicPr>
        <p:blipFill>
          <a:blip r:embed="rId1"/>
          <a:stretch/>
        </p:blipFill>
        <p:spPr>
          <a:xfrm>
            <a:off x="0" y="0"/>
            <a:ext cx="174456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3"/>
          <p:cNvSpPr/>
          <p:nvPr/>
        </p:nvSpPr>
        <p:spPr>
          <a:xfrm>
            <a:off x="357120" y="-285840"/>
            <a:ext cx="878652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Система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Зан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Занкова делает ставку на самостоятельность учащегося, его творческое постижение материала. Учитель не выдаёт школьникам истины, а заставляет до них «докапываться» самим. Схема здесь обратная традиционной. Сначала даются примеры, а учащиеся сами должны сделать теоретические выводы. Усвоенный материал также закрепляется практическими заданиями. Новые дидактические принципы этой системы — это быстрое освоение материала, высокий уровень трудности, ведущая роль теоретических знаний, прохождение учебного материала «по спирали». Например, школьников уже на первом году обучения знакомят с понятием «Части речи», причём прийти пониманию этих понятий они должны самостоятельно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а обучения — дать общую картину мира на основе науки, литературы, искусства. Программа направлена на всестороннее развитие ребенка, она учит детей добывать информацию самим, а не получать готову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http://lib.mgppu.ru/SoftUnicode/AbsoRes/AbsoDbUnicode0/Notices/big/64057.jpg"/>
          <p:cNvPicPr/>
          <p:nvPr/>
        </p:nvPicPr>
        <p:blipFill>
          <a:blip r:embed="rId1"/>
          <a:stretch/>
        </p:blipFill>
        <p:spPr>
          <a:xfrm>
            <a:off x="285840" y="214200"/>
            <a:ext cx="1741320" cy="252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3"/>
          <p:cNvSpPr/>
          <p:nvPr/>
        </p:nvSpPr>
        <p:spPr>
          <a:xfrm>
            <a:off x="428760" y="-428760"/>
            <a:ext cx="8714880" cy="55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Начальная школа ХХI 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под руководством Виноградовой Н.Ф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ьная школа ХХI век под редакцией Н.Ф. Виноградовой. В этом комплекте очень серьёзно рассматривается проблема формирования учебной деятельности младшего школьника, и это единственный комплект, где есть параллельная программа «Учебная деятельность». Материал этой программы рассчитан на сильных эрудированных детей. С каким багажом знаний школьник перейдет в среднюю школу, зависит от учителя начальных классов. Поэтому главной целью является — научить ребенка учиться. Немаловажно, что комплект Виноградовой реализует право ребенка на свою индивидуальность: дети поставлены в условия, когда могут самостоятельно добывать знания, применять их, размышлять, фантазировать, играть (предусмотрены специальные тетради «Учимся думать и фантазировать», «Учимся познавать окружающий мир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://1form.ru/wp-content/uploads/2010/01/school21vek_buk.jpg"/>
          <p:cNvPicPr/>
          <p:nvPr/>
        </p:nvPicPr>
        <p:blipFill>
          <a:blip r:embed="rId1"/>
          <a:stretch/>
        </p:blipFill>
        <p:spPr>
          <a:xfrm>
            <a:off x="285840" y="214200"/>
            <a:ext cx="18680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3"/>
          <p:cNvSpPr/>
          <p:nvPr/>
        </p:nvSpPr>
        <p:spPr>
          <a:xfrm>
            <a:off x="857160" y="-285840"/>
            <a:ext cx="8286480" cy="56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Учебно-методический компл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адиционная программа «Школа России» (под ред. А. Плешакова) существует десятки лет. Школа России — это та программа, по которой учились все советские школьники. Конечно, в ней произошли серьёзные изменения в плане содержания, но цели обучения остались прежними. Самое распространённое заблуждение об этой программе обучения — то, что она устарела. Это далеко не так. Программа многократно обновлялась с 2000 года, совершенствовалась и дополнялась. Эта программа позволяет тщательно отрабатывать навыки учебной деятельности (чтение, письмо, счет), которые необходимы для успешного обучения в средне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Обложка книги"/>
          <p:cNvPicPr/>
          <p:nvPr/>
        </p:nvPicPr>
        <p:blipFill>
          <a:blip r:embed="rId1"/>
          <a:stretch/>
        </p:blipFill>
        <p:spPr>
          <a:xfrm>
            <a:off x="357120" y="142920"/>
            <a:ext cx="18669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793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ограмма «Планета знаний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8257680" cy="55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ческой частью концепции программы «Планета знаний» являются предметные авторские концепции, в которых учтены современные научные достижения в предметной области знаний и результат многолетней педагогической практики. Основная особенность этой программы заключается в ее целостности — в единстве структуры учебников, в единстве форм учебного процесса, в единстве используемых учебных схем, в единстве сквозных линий типовых заданий, в единстве подходов к организации учебной и внеучебной деятельност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ую роль в формировании универсальных учебных действий играет общая структура всех учебников комплекта. Маршрутные листы, предваряющие каждую тему, наглядно представляют учебные задачи, стоящие перед младшими школьниками. Выделение цветом на страницах учебников инвариантного и вариативного содержания материала, разноуровневая система заданий обеспечивают возможность организации образовательного процесса с учётом контингента учащихся, создания индивидуальных образовательных траекторий. Все структурные составляющие комплекта «Планета знаний» позволяют прежде всего формировать у учащихся такие общеучебные умения и навыки, как: умение решать творческие задачи на уровне комбинаций и импровизаций; работать с учебными, художественными и научно-популярными текстами; овладевать первоначальными умениями поиска необходимой информации; самостоятельно устанавливать последовательность действий для решения учебной задачи; определять способы контроля и оценки деятельности; определять причины возникающих трудностей и пути их устранения; умение договариваться, распределять работу, оценивать общий результат деятельности и свой вклад в него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3" descr="pz1buk.jpg"/>
          <p:cNvPicPr/>
          <p:nvPr/>
        </p:nvPicPr>
        <p:blipFill>
          <a:blip r:embed="rId1"/>
          <a:stretch/>
        </p:blipFill>
        <p:spPr>
          <a:xfrm>
            <a:off x="428760" y="142920"/>
            <a:ext cx="13568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Школа 2100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од редакцией А.А. Леонтье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а программа, по некоторым оценкам, является самой распространенной в нашем регионе. С каждым годом по этой образовательной программе работает всё больше учителей. Главное преимущество этой программы заключается в глубокой преемственности и непрерывности образования. По этой программе дети могут учиться, начиная с трех лет и вплоть до поступления в ВУЗ. Все учебники программы построены с учетом психологической специфики возраста. Характерной особенностью этой образовательной программы является следующий принцип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ый материал предлагается ученикам по максимуму, а учащийся должен усвоить материал по минимуму стандарта. Таким образом, у каждого ребенка есть возможность взять столько, сколько он может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учит детей действовать самостоятельно и направлена на развитие логического мышления, речи, воображения, памяти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5" descr="sto1buk.jpg"/>
          <p:cNvPicPr/>
          <p:nvPr/>
        </p:nvPicPr>
        <p:blipFill>
          <a:blip r:embed="rId1"/>
          <a:stretch/>
        </p:blipFill>
        <p:spPr>
          <a:xfrm>
            <a:off x="428760" y="142920"/>
            <a:ext cx="164268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грамма «Гармония»</a:t>
            </a:r>
            <a:br>
              <a:rPr sz="4200"/>
            </a:b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757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о-методический комплект «Гармония» (под ред. Н.Б. Истомина (математика), М.С. Соловейчик и Н.С. Кузьменко (русский язык), О.В. Кубасова (литературное чтение), О.Т. Поглазова (окружающий мир), Н.М. Конышева (трудовое обучение)) с успехом практикуется во многих школах. В этой программе выделены единые цели, задачи для всех учебных предметов, определены приоритетные методы обучения и формы организации учебной деятельнос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юсы этой программ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дет опережающее обучение, входящие в комплект учебники содержат методическую часть, с помощью которой родители могут сами изучить и объяснить ребенку пропущенную тему. В программе используются новые технологии обучения, которые позволяют развивать способности ребенка к логическому мышлению. Примечательно и то, что в комплекте предлагаются задания, рассчитанные на детей разных уровней подготовленности. Но есть и минусы: по математике решение задач начинается только во втором классе, а контрольные работы предлагаются одинаковые для всех классов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3" descr="1154197.jpg"/>
          <p:cNvPicPr/>
          <p:nvPr/>
        </p:nvPicPr>
        <p:blipFill>
          <a:blip r:embed="rId1"/>
          <a:stretch/>
        </p:blipFill>
        <p:spPr>
          <a:xfrm>
            <a:off x="214200" y="214200"/>
            <a:ext cx="157140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ГЛАВНОЕ ДЛЯ УСПЕШНОГО СТАРТ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…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195640" y="1600200"/>
            <a:ext cx="664344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создать общий положительный образ школы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деализируйте школьные будни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, как ребенок относится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к школ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учебной деятельност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учителя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к самому себ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ажнее, чтобы ребенка привлекала школа своей главной деятельностью - учением; например, желание писать, читать, считать, решать задачи; учиться, чтобы быть, как ..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подготовка ребенка к школе"/>
          <p:cNvPicPr/>
          <p:nvPr/>
        </p:nvPicPr>
        <p:blipFill>
          <a:blip r:embed="rId1"/>
          <a:stretch/>
        </p:blipFill>
        <p:spPr>
          <a:xfrm>
            <a:off x="7740720" y="2637000"/>
            <a:ext cx="1142640" cy="199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Тест “Готовы ли вы отдавать своего ребенка в школу?”</a:t>
            </a: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240" cy="427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кажется, что мой ребенок будет учиться хуже других детей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Я опасаюсь, что мой ребенок часто будет обижать других детей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На мой взгляд, четыре урока — непомерная нагрузка для маленького ребенк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Трудно быть уверенным, что учителя младших классов хорошо понимают детей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Ребенок может спокойно учиться только в том случае, если учительница — его собственная мам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Трудно представить, что первоклассник может быстро научиться читать, считать и писать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Мне кажется, что дети в этом возрасте еще не способны дружить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Боюсь даже думать о том, как мой ребенок будет обходиться без дневного сн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Мой ребенок часто плачет, когда к нему обращается незнакомый взрослый человек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Мой ребенок не ходит в детский сад и никогда не расстается с матерью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. Начальная школа, по-моему, редко способна чему-либо научить ребенк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. Я опасаюсь, что дети будут дразнить моего ребенк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. Мой малыш, по-моему, значительно слабее своих сверстников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. Боюсь, что учительница не имеет возможности оценить успехи каждого ребенка.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5. Мой ребенок часто говорит: “Мама, мы пойдем в школу вместе!”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MCj03432970000[1]"/>
          <p:cNvPicPr/>
          <p:nvPr/>
        </p:nvPicPr>
        <p:blipFill>
          <a:blip r:embed="rId1"/>
          <a:stretch/>
        </p:blipFill>
        <p:spPr>
          <a:xfrm>
            <a:off x="7323120" y="5016600"/>
            <a:ext cx="1820520" cy="184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icture 4">
            <a:hlinkClick r:id="rId1"/>
          </p:cNvPr>
          <p:cNvSpPr/>
          <p:nvPr/>
        </p:nvSpPr>
        <p:spPr>
          <a:xfrm rot="2350200">
            <a:off x="1285200" y="2230200"/>
            <a:ext cx="4373280" cy="437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7280" y="685800"/>
            <a:ext cx="64796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c00000"/>
                </a:solidFill>
                <a:latin typeface="Gabriola"/>
              </a:rPr>
              <a:t>Благодарим   за внимание! 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Результаты </a:t>
            </a:r>
            <a:br>
              <a:rPr sz="3600"/>
            </a:b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тестирования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675280" cy="48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до 4 баллов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— это означает, что у Вас есть все основания оптимистично ждать первого сентября — по крайней мере, сами вполне готовы к школьной жизни Вашего ребенка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5-10 баллов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— лучше подготовиться к возможным трудностям заранее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1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10 баллов и больше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— было бы неплохо посоветоваться детским психологом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Обратите внимание на то, в каких столбцах получено 2 или 3 плюса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1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— необходимо больше заниматься играми и заданиями, развивающими память, внимание, тонкую моторику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2 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— нужно обратить внимание на то, умеет ли Ваш ребенок общаться с другими детьми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3 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— предвидятся сложности, связанные со здоровьем ребенка, но еще есть время заняться закаливанием и общеукрепляющими упражнениями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4 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— есть опасения, что ребенок не найдет контакта с учительницей, надо обратить внимание на сюжетные игры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5</a:t>
            </a:r>
            <a:r>
              <a:rPr b="0" lang="ru-RU" sz="20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– ваш ребенок недостаточно самостоятелен, вероятно, он излишне привязан к матери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F:\Users\Наташа\Desktop\Новая папка\DSC0228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28760" y="0"/>
            <a:ext cx="1571400" cy="14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287280" y="3213000"/>
            <a:ext cx="8353080" cy="3384360"/>
          </a:xfrm>
          <a:prstGeom prst="rect">
            <a:avLst/>
          </a:prstGeom>
          <a:solidFill>
            <a:srgbClr val="ffff00">
              <a:alpha val="30000"/>
            </a:srgbClr>
          </a:solidFill>
          <a:ln w="190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631800" indent="-631800" algn="ctr"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акой подготовки недостаточно, и умение читать и считать не ведёт автоматически 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 algn="ctr">
              <a:lnSpc>
                <a:spcPct val="8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6318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развитию речи, мышления, памяти, пространственной ориентировки и пр.-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интеллектуальной гот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6318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желанию учиться -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мотивационной гот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6318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оизвольности поведения –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олевой готовност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6318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ецентрической позиции –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коммуникативной гот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459280" cy="172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к школе понимается повсеместно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ак обуч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наниям и умения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дети должны получить в школе при обучении в 1 классе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924360" y="1881360"/>
            <a:ext cx="1294920" cy="109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5003640" y="1484280"/>
            <a:ext cx="3634920" cy="2050560"/>
          </a:xfrm>
          <a:prstGeom prst="wedgeEllipseCallout">
            <a:avLst>
              <a:gd name="adj1" fmla="val -78426"/>
              <a:gd name="adj2" fmla="val 73296"/>
            </a:avLst>
          </a:prstGeom>
          <a:solidFill>
            <a:srgbClr val="ccffcc"/>
          </a:solidFill>
          <a:ln cap="sq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chemeClr val="accent2"/>
                </a:solidFill>
                <a:latin typeface="Arial"/>
              </a:rPr>
              <a:t>Важнейшим компонентам готовности к школьному обуч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" strike="noStrike">
                <a:solidFill>
                  <a:srgbClr val="ff6600"/>
                </a:solidFill>
                <a:latin typeface="Times New Roman"/>
              </a:rPr>
              <a:t>Ситуация в школе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2436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тсутствии у родителей правильных представлений о готовности к школьному обучению дети приходят в школу с навыками чтения и счета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285840" y="3143160"/>
            <a:ext cx="8569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 3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0%  из них не развита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мелкая мото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50920" y="4221000"/>
            <a:ext cx="8605440" cy="89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 60% –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устн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287280" y="5264280"/>
            <a:ext cx="8532360" cy="108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у 70% первоклашек не сформировано умение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организовать свою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164360" y="2349360"/>
            <a:ext cx="936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0080" y="71280"/>
            <a:ext cx="77767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«Портрет» первоклассника, неготового к школе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6752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резмерная игривость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достаточная самостоятельность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пульсивность, бесконтрольность поведения, гиперактивность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умение общаться со сверстниками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рудность контактов с незнакомыми взрослыми (стойкое нежелание контактировать) или, наоборот, непонимание своего статуса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умение сосредоточиться на задании, трудность восприятия словесной или иной инструкции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изкий уровень знаний об окружающем мире, неумение сделать обобщение, классифицировать, выделить сходство, различие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лохое развитие тонко координированных движений руки, зрительно-моторных координации (неумение выполнять различные графические задания, манипулировать мелкими предметами)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едостаточное развитие произвольной памяти;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730000"/>
              </a:buClr>
              <a:buSzPct val="9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держка речевого развития (это может быть и неправильное произношение, и бедный словарный запас, и неумение выразить свои мысли и т. п.)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MCj04357450000[1]"/>
          <p:cNvPicPr/>
          <p:nvPr/>
        </p:nvPicPr>
        <p:blipFill>
          <a:blip r:embed="rId1"/>
          <a:stretch/>
        </p:blipFill>
        <p:spPr>
          <a:xfrm>
            <a:off x="-214200" y="0"/>
            <a:ext cx="201672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Как помочь ребенку подготовиться к школе? 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51508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Особенно внимательно необходимо готовится к школе, если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беременность и роды протекали с осложнениями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ребёнок перенёс родовую травму или родился недоношенным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ребёнок страдает желудочно-кишечными заболеваниями, энурезом, подвержен частым простудам, есть нарушение сна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ребёнок с трудом находит контакт со сверстниками, эмоционально не устойчив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30000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вы замечаете двигательную заторможенность или гиперактивность.</a:t>
            </a: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F:\Users\Наташа\Desktop\Новая папка\DSC02412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87000" y="0"/>
            <a:ext cx="16128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440" cy="164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Психологическая готовность </a:t>
            </a:r>
            <a:br>
              <a:rPr sz="3400"/>
            </a:br>
            <a:r>
              <a:rPr b="1" lang="ru-RU" sz="3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к обучению в школе включает в себя:</a:t>
            </a: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240" cy="3776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1" lang="ru-RU" sz="28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интеллектуальную готовность;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1" lang="ru-RU" sz="28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мотивационную готовность;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1" lang="ru-RU" sz="28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волевую готовность;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1" lang="ru-RU" sz="2800" spc="-1" strike="noStrike">
                <a:solidFill>
                  <a:schemeClr val="accent5">
                    <a:lumMod val="10000"/>
                  </a:schemeClr>
                </a:solidFill>
                <a:latin typeface="Cambria"/>
              </a:rPr>
              <a:t>коммуникативную готовность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F:\Users\Наташа\Desktop\Новая папка\DSC0228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57120" y="1571760"/>
            <a:ext cx="2045520" cy="2142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F:\Users\Наташа\Desktop\Новая папка\DSC02328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286240" y="3714840"/>
            <a:ext cx="3805200" cy="235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F:\Users\Наташа\Desktop\Новая папка\DSC02452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2428920" y="3714840"/>
            <a:ext cx="2928960" cy="2356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F:\Users\Наташа\Desktop\Новая папка\DSC02264.JPG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357120" y="3714840"/>
            <a:ext cx="20714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Layers</Template>
  <TotalTime>1194</TotalTime>
  <Application>LibreOffice/7.4.7.2$Linux_X86_64 LibreOffice_project/40$Build-2</Application>
  <AppVersion>15.0000</AppVersion>
  <Words>1867</Words>
  <Paragraphs>228</Paragraphs>
  <Company>Inc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4:05:29Z</dcterms:created>
  <dc:creator>Мама</dc:creator>
  <dc:description/>
  <dc:language>en-US</dc:language>
  <cp:lastModifiedBy>Notebook-5</cp:lastModifiedBy>
  <dcterms:modified xsi:type="dcterms:W3CDTF">2014-02-13T07:56:48Z</dcterms:modified>
  <cp:revision>139</cp:revision>
  <dc:subject/>
  <dc:title>Родительское собрание для родителей будущих первокласс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</Properties>
</file>