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495-D54D-49A1-BECB-CE34C60D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29A-A375-482F-88DA-40B50F9D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FE9-7D30-4705-BE42-7D7342D8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DBA-2D5D-4369-A077-D0A801F0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D2E9-29EA-4258-8665-E3A3D404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81AA-4246-4C15-9D6F-D5D27667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A4CE-EE1E-4617-964B-C1007CA8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31C1-FB47-49A9-ACE1-F5F7B828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8143-304E-45C6-A757-D221ED26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2F2A-08B8-410A-8DC1-7F62CBF6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8F3B-EE00-4761-85C0-F2FF28A7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B47-223C-4076-8BCE-7D210660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5D62-5D3B-4188-B692-EEA4245C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3766-7393-491E-886D-5C29A2B3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F9E5-03AC-4F4D-A03F-38152515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BA04-4F42-4F0B-987A-E5AAF0B8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0C22-680B-431B-866A-77B28444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28D4E-762B-44DA-A977-FC03646A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63D7-C740-421B-92E1-288DA78C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82DB-FD61-4F71-9A7C-FE41E430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DF503-4D3F-4D06-AF9D-3921ED56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5A17-6719-41D6-BB96-7758EE32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413-4EEB-4857-A31B-0FAB6FF6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2E8A-6F8D-4F1E-B3F4-23CAFD8C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55ED-E92B-4D39-B6E5-C99BDDDF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B54B-362A-4C5B-9B6F-E91C4FDA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2BEC-8B1D-4514-997E-4EF41335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5AE3-FB47-48E5-A4FF-DA778CC6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75441-1172-49AA-8CE3-724A7772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5247-E7AB-4F85-BFF6-F3728C5C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EAFBE-E2B0-408C-9A76-E267C9CA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01C9-57B1-4933-B1D7-A554DACE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88F0-0540-4EF7-BAB7-17DB42E5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94D-DD6C-4D9E-A536-F0467B82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0E66-B762-477E-AE1F-16A6F49C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9C1F8-DF44-4006-8FA8-5B570FE1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1244-6370-4C2A-ADF4-A6CC279E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64DF-C32B-4358-8DF3-CDAA90BC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7DEE8-94FE-436F-8B5D-B41E8A3A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B7A6-105D-403E-8269-A0A391F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E66CC-94AD-4446-9F0A-AF75F2E2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9DD5-92A0-430A-A1E2-4A70B9AE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7410-50E2-4EB8-9D7F-3E47F34D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DA3-C6E1-4435-8E75-71F3C1A4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0D2-E6D9-43DE-A89E-1FFC1A6A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7FB-A3F4-43DF-AC22-9A77AEDF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6C7-4D07-45FB-A893-A47AE4EC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F80-B51B-4FC8-A858-4AEBCA6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4D5E-DC11-41FB-9B61-472DDE1C404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B6B1-3AED-4E16-BF36-D03933BEB10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3D5A-50AE-4AF7-BACE-6491B9B68D1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1116-8A3C-4EFE-8FB6-3F66BF5BBB9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44280"/>
          <a:ext cx="4572000" cy="68500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96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мя прилагательное – это…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33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бозначает…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96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твечает на вопросы…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77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зменяется по…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581360" y="19080"/>
          <a:ext cx="4562640" cy="1744560"/>
        </p:xfrm>
        <a:graphic>
          <a:graphicData uri="http://schemas.openxmlformats.org/drawingml/2006/table">
            <a:tbl>
              <a:tblPr/>
              <a:tblGrid>
                <a:gridCol w="4562640"/>
              </a:tblGrid>
              <a:tr h="174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12b2eb"/>
                          </a:solidFill>
                          <a:latin typeface="Trebuchet MS"/>
                        </a:rPr>
                        <a:t>часть реч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9520" y="1844640"/>
          <a:ext cx="4524480" cy="1333440"/>
        </p:xfrm>
        <a:graphic>
          <a:graphicData uri="http://schemas.openxmlformats.org/drawingml/2006/table">
            <a:tbl>
              <a:tblPr/>
              <a:tblGrid>
                <a:gridCol w="4524480"/>
              </a:tblGrid>
              <a:tr h="13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ризнак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643280" y="3068640"/>
          <a:ext cx="4500720" cy="14637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96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rebuchet MS"/>
                        </a:rPr>
                        <a:t>Какой? Какая ? Какое? Каки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643280" y="4581360"/>
          <a:ext cx="4500720" cy="1341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5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о родам, числам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и падежа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572000" y="5791320"/>
          <a:ext cx="4537080" cy="12189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-76320" y="152280"/>
            <a:ext cx="9068040" cy="6705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3" descr=""/>
          <p:cNvPicPr/>
          <p:nvPr/>
        </p:nvPicPr>
        <p:blipFill>
          <a:blip r:embed="rId1"/>
          <a:stretch/>
        </p:blipFill>
        <p:spPr>
          <a:xfrm>
            <a:off x="0" y="274680"/>
            <a:ext cx="8534520" cy="34750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 flipH="1" flipV="1">
            <a:off x="745560" y="113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04920" y="342900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 существительное, связанное с именем прилагательным, определить падеж имени существительного, по падежу существительного определить падеж прилагательно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1280" y="1828800"/>
            <a:ext cx="31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3300"/>
                </a:solidFill>
                <a:uFillTx/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905120" y="380880"/>
            <a:ext cx="627516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Алгоритм работы</a:t>
            </a: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052a"/>
          <p:cNvPicPr/>
          <p:nvPr/>
        </p:nvPicPr>
        <p:blipFill>
          <a:blip r:embed="rId2"/>
          <a:stretch/>
        </p:blipFill>
        <p:spPr>
          <a:xfrm>
            <a:off x="5254560" y="420048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1792440" y="4243320"/>
            <a:ext cx="6705360" cy="1273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Город Стародуб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Стародуб –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один из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городов Брянской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области.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Он является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районн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… центром. На главн… площади города стоят красив….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обновлённые з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дания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районн… администрации, магазины, почта. Спортивн… комплекс  б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ыл открыт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совсем недавн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. 4" descr=""/>
          <p:cNvPicPr/>
          <p:nvPr/>
        </p:nvPicPr>
        <p:blipFill>
          <a:blip r:embed="rId2"/>
          <a:stretch/>
        </p:blipFill>
        <p:spPr>
          <a:xfrm>
            <a:off x="396720" y="42840"/>
            <a:ext cx="8498160" cy="1676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14300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rebuchet MS"/>
              </a:rPr>
              <a:t>ЧАСТЬ РЕЧ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rebuchet MS"/>
              </a:rPr>
              <a:t>ОБОЗНАЧАЕТ ПРИЗНАК ПРЕДМЕТ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rebuchet MS"/>
              </a:rPr>
              <a:t>ОТВЕЧАЕТ НА ВОПРОСЫ КАКОЙ? ЧЕЙ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rebuchet MS"/>
              </a:rPr>
              <a:t>ИЗМЕНЯЕТСЯ ПО РОДАМ В ЕД. ЧИСЛЕ, ПО ЧИСЛАМ И ПАДЕЖА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rebuchet MS"/>
              </a:rPr>
              <a:t>ДЕЛАЕТ НАШУ РЕЧЬ ЯРКОЙ, ОБРАЗНОЙ, ТОЧНОЙ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75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75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72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75" fill="hold">
                                          <p:stCondLst>
                                            <p:cond delay="157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75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75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72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75" fill="hold">
                                          <p:stCondLst>
                                            <p:cond delay="157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75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75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72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75" fill="hold">
                                          <p:stCondLst>
                                            <p:cond delay="157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75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75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72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75" fill="hold">
                                          <p:stCondLst>
                                            <p:cond delay="157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75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75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72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75" fill="hold">
                                          <p:stCondLst>
                                            <p:cond delay="157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6"/>
          <p:cNvSpPr/>
          <p:nvPr/>
        </p:nvSpPr>
        <p:spPr>
          <a:xfrm>
            <a:off x="0" y="1285920"/>
            <a:ext cx="3957480" cy="1927080"/>
          </a:xfrm>
          <a:prstGeom prst="cloudCallout">
            <a:avLst>
              <a:gd name="adj1" fmla="val 7870"/>
              <a:gd name="adj2" fmla="val 4070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4716360" y="336600"/>
            <a:ext cx="4286520" cy="2106720"/>
          </a:xfrm>
          <a:prstGeom prst="cloudCallout">
            <a:avLst>
              <a:gd name="adj1" fmla="val -28518"/>
              <a:gd name="adj2" fmla="val 3871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ты оцениваешь свою работу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AutoShape 8"/>
          <p:cNvGrpSpPr/>
          <p:nvPr/>
        </p:nvGrpSpPr>
        <p:grpSpPr>
          <a:xfrm>
            <a:off x="1054080" y="3352680"/>
            <a:ext cx="4456080" cy="2560680"/>
            <a:chOff x="1054080" y="3352680"/>
            <a:chExt cx="4456080" cy="2560680"/>
          </a:xfrm>
        </p:grpSpPr>
        <p:pic>
          <p:nvPicPr>
            <p:cNvPr id="240" name="AutoShape 8" descr=""/>
            <p:cNvPicPr/>
            <p:nvPr/>
          </p:nvPicPr>
          <p:blipFill>
            <a:blip r:embed="rId1"/>
            <a:stretch/>
          </p:blipFill>
          <p:spPr>
            <a:xfrm>
              <a:off x="1054080" y="3352680"/>
              <a:ext cx="445608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6"/>
            <p:cNvSpPr/>
            <p:nvPr/>
          </p:nvSpPr>
          <p:spPr>
            <a:xfrm>
              <a:off x="1682640" y="3713040"/>
              <a:ext cx="289260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Что тебе понравилось сегодня на уроке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7"/>
          <p:cNvSpPr/>
          <p:nvPr/>
        </p:nvSpPr>
        <p:spPr>
          <a:xfrm>
            <a:off x="5357880" y="4481640"/>
            <a:ext cx="3786120" cy="1643040"/>
          </a:xfrm>
          <a:prstGeom prst="cloudCallout">
            <a:avLst>
              <a:gd name="adj1" fmla="val -28518"/>
              <a:gd name="adj2" fmla="val 38717"/>
            </a:avLst>
          </a:prstGeom>
          <a:gradFill rotWithShape="0">
            <a:gsLst>
              <a:gs pos="0">
                <a:srgbClr val="21d6e0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Прямоугольник 18" descr=""/>
          <p:cNvPicPr/>
          <p:nvPr/>
        </p:nvPicPr>
        <p:blipFill>
          <a:blip r:embed="rId2"/>
          <a:stretch/>
        </p:blipFill>
        <p:spPr>
          <a:xfrm>
            <a:off x="468360" y="79200"/>
            <a:ext cx="8496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Александр</cp:lastModifiedBy>
  <dcterms:modified xsi:type="dcterms:W3CDTF">2015-01-25T10:25:07Z</dcterms:modified>
  <cp:revision>71</cp:revision>
  <dc:subject/>
  <dc:title>                 Астана</dc:title>
</cp:coreProperties>
</file>