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7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4.png" ContentType="image/png"/>
  <Override PartName="/ppt/media/image13.jpeg" ContentType="image/jpeg"/>
  <Override PartName="/ppt/media/image12.jpeg" ContentType="image/jpeg"/>
  <Override PartName="/ppt/media/camera.wav" ContentType="audio/x-wav"/>
  <Override PartName="/ppt/media/image2.jpeg" ContentType="image/jpeg"/>
  <Override PartName="/ppt/media/image1.jpeg" ContentType="image/jpeg"/>
  <Override PartName="/ppt/media/clap.wav" ContentType="audio/x-wav"/>
  <Override PartName="/ppt/media/ricochet.wav" ContentType="audio/x-wav"/>
  <Override PartName="/ppt/media/chimes.wav" ContentType="audio/x-wav"/>
  <Override PartName="/ppt/media/glass.wav" ContentType="audio/x-wav"/>
  <Override PartName="/ppt/media/image6.jpeg" ContentType="image/jpeg"/>
  <Override PartName="/ppt/media/image14.jpeg" ContentType="image/jpeg"/>
  <Override PartName="/ppt/media/carbrake.wav" ContentType="audio/x-wav"/>
  <Override PartName="/ppt/media/drumroll.wav" ContentType="audio/x-wav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34DE-BDB3-40E1-B2F0-BA196831B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9978-4C09-4C2C-850D-CB67B28D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79BB-2715-4BAF-8248-D94944AA0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2F53-48AA-4CFD-87D3-260BF5BFA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F8CA5-ACBB-4D0E-8129-08E79F5A0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8FB9-2567-4520-8A15-45E928C2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89C37-CA0E-42E5-885D-E010CEC5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1341-997C-4280-9226-77F9EE57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1B6E-68F9-4891-9913-986CB0F8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98A5-4272-4DA5-A632-1D3D3593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1065C-0D39-461A-AB13-720E48EC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8121-3346-4D29-9F9D-35ADDF3D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C314-910B-46EC-8846-2E908963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83632-1D81-48E5-9897-5E5D0CAC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0315-AF14-435B-A762-BDCA1018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3200-01D5-4112-A21E-FAA67A0FD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CF45D-5C09-4DC1-B982-36BA94A50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B0E7-0322-4FCA-B39F-F47DA259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F7FE-582F-411D-AE6F-7D9BCFAB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EDC9-D3F3-4CE2-A95E-174BFA743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1D7C-24E2-4A6A-A2CB-8CF7E1DB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3C12-4073-4422-B83C-8C4B0D86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55FD-FA60-4DE3-96AD-9C8CB11A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097C-B420-4C92-8472-3D1CDAC3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AD06-EBF0-4690-A73B-2FE5CFBA8F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F03B-A85D-4EE9-AFE8-A4AD7CB19FC2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c7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МОСТЫ ПОВИСЛИ НАД НЕВОЙ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ухарева Ольга Георгиевн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читель начальных класс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БОУ гимназии №159 «Бестужевская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БИРЖЕВОЙ МОС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1549b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41549b"/>
                </a:solidFill>
                <a:latin typeface="Verdana"/>
              </a:rPr>
              <a:t>Историческое название "Биржевой" было возвращено мосту в самом начале "перестроечной" эпох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25" descr="22"/>
          <p:cNvPicPr/>
          <p:nvPr/>
        </p:nvPicPr>
        <p:blipFill>
          <a:blip r:embed="rId1"/>
          <a:stretch/>
        </p:blipFill>
        <p:spPr>
          <a:xfrm>
            <a:off x="4535640" y="232236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ВОРЦОВЫЙ МОС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1549b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41549b"/>
                </a:solidFill>
                <a:latin typeface="Verdana"/>
              </a:rPr>
              <a:t>Чугунная ограда появилась на Дворцовом мосту лишь в середине 20 ве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Picture 15" descr="spb053"/>
          <p:cNvPicPr/>
          <p:nvPr/>
        </p:nvPicPr>
        <p:blipFill>
          <a:blip r:embed="rId1"/>
          <a:stretch/>
        </p:blipFill>
        <p:spPr>
          <a:xfrm>
            <a:off x="3886200" y="2276640"/>
            <a:ext cx="4800600" cy="310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ЦЕПНОЙ МОС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39621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752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7" descr="390_0"/>
          <p:cNvPicPr/>
          <p:nvPr/>
        </p:nvPicPr>
        <p:blipFill>
          <a:blip r:embed="rId1"/>
          <a:stretch/>
        </p:blipFill>
        <p:spPr>
          <a:xfrm>
            <a:off x="4648320" y="2362320"/>
            <a:ext cx="4114800" cy="30859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9"/>
          <p:cNvSpPr/>
          <p:nvPr/>
        </p:nvSpPr>
        <p:spPr>
          <a:xfrm>
            <a:off x="4487760" y="3295800"/>
            <a:ext cx="152640" cy="250560"/>
          </a:xfrm>
          <a:prstGeom prst="rect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292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533520" y="2590920"/>
            <a:ext cx="4038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333399"/>
                </a:solidFill>
                <a:latin typeface="Verdana"/>
              </a:rPr>
              <a:t>Цепной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333399"/>
                </a:solidFill>
                <a:latin typeface="Verdana"/>
              </a:rPr>
              <a:t>мост уже давно не существует. В 1911 году его перестроили, и в настоящее время он носит название Пантелеймоновск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РОИЦКИЙ МОСТ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41549b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1549b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41549b"/>
                </a:solidFill>
                <a:latin typeface="Verdana"/>
              </a:rPr>
              <a:t>1897 году началось строительство моста, при закладке которого присутствовал президент Франции Ф. Фор и российский император Николай II</a:t>
            </a:r>
            <a:r>
              <a:rPr b="0" lang="ru-RU" sz="2000" spc="-1" strike="noStrike">
                <a:solidFill>
                  <a:srgbClr val="41549b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9" descr="1143321898"/>
          <p:cNvPicPr/>
          <p:nvPr/>
        </p:nvPicPr>
        <p:blipFill>
          <a:blip r:embed="rId1"/>
          <a:stretch/>
        </p:blipFill>
        <p:spPr>
          <a:xfrm>
            <a:off x="4191120" y="2057400"/>
            <a:ext cx="495288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НТОВЫЙ МОС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36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5200" indent="-565200">
              <a:spcBef>
                <a:spcPts val="601"/>
              </a:spcBef>
              <a:buClr>
                <a:srgbClr val="3333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Это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девятый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по счету мост в границах Санкт-Петербурга и первый неразводной, под которым могут проходить суда любого тоннаж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65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Picture 7" descr="IMG_9821"/>
          <p:cNvPicPr/>
          <p:nvPr/>
        </p:nvPicPr>
        <p:blipFill>
          <a:blip r:embed="rId1"/>
          <a:stretch/>
        </p:blipFill>
        <p:spPr>
          <a:xfrm>
            <a:off x="5145120" y="264636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РАСНЫЙ МОС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осты через реку Мойку окрашивались в разные цвета: зеленый, желтый, красный, син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Picture 6" descr="43-27"/>
          <p:cNvPicPr/>
          <p:nvPr/>
        </p:nvPicPr>
        <p:blipFill>
          <a:blip r:embed="rId1"/>
          <a:stretch/>
        </p:blipFill>
        <p:spPr>
          <a:xfrm>
            <a:off x="4932360" y="2133720"/>
            <a:ext cx="4032360" cy="338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sin"/>
          <p:cNvPicPr/>
          <p:nvPr/>
        </p:nvPicPr>
        <p:blipFill>
          <a:blip r:embed="rId1"/>
          <a:stretch/>
        </p:blipFill>
        <p:spPr>
          <a:xfrm>
            <a:off x="4495680" y="2438280"/>
            <a:ext cx="4370400" cy="30466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9"/>
          <p:cNvSpPr/>
          <p:nvPr/>
        </p:nvSpPr>
        <p:spPr>
          <a:xfrm>
            <a:off x="609480" y="2666880"/>
            <a:ext cx="32767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41549b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1549b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41549b"/>
                </a:solidFill>
                <a:latin typeface="Verdana"/>
              </a:rPr>
              <a:t>Синий мост знаменит тем, что является самым широким в Санкт-Петербурге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ИНИЙ МОС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АНИЧКОВ МОС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1549b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41549b"/>
                </a:solidFill>
                <a:latin typeface="Verdana"/>
              </a:rPr>
              <a:t>Жители Северной столицы уже не представляют себе Аничков мост без этих скульптур, давно ставших символами Невского проспек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11" descr="normal_anichkov_most"/>
          <p:cNvPicPr/>
          <p:nvPr/>
        </p:nvPicPr>
        <p:blipFill>
          <a:blip r:embed="rId1"/>
          <a:stretch/>
        </p:blipFill>
        <p:spPr>
          <a:xfrm>
            <a:off x="4038480" y="2057400"/>
            <a:ext cx="4953240" cy="338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ЦЕЛУЕВ МОС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1549b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41549b"/>
                </a:solidFill>
                <a:latin typeface="Verdana"/>
              </a:rPr>
              <a:t>Рядом с мостом в 18 веке жил купец по фамилии Поцелуев, державший в своем доме трактир под названием "Поцелуй"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6" descr="pocelui"/>
          <p:cNvPicPr/>
          <p:nvPr/>
        </p:nvPicPr>
        <p:blipFill>
          <a:blip r:embed="rId2"/>
          <a:stretch/>
        </p:blipFill>
        <p:spPr>
          <a:xfrm>
            <a:off x="5145120" y="264636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7"/>
          <p:cNvSpPr/>
          <p:nvPr/>
        </p:nvSpPr>
        <p:spPr>
          <a:xfrm>
            <a:off x="0" y="24890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0" y="2373480"/>
            <a:ext cx="8031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76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0" y="3311640"/>
            <a:ext cx="9144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57120" rIns="0" tIns="4752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0" y="386064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БАНКОВСКИЙ МОС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 проекту Треттера через канал Грибоедова перекинут висячий мост, который является пешеходны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7" descr="25-26"/>
          <p:cNvPicPr/>
          <p:nvPr/>
        </p:nvPicPr>
        <p:blipFill>
          <a:blip r:embed="rId1"/>
          <a:stretch/>
        </p:blipFill>
        <p:spPr>
          <a:xfrm>
            <a:off x="5219640" y="2060640"/>
            <a:ext cx="352908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ЛЬВИНЫЙ МОС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ост проектировал Треттер, фигуры львов исполнил известный скульптор, академик П.П.Сокол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ост пешеходный, висяч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6" descr="26-33"/>
          <p:cNvPicPr/>
          <p:nvPr/>
        </p:nvPicPr>
        <p:blipFill>
          <a:blip r:embed="rId1"/>
          <a:stretch/>
        </p:blipFill>
        <p:spPr>
          <a:xfrm>
            <a:off x="5148360" y="2205000"/>
            <a:ext cx="350676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1549b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1549b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41549b"/>
                </a:solidFill>
                <a:latin typeface="Verdana"/>
              </a:rPr>
              <a:t>В таком виде Египетский мост прослужил петербуржцам до начала 20 века, а потом неожиданно обрушилс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6" descr="egipet"/>
          <p:cNvPicPr/>
          <p:nvPr/>
        </p:nvPicPr>
        <p:blipFill>
          <a:blip r:embed="rId1"/>
          <a:stretch/>
        </p:blipFill>
        <p:spPr>
          <a:xfrm>
            <a:off x="5145120" y="2658960"/>
            <a:ext cx="3809880" cy="28321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9"/>
          <p:cNvSpPr/>
          <p:nvPr/>
        </p:nvSpPr>
        <p:spPr>
          <a:xfrm>
            <a:off x="1830600" y="838080"/>
            <a:ext cx="555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ЕГИПЕТСКИЙ МОС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БОЛЬШЕОХТИНСКИЙ МОС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М</a:t>
            </a:r>
            <a:r>
              <a:rPr b="0" lang="ru-RU" sz="2400" spc="-1" strike="noStrike">
                <a:solidFill>
                  <a:srgbClr val="333399"/>
                </a:solidFill>
                <a:latin typeface="Verdana"/>
                <a:ea typeface="Arial"/>
              </a:rPr>
              <a:t>ост Императора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Verdana"/>
                <a:ea typeface="Arial"/>
              </a:rPr>
              <a:t>Петра Великог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7" descr="59"/>
          <p:cNvPicPr/>
          <p:nvPr/>
        </p:nvPicPr>
        <p:blipFill>
          <a:blip r:embed="rId1"/>
          <a:stretch/>
        </p:blipFill>
        <p:spPr>
          <a:xfrm>
            <a:off x="4648320" y="2666880"/>
            <a:ext cx="4267080" cy="276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6" dur="1" fill="hold"/>
                                  <p:tgtEl>
                                    <p:spTgt spid="12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e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14:18:54Z</dcterms:created>
  <dc:creator>admin</dc:creator>
  <dc:description/>
  <dc:language>en-US</dc:language>
  <cp:lastModifiedBy>Ольга</cp:lastModifiedBy>
  <dcterms:modified xsi:type="dcterms:W3CDTF">2015-01-25T14:01:23Z</dcterms:modified>
  <cp:revision>8</cp:revision>
  <dc:subject/>
  <dc:title>МОСТЫ ПОВИСЛИ НАД НЕВОЙ</dc:title>
</cp:coreProperties>
</file>