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7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4.png" ContentType="image/png"/>
  <Override PartName="/ppt/media/image13.jpeg" ContentType="image/jpeg"/>
  <Override PartName="/ppt/media/image12.jpeg" ContentType="image/jpeg"/>
  <Override PartName="/ppt/media/camera.wav" ContentType="audio/x-wav"/>
  <Override PartName="/ppt/media/image2.jpeg" ContentType="image/jpeg"/>
  <Override PartName="/ppt/media/image1.jpeg" ContentType="image/jpeg"/>
  <Override PartName="/ppt/media/clap.wav" ContentType="audio/x-wav"/>
  <Override PartName="/ppt/media/ricochet.wav" ContentType="audio/x-wav"/>
  <Override PartName="/ppt/media/chimes.wav" ContentType="audio/x-wav"/>
  <Override PartName="/ppt/media/glass.wav" ContentType="audio/x-wav"/>
  <Override PartName="/ppt/media/image6.jpeg" ContentType="image/jpeg"/>
  <Override PartName="/ppt/media/image14.jpeg" ContentType="image/jpeg"/>
  <Override PartName="/ppt/media/carbrake.wav" ContentType="audio/x-wav"/>
  <Override PartName="/ppt/media/drumroll.wav" ContentType="audio/x-wav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DB09-C582-45DC-8709-668868D8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BFB-CDAE-40F9-9FF2-CC91A4D8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DF8-3747-4009-A69C-44AD5975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3A0-0EEE-4489-ADAF-AF7AA118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1842-B3DB-4632-AB0A-DA13DE46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D6AF-8A01-4A19-A59B-A085C1CC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C704-01B4-4E13-ACCF-2688EB2C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99FC-D33A-4CCE-B769-5AE35AC4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0C99-F431-458E-88D9-C8168E4A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39BE-D0CC-4B6A-91EE-1D1D1245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2BCD-9776-4C99-B54D-F70D358A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339B-0476-4CA7-9A61-B89B8370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6DD5-AF70-4A25-97E7-397FB2FC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44E5-B8DD-48CA-91C2-4A18F64E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CB57-1BBC-41AE-97D6-F3C111BD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2332-F752-4EB9-A557-D7280324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6C05-F3E3-436E-9B8D-96D37CA6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215-B32E-4AC8-8421-F15C24A4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DED-698D-48A0-9627-D4908430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816-6F1C-4155-987B-D314598E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13B-BC78-409A-8C8B-BB1DC34E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C302-F076-4702-B360-D274D181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00B7-34BD-4107-957F-A6CA85CC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629-3BBF-4684-99A1-8C89E482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197B-8E70-45BD-A165-C388FA77EE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597B-4A70-42E2-A9F8-10D339BAA9F9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c7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ОСТЫ ПОВИСЛИ НАД НЕВОЙ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харева Ольга Георгиевн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итель начальных класс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БОУ гимназии №159 «Бестужевская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ИРЖЕВОЙ МО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Историческое название "Биржевой" было возвращено мосту в самом начале "перестроечной" эпох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25" descr="22"/>
          <p:cNvPicPr/>
          <p:nvPr/>
        </p:nvPicPr>
        <p:blipFill>
          <a:blip r:embed="rId1"/>
          <a:stretch/>
        </p:blipFill>
        <p:spPr>
          <a:xfrm>
            <a:off x="4535640" y="2322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ВОРЦОВЫЙ МО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Чугунная ограда появилась на Дворцовом мосту лишь в середине 20 ве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15" descr="spb053"/>
          <p:cNvPicPr/>
          <p:nvPr/>
        </p:nvPicPr>
        <p:blipFill>
          <a:blip r:embed="rId1"/>
          <a:stretch/>
        </p:blipFill>
        <p:spPr>
          <a:xfrm>
            <a:off x="3886200" y="2276640"/>
            <a:ext cx="4800600" cy="31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ПНОЙ МО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62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752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7" descr="390_0"/>
          <p:cNvPicPr/>
          <p:nvPr/>
        </p:nvPicPr>
        <p:blipFill>
          <a:blip r:embed="rId1"/>
          <a:stretch/>
        </p:blipFill>
        <p:spPr>
          <a:xfrm>
            <a:off x="4648320" y="236232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4487760" y="3295800"/>
            <a:ext cx="152640" cy="25056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9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533520" y="2590920"/>
            <a:ext cx="403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Цепной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мост уже давно не существует. В 1911 году его перестроили, и в настоящее время он носит название Пантелеймоновск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РОИЦКИЙ МОСТ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41549b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1897 году началось строительство моста, при закладке которого присутствовал президент Франции Ф. Фор и российский император Николай II</a:t>
            </a:r>
            <a:r>
              <a:rPr b="0" lang="ru-RU" sz="2000" spc="-1" strike="noStrike">
                <a:solidFill>
                  <a:srgbClr val="41549b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9" descr="1143321898"/>
          <p:cNvPicPr/>
          <p:nvPr/>
        </p:nvPicPr>
        <p:blipFill>
          <a:blip r:embed="rId1"/>
          <a:stretch/>
        </p:blipFill>
        <p:spPr>
          <a:xfrm>
            <a:off x="4191120" y="2057400"/>
            <a:ext cx="49528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НТОВЫЙ МО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565200">
              <a:spcBef>
                <a:spcPts val="601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Это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девятый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о счету мост в границах Санкт-Петербурга и первый неразводной, под которым могут проходить суда любого тоннаж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5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7" descr="IMG_9821"/>
          <p:cNvPicPr/>
          <p:nvPr/>
        </p:nvPicPr>
        <p:blipFill>
          <a:blip r:embed="rId1"/>
          <a:stretch/>
        </p:blipFill>
        <p:spPr>
          <a:xfrm>
            <a:off x="5145120" y="2646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РАСНЫЙ МО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сты через реку Мойку окрашивались в разные цвета: зеленый, желтый, красный, си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6" descr="43-27"/>
          <p:cNvPicPr/>
          <p:nvPr/>
        </p:nvPicPr>
        <p:blipFill>
          <a:blip r:embed="rId1"/>
          <a:stretch/>
        </p:blipFill>
        <p:spPr>
          <a:xfrm>
            <a:off x="4932360" y="2133720"/>
            <a:ext cx="4032360" cy="33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sin"/>
          <p:cNvPicPr/>
          <p:nvPr/>
        </p:nvPicPr>
        <p:blipFill>
          <a:blip r:embed="rId1"/>
          <a:stretch/>
        </p:blipFill>
        <p:spPr>
          <a:xfrm>
            <a:off x="4495680" y="2438280"/>
            <a:ext cx="4370400" cy="3046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609480" y="2666880"/>
            <a:ext cx="3276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41549b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Синий мост знаменит тем, что является самым широким в Санкт-Петербург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НИЙ МО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НИЧКОВ МО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Жители Северной столицы уже не представляют себе Аничков мост без этих скульптур, давно ставших символами Невского проспек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11" descr="normal_anichkov_most"/>
          <p:cNvPicPr/>
          <p:nvPr/>
        </p:nvPicPr>
        <p:blipFill>
          <a:blip r:embed="rId1"/>
          <a:stretch/>
        </p:blipFill>
        <p:spPr>
          <a:xfrm>
            <a:off x="4038480" y="2057400"/>
            <a:ext cx="4953240" cy="33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ЦЕЛУЕВ МО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Рядом с мостом в 18 веке жил купец по фамилии Поцелуев, державший в своем доме трактир под названием "Поцелуй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6" descr="pocelui"/>
          <p:cNvPicPr/>
          <p:nvPr/>
        </p:nvPicPr>
        <p:blipFill>
          <a:blip r:embed="rId2"/>
          <a:stretch/>
        </p:blipFill>
        <p:spPr>
          <a:xfrm>
            <a:off x="5145120" y="264636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0" y="2489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2373480"/>
            <a:ext cx="803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3311640"/>
            <a:ext cx="9144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7120" rIns="0" tIns="4752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0" y="38606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АНКОВСКИЙ МО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проекту Треттера через канал Грибоедова перекинут висячий мост, который является пешеходны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7" descr="25-26"/>
          <p:cNvPicPr/>
          <p:nvPr/>
        </p:nvPicPr>
        <p:blipFill>
          <a:blip r:embed="rId1"/>
          <a:stretch/>
        </p:blipFill>
        <p:spPr>
          <a:xfrm>
            <a:off x="5219640" y="2060640"/>
            <a:ext cx="35290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ЬВИНЫЙ МО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ст проектировал Треттер, фигуры львов исполнил известный скульптор, академик П.П.Сокол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ст пешеходный, висяч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6" descr="26-33"/>
          <p:cNvPicPr/>
          <p:nvPr/>
        </p:nvPicPr>
        <p:blipFill>
          <a:blip r:embed="rId1"/>
          <a:stretch/>
        </p:blipFill>
        <p:spPr>
          <a:xfrm>
            <a:off x="5148360" y="2205000"/>
            <a:ext cx="350676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549b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В таком виде Египетский мост прослужил петербуржцам до начала 20 века, а потом неожиданно обрушил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6" descr="egipet"/>
          <p:cNvPicPr/>
          <p:nvPr/>
        </p:nvPicPr>
        <p:blipFill>
          <a:blip r:embed="rId1"/>
          <a:stretch/>
        </p:blipFill>
        <p:spPr>
          <a:xfrm>
            <a:off x="5145120" y="2658960"/>
            <a:ext cx="3809880" cy="28321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1830600" y="838080"/>
            <a:ext cx="555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ГИПЕТСКИЙ МОС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ОЛЬШЕОХТИНСКИЙ МО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М</a:t>
            </a:r>
            <a:r>
              <a:rPr b="0" lang="ru-RU" sz="2400" spc="-1" strike="noStrike">
                <a:solidFill>
                  <a:srgbClr val="333399"/>
                </a:solidFill>
                <a:latin typeface="Verdana"/>
                <a:ea typeface="Arial"/>
              </a:rPr>
              <a:t>ост Императора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Verdana"/>
                <a:ea typeface="Arial"/>
              </a:rPr>
              <a:t>Петра Велик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7" descr="59"/>
          <p:cNvPicPr/>
          <p:nvPr/>
        </p:nvPicPr>
        <p:blipFill>
          <a:blip r:embed="rId1"/>
          <a:stretch/>
        </p:blipFill>
        <p:spPr>
          <a:xfrm>
            <a:off x="4648320" y="2666880"/>
            <a:ext cx="4267080" cy="27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6" dur="1" fill="hold"/>
                                  <p:tgtEl>
                                    <p:spTgt spid="1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4:18:54Z</dcterms:created>
  <dc:creator>admin</dc:creator>
  <dc:description/>
  <dc:language>en-US</dc:language>
  <cp:lastModifiedBy>Ольга</cp:lastModifiedBy>
  <dcterms:modified xsi:type="dcterms:W3CDTF">2015-01-25T14:01:23Z</dcterms:modified>
  <cp:revision>8</cp:revision>
  <dc:subject/>
  <dc:title>МОСТЫ ПОВИСЛИ НАД НЕВОЙ</dc:title>
</cp:coreProperties>
</file>