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43B-1674-463F-9595-60D885CD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53A-8138-40F5-B4CF-409BD024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4BE-000E-41F0-955D-4C54788C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AF4-178F-40EF-9EF7-E89C805D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F3F-2453-4326-9CB7-74B28A82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741-81AA-4B6D-B119-15001443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DFC-E586-4D5F-864F-C9F89C1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76B-5387-40C6-AD72-5D499792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73A-432B-4CAE-9113-D34F2144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8C6-880B-4512-8EFE-18FEC90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3C6-B46C-4591-8839-586F3A1F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B30-9B27-4A93-BE76-980F6E53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5C97-837C-4D21-ACA2-0EEB83644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тер – класс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О правах игр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оспитатель высшей категории Крылова Валентина Михайл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МАДОУ ЦРР- д\с №7 «Огонёк» г. Светл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push dir="u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дарю за активное участие и сотрудничеств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 advTm="7000">
    <p:push dir="u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 реализация прав ребенка в практике педаг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сить уровень профессиональной грамотности педагогов по предотвращению нарушения прав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ершенствовать подходы, поиск эффективных форм взаимодействия с родителями и влияния на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push dir="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важаемые коллеги! Уча других, учись и сам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9280" y="1268280"/>
            <a:ext cx="4316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но опровергнуть данное высказывание. Каждый человек в сов-ременном мире, а тем более педагог, воспи-татель, должен знать свои права, соблюдать и защищать их  от посяга-тельств. В противном случае чему мы можем научить других, не обладая знаниями с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Иришка\Desktop\Мастер класс О правах играя\DSCN4813.JPG"/>
          <p:cNvPicPr/>
          <p:nvPr/>
        </p:nvPicPr>
        <p:blipFill>
          <a:blip r:embed="rId1"/>
          <a:stretch/>
        </p:blipFill>
        <p:spPr>
          <a:xfrm>
            <a:off x="4427640" y="1628640"/>
            <a:ext cx="449568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розарисов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Счастливый случа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обходимо ответить на вопросы  выбрав из трех вариантов ответов, поднимая карточку с нужной бук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 ,В,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 статей в Конвенции о правах ребен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права ребенка обязуются уважать и обеспечивать государства –участники Конвенции ООН о правах ребен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несет ответственность за обеспечение условий жизни, необходимых для развития ребен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должен  участвовать в принятии решений, затрагивающих настоящее и будущее ребен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Иришка\Desktop\Мастер класс О правах играя\DSCN4814.JPG"/>
          <p:cNvPicPr/>
          <p:nvPr/>
        </p:nvPicPr>
        <p:blipFill>
          <a:blip r:embed="rId1"/>
          <a:stretch/>
        </p:blipFill>
        <p:spPr>
          <a:xfrm>
            <a:off x="-23760" y="1484280"/>
            <a:ext cx="3516120" cy="4492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кторина «Интерпретация понятия о правах человека в поступках литературных герое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 какой сказке нарушено право на личную неприкосновенность, жизнь и свобод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Какие литературные герои могли бы пожаловаться, что нарушено их право на неприкосновенность жилищ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Героиня какой сказки воспользовалась правом свободного передвижения и выбора места жительст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В какой сказке героиня воспользовалась правом  искать и находить в других странах убежище и защиту от преследова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Литературные герои из каких произведений воспользовались правом на свободу мирных собра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В каких сказках подтверждается право  работающего на справедливое вознаграждение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(Три поросенка, Зайка из сказки  «Заюшкина избушка», Серая шейка, Красная Шапочка, Дюймовочка, Сказка о рыбаке и рыбке, «Лягушка путешественница, Бременские музыканты, Белоснежка и семь гномов, Мороз Иванович, Сказка о попе и  о работнике Балде,  басня Кварте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push dir="u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ведение итог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Волшебный сундуч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Иришка\Desktop\Мастер класс О правах играя\DSCN4813.JPG"/>
          <p:cNvPicPr/>
          <p:nvPr/>
        </p:nvPicPr>
        <p:blipFill>
          <a:blip r:embed="rId1"/>
          <a:stretch/>
        </p:blipFill>
        <p:spPr>
          <a:xfrm>
            <a:off x="900000" y="1341360"/>
            <a:ext cx="3706920" cy="302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дведения итогов игротеки поиграем . Из сундучка достаем предметы , символизирующие знакомые всем права чело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пределить, какое право обозначает каждый предм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4110120"/>
            <a:ext cx="3708360" cy="2755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 люди – маленькие и взрослые – имеют права , и никто не вправе их наруш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идетельство о рождении.       О каком праве он вам напоминает? (Право на им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рдечко . Какое право может  обозначать сердце? (Право  на заботу и любов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ик. Как вы думаете, почему здесь оказался домик? (Право на имущест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верт.  О чем напомнил этот конверт? (никто не имеет право читать чужие пись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кварь. О каком праве напоминает книга? (О праве на учеб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Иришка\Desktop\Мастер класс О правах играя\DSCN4815.JPG"/>
          <p:cNvPicPr/>
          <p:nvPr/>
        </p:nvPicPr>
        <p:blipFill>
          <a:blip r:embed="rId1"/>
          <a:stretch/>
        </p:blipFill>
        <p:spPr>
          <a:xfrm>
            <a:off x="4648320" y="1989000"/>
            <a:ext cx="4316400" cy="388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нинговое упражнение «Согрей птич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Иришка\Desktop\Мастер класс О правах играя\DSCN4817.JPG"/>
          <p:cNvPicPr/>
          <p:nvPr/>
        </p:nvPicPr>
        <p:blipFill>
          <a:blip r:embed="rId1"/>
          <a:stretch/>
        </p:blipFill>
        <p:spPr>
          <a:xfrm>
            <a:off x="250920" y="1484280"/>
            <a:ext cx="4038480" cy="3816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 почувствовали , как приятно-о ком то заботиться-и как это ответствен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3589200"/>
            <a:ext cx="4170240" cy="3268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жизни можно по разному жи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ре и рад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время есть, вовремя пи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время делать гад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можно и так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ассвете вста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, помышлять о чуд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кой обнаженной солнце дост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подарить его людя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Л. Вознесе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Иришка\Desktop\Мастер класс О правах играя\DSCN4819.JPG"/>
          <p:cNvPicPr/>
          <p:nvPr/>
        </p:nvPicPr>
        <p:blipFill>
          <a:blip r:embed="rId1"/>
          <a:stretch/>
        </p:blipFill>
        <p:spPr>
          <a:xfrm>
            <a:off x="179280" y="37958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Иришка\Desktop\Мастер класс О правах играя\DSCN4823.JPG"/>
          <p:cNvPicPr/>
          <p:nvPr/>
        </p:nvPicPr>
        <p:blipFill>
          <a:blip r:embed="rId2"/>
          <a:stretch/>
        </p:blipFill>
        <p:spPr>
          <a:xfrm>
            <a:off x="179280" y="6206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Иришка</cp:lastModifiedBy>
  <dcterms:modified xsi:type="dcterms:W3CDTF">2015-01-25T11:42:55Z</dcterms:modified>
  <cp:revision>26</cp:revision>
  <dc:subject/>
  <dc:title>Презентация PowerPoint</dc:title>
</cp:coreProperties>
</file>