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B06-0E22-44FC-AFD1-19CCC277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5B6-1162-4654-9401-82C72612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19A-1337-4280-A919-A759A2E3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766E-219E-4A26-B4B8-36760F2B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E077-08EA-45B0-83F9-22C6C0ED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7F5-EEA8-43A3-91F7-ED27E3DC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C408-E8D1-4E8A-9990-29DB8438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308C-B913-47DF-9B83-81EF7900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C2D-6334-4927-AB88-A01FFC4A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B452-E3EC-4A42-A1AD-E2E64CFB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445-1405-46DE-861F-1A8C3870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3F3D-429F-4A7E-8D1C-0865A8BE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442C-88A1-402F-8C69-09BE3F8A30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826920" y="335772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660033"/>
                </a:solidFill>
                <a:latin typeface="Tahoma"/>
              </a:rPr>
              <a:t>Натюрморт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4"/>
          <p:cNvPicPr/>
          <p:nvPr/>
        </p:nvPicPr>
        <p:blipFill>
          <a:blip r:embed="rId1"/>
          <a:stretch/>
        </p:blipFill>
        <p:spPr>
          <a:xfrm>
            <a:off x="3203640" y="4152960"/>
            <a:ext cx="3168720" cy="2414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6"/>
          <p:cNvPicPr/>
          <p:nvPr/>
        </p:nvPicPr>
        <p:blipFill>
          <a:blip r:embed="rId2"/>
          <a:stretch/>
        </p:blipFill>
        <p:spPr>
          <a:xfrm>
            <a:off x="5724360" y="2276640"/>
            <a:ext cx="2816280" cy="2133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223"/>
          <p:cNvPicPr/>
          <p:nvPr/>
        </p:nvPicPr>
        <p:blipFill>
          <a:blip r:embed="rId3"/>
          <a:stretch/>
        </p:blipFill>
        <p:spPr>
          <a:xfrm>
            <a:off x="395280" y="2637000"/>
            <a:ext cx="367200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image002"/>
          <p:cNvPicPr/>
          <p:nvPr/>
        </p:nvPicPr>
        <p:blipFill>
          <a:blip r:embed="rId1"/>
          <a:stretch/>
        </p:blipFill>
        <p:spPr>
          <a:xfrm>
            <a:off x="684360" y="260280"/>
            <a:ext cx="3857400" cy="3552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76"/>
          <p:cNvPicPr/>
          <p:nvPr/>
        </p:nvPicPr>
        <p:blipFill>
          <a:blip r:embed="rId2"/>
          <a:stretch/>
        </p:blipFill>
        <p:spPr>
          <a:xfrm>
            <a:off x="4788000" y="1341360"/>
            <a:ext cx="3595680" cy="4848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950760" y="467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5280" y="4149720"/>
            <a:ext cx="47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ие натюрморты 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им на карти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ников-импресион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211640" y="5229360"/>
            <a:ext cx="18432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ники смело нарушают его основные каноны. Вещи выходят за свои границы и перестают быть равными себе. Они растворяются в свете и цвете, в излучении энергии, уплотняются в сгустки материи и объемов, рассыпаются на множество осколков плоскостей и граней. За этими экспериментами стоит стремление авторов выразить в своих «предметных» композициях представление об окружающем ми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01396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ники смело нарушают основные каноны жанра. Вещи выходят за свои границы и перестают быть равными себе. Они растворяются в свете и цвете, в излучении энергии, уплотняются в сгустки материи и объемов, рассыпаются на множество осколков плоскостей и граней. За этими экспериментами стоит стремление авторов выразить в своих «предметных» композициях представление об  окружающем мире 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39640" y="2924280"/>
            <a:ext cx="36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юрморт в искусстве начала ХХ века имел огромное значение и как своеобразный полигон для поиска новых выразительных средств и как жанр, в котором можно говорить языком предметов, создавая многозначное смысловое поле и вибрирующу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ую атмосферу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pict0"/>
          <p:cNvPicPr/>
          <p:nvPr/>
        </p:nvPicPr>
        <p:blipFill>
          <a:blip r:embed="rId1"/>
          <a:stretch/>
        </p:blipFill>
        <p:spPr>
          <a:xfrm>
            <a:off x="5288040" y="2708280"/>
            <a:ext cx="2657520" cy="3384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870880" y="6165720"/>
            <a:ext cx="160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.Пикассо. Подсолнух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5e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44640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атюрмор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в переводе с французского на русский язык означает "мертвая натура",то есть что-т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одушевле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34"/>
          <p:cNvPicPr/>
          <p:nvPr/>
        </p:nvPicPr>
        <p:blipFill>
          <a:blip r:embed="rId1"/>
          <a:stretch/>
        </p:blipFill>
        <p:spPr>
          <a:xfrm>
            <a:off x="539640" y="2997360"/>
            <a:ext cx="3075120" cy="3528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Машков Илья Иванович"/>
          <p:cNvPicPr/>
          <p:nvPr/>
        </p:nvPicPr>
        <p:blipFill>
          <a:blip r:embed="rId2"/>
          <a:stretch/>
        </p:blipFill>
        <p:spPr>
          <a:xfrm>
            <a:off x="4932360" y="957240"/>
            <a:ext cx="3743280" cy="2906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2"/>
          <p:cNvPicPr/>
          <p:nvPr/>
        </p:nvPicPr>
        <p:blipFill>
          <a:blip r:embed="rId3"/>
          <a:stretch/>
        </p:blipFill>
        <p:spPr>
          <a:xfrm>
            <a:off x="3995640" y="3524400"/>
            <a:ext cx="3529080" cy="29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5733720"/>
            <a:ext cx="7932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тюрморте художники изображают различные  предметы, которые окружают нас  в жизни. Это могут быть предметы быта, например, посуда, инструменты 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Кончаловский Петр Петрович"/>
          <p:cNvPicPr/>
          <p:nvPr/>
        </p:nvPicPr>
        <p:blipFill>
          <a:blip r:embed="rId1"/>
          <a:stretch/>
        </p:blipFill>
        <p:spPr>
          <a:xfrm>
            <a:off x="468360" y="404640"/>
            <a:ext cx="3333600" cy="423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PETVO4P1"/>
          <p:cNvPicPr/>
          <p:nvPr/>
        </p:nvPicPr>
        <p:blipFill>
          <a:blip r:embed="rId2"/>
          <a:stretch/>
        </p:blipFill>
        <p:spPr>
          <a:xfrm>
            <a:off x="4284720" y="476280"/>
            <a:ext cx="44528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Или то, что даёт нам природа - фрукты, овощи, цвет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BORMU3P1"/>
          <p:cNvPicPr/>
          <p:nvPr/>
        </p:nvPicPr>
        <p:blipFill>
          <a:blip r:embed="rId1"/>
          <a:stretch/>
        </p:blipFill>
        <p:spPr>
          <a:xfrm>
            <a:off x="324000" y="1268280"/>
            <a:ext cx="3692520" cy="345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pict0"/>
          <p:cNvPicPr/>
          <p:nvPr/>
        </p:nvPicPr>
        <p:blipFill>
          <a:blip r:embed="rId2"/>
          <a:stretch/>
        </p:blipFill>
        <p:spPr>
          <a:xfrm>
            <a:off x="5364000" y="1413000"/>
            <a:ext cx="3237120" cy="413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223"/>
          <p:cNvPicPr/>
          <p:nvPr/>
        </p:nvPicPr>
        <p:blipFill>
          <a:blip r:embed="rId3"/>
          <a:stretch/>
        </p:blipFill>
        <p:spPr>
          <a:xfrm>
            <a:off x="2556000" y="3860640"/>
            <a:ext cx="360036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Очень часто в натюрмортах мы видим и предметы быта, и дары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4"/>
          <p:cNvPicPr/>
          <p:nvPr/>
        </p:nvPicPr>
        <p:blipFill>
          <a:blip r:embed="rId1"/>
          <a:stretch/>
        </p:blipFill>
        <p:spPr>
          <a:xfrm>
            <a:off x="684360" y="1341360"/>
            <a:ext cx="2663640" cy="1876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Кончаловский Петр Петрович"/>
          <p:cNvPicPr/>
          <p:nvPr/>
        </p:nvPicPr>
        <p:blipFill>
          <a:blip r:embed="rId2"/>
          <a:stretch/>
        </p:blipFill>
        <p:spPr>
          <a:xfrm>
            <a:off x="4284720" y="1413000"/>
            <a:ext cx="3960720" cy="333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PETVO4P2"/>
          <p:cNvPicPr/>
          <p:nvPr/>
        </p:nvPicPr>
        <p:blipFill>
          <a:blip r:embed="rId3"/>
          <a:stretch/>
        </p:blipFill>
        <p:spPr>
          <a:xfrm>
            <a:off x="684360" y="3357720"/>
            <a:ext cx="4319280" cy="324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25"/>
          <p:cNvPicPr/>
          <p:nvPr/>
        </p:nvPicPr>
        <p:blipFill>
          <a:blip r:embed="rId4"/>
          <a:stretch/>
        </p:blipFill>
        <p:spPr>
          <a:xfrm>
            <a:off x="5651640" y="4149720"/>
            <a:ext cx="296208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15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1155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115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115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15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155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115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115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4038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XVII веке натюрморт утвердился как самостоятельный жанр. В нем отразился интерес к материальному миру, зародившемуся еще в нидерландской "живописи вещей" начала XV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становления натюрморта как жанра живописи протекал во многих странах Западной Европы. И здесь нужно отметить фламандских и голландских художников, которые по-своему решили задачу передачи всей яркости своих натюрмор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9" descr="54"/>
          <p:cNvPicPr/>
          <p:nvPr/>
        </p:nvPicPr>
        <p:blipFill>
          <a:blip r:embed="rId1"/>
          <a:stretch/>
        </p:blipFill>
        <p:spPr>
          <a:xfrm>
            <a:off x="4572000" y="3645000"/>
            <a:ext cx="4013280" cy="2617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7878"/>
          <p:cNvPicPr/>
          <p:nvPr/>
        </p:nvPicPr>
        <p:blipFill>
          <a:blip r:embed="rId2"/>
          <a:stretch/>
        </p:blipFill>
        <p:spPr>
          <a:xfrm>
            <a:off x="6227640" y="404640"/>
            <a:ext cx="230040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1"/>
          <p:cNvSpPr/>
          <p:nvPr/>
        </p:nvSpPr>
        <p:spPr>
          <a:xfrm>
            <a:off x="4408560" y="1000080"/>
            <a:ext cx="448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468360" y="4868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юрморт не очень характерен для русского искусства XVIII и даже XIX 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468360" y="1341360"/>
            <a:ext cx="67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4"/>
          <p:cNvSpPr/>
          <p:nvPr/>
        </p:nvSpPr>
        <p:spPr>
          <a:xfrm>
            <a:off x="468360" y="543672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убеже веков натюрморт развивается как самостоятельный жанр.  Приходит плеяда молодых художников, в творчестве которых натюрморт занимает главенствующее полож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5" descr="Машков Илья Иванович"/>
          <p:cNvPicPr/>
          <p:nvPr/>
        </p:nvPicPr>
        <p:blipFill>
          <a:blip r:embed="rId1"/>
          <a:stretch/>
        </p:blipFill>
        <p:spPr>
          <a:xfrm>
            <a:off x="611280" y="404640"/>
            <a:ext cx="2749320" cy="381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" descr="Машков Илья Иванович"/>
          <p:cNvPicPr/>
          <p:nvPr/>
        </p:nvPicPr>
        <p:blipFill>
          <a:blip r:embed="rId2"/>
          <a:stretch/>
        </p:blipFill>
        <p:spPr>
          <a:xfrm>
            <a:off x="4211640" y="476280"/>
            <a:ext cx="4241880" cy="3292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7"/>
          <p:cNvSpPr/>
          <p:nvPr/>
        </p:nvSpPr>
        <p:spPr>
          <a:xfrm>
            <a:off x="6732720" y="4005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И.Машков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еб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1476000" y="4367160"/>
            <a:ext cx="208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И.Машков.Цветы в ваз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Кончаловский Петр Петрович"/>
          <p:cNvPicPr/>
          <p:nvPr/>
        </p:nvPicPr>
        <p:blipFill>
          <a:blip r:embed="rId1"/>
          <a:stretch/>
        </p:blipFill>
        <p:spPr>
          <a:xfrm>
            <a:off x="468360" y="260280"/>
            <a:ext cx="4330800" cy="3641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Кончаловский Петр Петрович"/>
          <p:cNvPicPr/>
          <p:nvPr/>
        </p:nvPicPr>
        <p:blipFill>
          <a:blip r:embed="rId2"/>
          <a:stretch/>
        </p:blipFill>
        <p:spPr>
          <a:xfrm>
            <a:off x="5076720" y="1125360"/>
            <a:ext cx="3516480" cy="4465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468000" y="4076640"/>
            <a:ext cx="290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.П.Кончаловский.Корзина с ряби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002920" y="5661000"/>
            <a:ext cx="25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.П.Кончаловский.Сухие кра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861c"/>
            </a:gs>
            <a:gs pos="100000">
              <a:srgbClr val="d69b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44"/>
          <p:cNvPicPr/>
          <p:nvPr/>
        </p:nvPicPr>
        <p:blipFill>
          <a:blip r:embed="rId1"/>
          <a:stretch/>
        </p:blipFill>
        <p:spPr>
          <a:xfrm>
            <a:off x="755640" y="1557360"/>
            <a:ext cx="3557520" cy="3295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PETVO4P2"/>
          <p:cNvPicPr/>
          <p:nvPr/>
        </p:nvPicPr>
        <p:blipFill>
          <a:blip r:embed="rId2"/>
          <a:stretch/>
        </p:blipFill>
        <p:spPr>
          <a:xfrm>
            <a:off x="4427640" y="333360"/>
            <a:ext cx="4248000" cy="3187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PETVO4P1"/>
          <p:cNvPicPr/>
          <p:nvPr/>
        </p:nvPicPr>
        <p:blipFill>
          <a:blip r:embed="rId3"/>
          <a:stretch/>
        </p:blipFill>
        <p:spPr>
          <a:xfrm>
            <a:off x="4500720" y="3716280"/>
            <a:ext cx="40320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7:25:30Z</dcterms:created>
  <dc:creator>ученик</dc:creator>
  <dc:description/>
  <dc:language>en-US</dc:language>
  <cp:lastModifiedBy>дом2</cp:lastModifiedBy>
  <dcterms:modified xsi:type="dcterms:W3CDTF">2014-01-27T13:02:54Z</dcterms:modified>
  <cp:revision>13</cp:revision>
  <dc:subject/>
  <dc:title>Натюрморт.</dc:title>
</cp:coreProperties>
</file>