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3CA-70E9-495C-8C55-B02542FD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9B4-5BC4-48EB-BD50-DC2AC26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07F-940B-4FD3-9050-6406402D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085-ECBE-4CC9-8086-676AE29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AAD-AA1E-4DEC-A01D-E2891151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5B1-10D5-4349-BF57-6B4167D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B25-E4C3-4DAB-986C-AD3B6D8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AB9-68E6-4F53-BA57-3B4CEFC1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567-4506-4E08-B6EC-FD734AD7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EE1-0A2F-43F6-A59A-BED7407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1DF-C3F2-4419-905D-3A5F9DB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BB8-40C7-4F08-B15C-0E42BD5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8DA7-9C24-4FB5-A879-4555E5ED6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335772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33"/>
                </a:solidFill>
                <a:latin typeface="Tahoma"/>
              </a:rPr>
              <a:t>Натюрморт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4"/>
          <p:cNvPicPr/>
          <p:nvPr/>
        </p:nvPicPr>
        <p:blipFill>
          <a:blip r:embed="rId1"/>
          <a:stretch/>
        </p:blipFill>
        <p:spPr>
          <a:xfrm>
            <a:off x="3203640" y="4152960"/>
            <a:ext cx="3168720" cy="241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6"/>
          <p:cNvPicPr/>
          <p:nvPr/>
        </p:nvPicPr>
        <p:blipFill>
          <a:blip r:embed="rId2"/>
          <a:stretch/>
        </p:blipFill>
        <p:spPr>
          <a:xfrm>
            <a:off x="5724360" y="2276640"/>
            <a:ext cx="28162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223"/>
          <p:cNvPicPr/>
          <p:nvPr/>
        </p:nvPicPr>
        <p:blipFill>
          <a:blip r:embed="rId3"/>
          <a:stretch/>
        </p:blipFill>
        <p:spPr>
          <a:xfrm>
            <a:off x="395280" y="2637000"/>
            <a:ext cx="367200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age002"/>
          <p:cNvPicPr/>
          <p:nvPr/>
        </p:nvPicPr>
        <p:blipFill>
          <a:blip r:embed="rId1"/>
          <a:stretch/>
        </p:blipFill>
        <p:spPr>
          <a:xfrm>
            <a:off x="684360" y="260280"/>
            <a:ext cx="3857400" cy="355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76"/>
          <p:cNvPicPr/>
          <p:nvPr/>
        </p:nvPicPr>
        <p:blipFill>
          <a:blip r:embed="rId2"/>
          <a:stretch/>
        </p:blipFill>
        <p:spPr>
          <a:xfrm>
            <a:off x="4788000" y="1341360"/>
            <a:ext cx="3595680" cy="4848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950760" y="467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4149720"/>
            <a:ext cx="47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ие натюрморты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м на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ов-импресио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211640" y="522936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и смело нарушают его основные каноны. Вещи выходят за свои границы и перестают быть равными себе. Они растворяются в свете и цвете, в излучении энергии, уплотняются в сгустки материи и объемов, рассыпаются на множество осколков плоскостей и граней. За этими экспериментами стоит стремление авторов выразить в своих «предметных» композициях представление об окружающ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139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и смело нарушают основные каноны жанра. Вещи выходят за свои границы и перестают быть равными себе. Они растворяются в свете и цвете, в излучении энергии, уплотняются в сгустки материи и объемов, рассыпаются на множество осколков плоскостей и граней. За этими экспериментами стоит стремление авторов выразить в своих «предметных» композициях представление об  окружающем мире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292428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юрморт в искусстве начала ХХ века имел огромное значение и как своеобразный полигон для поиска новых выразительных средств и как жанр, в котором можно говорить языком предметов, создавая многозначное смысловое поле и вибрирующу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ую атмосфер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ict0"/>
          <p:cNvPicPr/>
          <p:nvPr/>
        </p:nvPicPr>
        <p:blipFill>
          <a:blip r:embed="rId1"/>
          <a:stretch/>
        </p:blipFill>
        <p:spPr>
          <a:xfrm>
            <a:off x="5288040" y="2708280"/>
            <a:ext cx="26575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70880" y="6165720"/>
            <a:ext cx="160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.Пикассо. Подсолнух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446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тюрмо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в переводе с французского на русский язык означает "мертвая натура",то есть что-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одушевл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34"/>
          <p:cNvPicPr/>
          <p:nvPr/>
        </p:nvPicPr>
        <p:blipFill>
          <a:blip r:embed="rId1"/>
          <a:stretch/>
        </p:blipFill>
        <p:spPr>
          <a:xfrm>
            <a:off x="539640" y="2997360"/>
            <a:ext cx="3075120" cy="352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Машков Илья Иванович"/>
          <p:cNvPicPr/>
          <p:nvPr/>
        </p:nvPicPr>
        <p:blipFill>
          <a:blip r:embed="rId2"/>
          <a:stretch/>
        </p:blipFill>
        <p:spPr>
          <a:xfrm>
            <a:off x="4932360" y="957240"/>
            <a:ext cx="3743280" cy="290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2"/>
          <p:cNvPicPr/>
          <p:nvPr/>
        </p:nvPicPr>
        <p:blipFill>
          <a:blip r:embed="rId3"/>
          <a:stretch/>
        </p:blipFill>
        <p:spPr>
          <a:xfrm>
            <a:off x="3995640" y="3524400"/>
            <a:ext cx="35290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5733720"/>
            <a:ext cx="7932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тюрморте художники изображают различные  предметы, которые окружают нас  в жизни. Это могут быть предметы быта, например, посуда, инструменты 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ончаловский Петр Петрович"/>
          <p:cNvPicPr/>
          <p:nvPr/>
        </p:nvPicPr>
        <p:blipFill>
          <a:blip r:embed="rId1"/>
          <a:stretch/>
        </p:blipFill>
        <p:spPr>
          <a:xfrm>
            <a:off x="468360" y="404640"/>
            <a:ext cx="3333600" cy="423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TVO4P1"/>
          <p:cNvPicPr/>
          <p:nvPr/>
        </p:nvPicPr>
        <p:blipFill>
          <a:blip r:embed="rId2"/>
          <a:stretch/>
        </p:blipFill>
        <p:spPr>
          <a:xfrm>
            <a:off x="4284720" y="47628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ли то, что даёт нам природа - фрукты, овощи, цвет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BORMU3P1"/>
          <p:cNvPicPr/>
          <p:nvPr/>
        </p:nvPicPr>
        <p:blipFill>
          <a:blip r:embed="rId1"/>
          <a:stretch/>
        </p:blipFill>
        <p:spPr>
          <a:xfrm>
            <a:off x="324000" y="1268280"/>
            <a:ext cx="369252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pict0"/>
          <p:cNvPicPr/>
          <p:nvPr/>
        </p:nvPicPr>
        <p:blipFill>
          <a:blip r:embed="rId2"/>
          <a:stretch/>
        </p:blipFill>
        <p:spPr>
          <a:xfrm>
            <a:off x="5364000" y="1413000"/>
            <a:ext cx="3237120" cy="413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223"/>
          <p:cNvPicPr/>
          <p:nvPr/>
        </p:nvPicPr>
        <p:blipFill>
          <a:blip r:embed="rId3"/>
          <a:stretch/>
        </p:blipFill>
        <p:spPr>
          <a:xfrm>
            <a:off x="2556000" y="3860640"/>
            <a:ext cx="36003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чень часто в натюрмортах мы видим и предметы быта, и дар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4"/>
          <p:cNvPicPr/>
          <p:nvPr/>
        </p:nvPicPr>
        <p:blipFill>
          <a:blip r:embed="rId1"/>
          <a:stretch/>
        </p:blipFill>
        <p:spPr>
          <a:xfrm>
            <a:off x="684360" y="1341360"/>
            <a:ext cx="2663640" cy="187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Кончаловский Петр Петрович"/>
          <p:cNvPicPr/>
          <p:nvPr/>
        </p:nvPicPr>
        <p:blipFill>
          <a:blip r:embed="rId2"/>
          <a:stretch/>
        </p:blipFill>
        <p:spPr>
          <a:xfrm>
            <a:off x="4284720" y="1413000"/>
            <a:ext cx="3960720" cy="333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PETVO4P2"/>
          <p:cNvPicPr/>
          <p:nvPr/>
        </p:nvPicPr>
        <p:blipFill>
          <a:blip r:embed="rId3"/>
          <a:stretch/>
        </p:blipFill>
        <p:spPr>
          <a:xfrm>
            <a:off x="684360" y="335772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25"/>
          <p:cNvPicPr/>
          <p:nvPr/>
        </p:nvPicPr>
        <p:blipFill>
          <a:blip r:embed="rId4"/>
          <a:stretch/>
        </p:blipFill>
        <p:spPr>
          <a:xfrm>
            <a:off x="5651640" y="4149720"/>
            <a:ext cx="2962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15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115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XVII веке натюрморт утвердился как самостоятельный жанр. В нем отразился интерес к материальному миру, зародившемуся еще в нидерландской "живописи вещей" начала XV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тановления натюрморта как жанра живописи протекал во многих странах Западной Европы. И здесь нужно отметить фламандских и голландских художников, которые по-своему решили задачу передачи всей яркости своих натюрм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9" descr="54"/>
          <p:cNvPicPr/>
          <p:nvPr/>
        </p:nvPicPr>
        <p:blipFill>
          <a:blip r:embed="rId1"/>
          <a:stretch/>
        </p:blipFill>
        <p:spPr>
          <a:xfrm>
            <a:off x="4572000" y="3645000"/>
            <a:ext cx="4013280" cy="261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7878"/>
          <p:cNvPicPr/>
          <p:nvPr/>
        </p:nvPicPr>
        <p:blipFill>
          <a:blip r:embed="rId2"/>
          <a:stretch/>
        </p:blipFill>
        <p:spPr>
          <a:xfrm>
            <a:off x="6227640" y="404640"/>
            <a:ext cx="23004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1"/>
          <p:cNvSpPr/>
          <p:nvPr/>
        </p:nvSpPr>
        <p:spPr>
          <a:xfrm>
            <a:off x="4408560" y="1000080"/>
            <a:ext cx="44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68360" y="4868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юрморт не очень характерен для русского искусства XVIII и даже XIX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468360" y="134136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468360" y="5436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убеже веков натюрморт развивается как самостоятельный жанр.  Приходит плеяда молодых художников, в творчестве которых натюрморт занимает главенствующее поло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5" descr="Машков Илья Иванович"/>
          <p:cNvPicPr/>
          <p:nvPr/>
        </p:nvPicPr>
        <p:blipFill>
          <a:blip r:embed="rId1"/>
          <a:stretch/>
        </p:blipFill>
        <p:spPr>
          <a:xfrm>
            <a:off x="611280" y="404640"/>
            <a:ext cx="2749320" cy="38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Машков Илья Иванович"/>
          <p:cNvPicPr/>
          <p:nvPr/>
        </p:nvPicPr>
        <p:blipFill>
          <a:blip r:embed="rId2"/>
          <a:stretch/>
        </p:blipFill>
        <p:spPr>
          <a:xfrm>
            <a:off x="4211640" y="476280"/>
            <a:ext cx="4241880" cy="329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7"/>
          <p:cNvSpPr/>
          <p:nvPr/>
        </p:nvSpPr>
        <p:spPr>
          <a:xfrm>
            <a:off x="6732720" y="4005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И.Машк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1476000" y="4367160"/>
            <a:ext cx="20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И.Машков.Цветы в в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ончаловский Петр Петрович"/>
          <p:cNvPicPr/>
          <p:nvPr/>
        </p:nvPicPr>
        <p:blipFill>
          <a:blip r:embed="rId1"/>
          <a:stretch/>
        </p:blipFill>
        <p:spPr>
          <a:xfrm>
            <a:off x="468360" y="260280"/>
            <a:ext cx="4330800" cy="364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ончаловский Петр Петрович"/>
          <p:cNvPicPr/>
          <p:nvPr/>
        </p:nvPicPr>
        <p:blipFill>
          <a:blip r:embed="rId2"/>
          <a:stretch/>
        </p:blipFill>
        <p:spPr>
          <a:xfrm>
            <a:off x="5076720" y="1125360"/>
            <a:ext cx="3516480" cy="4465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68000" y="4076640"/>
            <a:ext cx="29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Кончаловский.Корзина с ряби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002920" y="5661000"/>
            <a:ext cx="25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Кончаловский.Сухие кра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861c"/>
            </a:gs>
            <a:gs pos="100000">
              <a:srgbClr val="d69b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44"/>
          <p:cNvPicPr/>
          <p:nvPr/>
        </p:nvPicPr>
        <p:blipFill>
          <a:blip r:embed="rId1"/>
          <a:stretch/>
        </p:blipFill>
        <p:spPr>
          <a:xfrm>
            <a:off x="755640" y="1557360"/>
            <a:ext cx="355752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ETVO4P2"/>
          <p:cNvPicPr/>
          <p:nvPr/>
        </p:nvPicPr>
        <p:blipFill>
          <a:blip r:embed="rId2"/>
          <a:stretch/>
        </p:blipFill>
        <p:spPr>
          <a:xfrm>
            <a:off x="4427640" y="33336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ETVO4P1"/>
          <p:cNvPicPr/>
          <p:nvPr/>
        </p:nvPicPr>
        <p:blipFill>
          <a:blip r:embed="rId3"/>
          <a:stretch/>
        </p:blipFill>
        <p:spPr>
          <a:xfrm>
            <a:off x="4500720" y="3716280"/>
            <a:ext cx="4032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5:30Z</dcterms:created>
  <dc:creator>ученик</dc:creator>
  <dc:description/>
  <dc:language>en-US</dc:language>
  <cp:lastModifiedBy>дом2</cp:lastModifiedBy>
  <dcterms:modified xsi:type="dcterms:W3CDTF">2014-01-27T13:02:54Z</dcterms:modified>
  <cp:revision>13</cp:revision>
  <dc:subject/>
  <dc:title>Натюрморт.</dc:title>
</cp:coreProperties>
</file>