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346-82A6-4110-A373-50A3CCC8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D90-E9CB-45E0-9CA6-F04A4595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450-B27B-410E-8650-954B60EA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522-BC90-46C8-BE95-C4946D23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64E-F910-44C0-9E50-04BFBD03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340-CC1C-4B05-8F48-D79FD1CB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206-171B-4B0A-B720-D21D9A5C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C07-CECC-4291-A1D0-A9A7915D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D7B-A67F-4B8A-A78B-1358AECE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179-46A7-4AD4-9A0A-084A153B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293-C73A-4286-880C-0E9479D8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E61-F489-4CCE-A29B-1A8ECA9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6E02-CA82-40EC-B255-CB2FA22DF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4475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Мама мне  рассказывала много волшебных    сказок про добрых фей. И я решила, что моя мама- это и есть фея. Моя мама как и все  феи, среднего роста, стройная, как  берёзка. Волосы мамы  чёрные ,как будто ноченька. Феи всегда произносят волшебные  слова. Губы моей мамы –волшебницы, словно лепестки роз, с которых слетают только добрые слова. У  моей мамы сияющая улыбка. Она дарит мне всегда радостное настроение. Я очень люблю и горжусь  своей доброй мамой- волшебниц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050920" y="189000"/>
            <a:ext cx="34941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я  Фе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11" descr="мама"/>
          <p:cNvPicPr/>
          <p:nvPr/>
        </p:nvPicPr>
        <p:blipFill>
          <a:blip r:embed="rId1"/>
          <a:stretch/>
        </p:blipFill>
        <p:spPr>
          <a:xfrm>
            <a:off x="5076720" y="1557360"/>
            <a:ext cx="3598920" cy="496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4794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У каждого из нас есть  ма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 у меня есть ма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Только моя мама  лучше всех на све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 я вам  попробую это доказ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Моя  мама: добрая, нежная, ласковая, приветливая, заботливая, женственная,  терпеливая, покладистая. Ещё моя мама всегда может дать дельный , а главное нужный совет. Говорит моя мама спокойно, поэтому я очень люблю слушать и разговаривать с 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Все мамы хороши. Но моя мама  лучше всех на всём белом  све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476360" y="404640"/>
            <a:ext cx="576900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я мама лучшая  на све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9" descr="IMG_4240"/>
          <p:cNvPicPr/>
          <p:nvPr/>
        </p:nvPicPr>
        <p:blipFill>
          <a:blip r:embed="rId1"/>
          <a:stretch/>
        </p:blipFill>
        <p:spPr>
          <a:xfrm>
            <a:off x="4932360" y="1341360"/>
            <a:ext cx="37638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Никита</cp:lastModifiedBy>
  <dcterms:modified xsi:type="dcterms:W3CDTF">2015-01-25T08:25:09Z</dcterms:modified>
  <cp:revision>11</cp:revision>
  <dc:subject/>
  <dc:title>Презентация PowerPoint</dc:title>
</cp:coreProperties>
</file>