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3A5-7F4D-49DD-A6DE-BA4D55FF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3EC-1029-47D7-A183-34968BA5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E96-B002-4229-ADA9-FC4A8559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DBAA-6DB8-4B17-8B68-85E438D2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19E-25C6-404C-A092-347458F2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743D-74DB-4BB2-8416-B4DF954F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0FF-79A8-4AA0-BA28-FFCEC6AF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DDD1-C8D3-49DD-8015-F54749CA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345-CD52-4810-98F2-D7BF255C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07F3-4E1B-494B-9A97-A9573FD9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735F-B67F-4972-9C55-EECB0835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03CC-3ED3-40FA-A932-BFA1DF52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EBA5-3134-4089-B6AC-3103906F63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44751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800080"/>
                </a:solidFill>
                <a:latin typeface="Times New Roman"/>
              </a:rPr>
              <a:t>Мама мне  рассказывала много волшебных    сказок про добрых фей. И я решила, что моя мама- это и есть фея. Моя мама как и все  феи, среднего роста, стройная, как  берёзка. Волосы мамы  чёрные ,как будто ноченька. Феи всегда произносят волшебные  слова. Губы моей мамы –волшебницы, словно лепестки роз, с которых слетают только добрые слова. У  моей мамы сияющая улыбка. Она дарит мне всегда радостное настроение. Я очень люблю и горжусь  своей доброй мамой- волшебниц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2050920" y="189000"/>
            <a:ext cx="3494160" cy="127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я  Фе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" name="Picture 11" descr="мама"/>
          <p:cNvPicPr/>
          <p:nvPr/>
        </p:nvPicPr>
        <p:blipFill>
          <a:blip r:embed="rId1"/>
          <a:stretch/>
        </p:blipFill>
        <p:spPr>
          <a:xfrm>
            <a:off x="5076720" y="1557360"/>
            <a:ext cx="3598920" cy="4967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1557000"/>
            <a:ext cx="4794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У каждого из нас есть  ма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И у меня есть ма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Только моя мама  лучше всех на свет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И я вам  попробую это доказ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Моя  мама: добрая, нежная, ласковая, приветливая, заботливая, женственная,  терпеливая, покладистая. Ещё моя мама всегда может дать дельный , а главное нужный совет. Говорит моя мама спокойно, поэтому я очень люблю слушать и разговаривать с н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Все мамы хороши. Но моя мама  лучше всех на всём белом  свет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476360" y="404640"/>
            <a:ext cx="576900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я мама лучшая  на свет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" name="Picture 9" descr="IMG_4240"/>
          <p:cNvPicPr/>
          <p:nvPr/>
        </p:nvPicPr>
        <p:blipFill>
          <a:blip r:embed="rId1"/>
          <a:stretch/>
        </p:blipFill>
        <p:spPr>
          <a:xfrm>
            <a:off x="4932360" y="1341360"/>
            <a:ext cx="37638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7T12:51:07Z</dcterms:created>
  <dc:creator>User</dc:creator>
  <dc:description/>
  <dc:language>en-US</dc:language>
  <cp:lastModifiedBy>Никита</cp:lastModifiedBy>
  <dcterms:modified xsi:type="dcterms:W3CDTF">2015-01-25T08:25:09Z</dcterms:modified>
  <cp:revision>11</cp:revision>
  <dc:subject/>
  <dc:title>Презентация PowerPoint</dc:title>
</cp:coreProperties>
</file>