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0354-B5B5-48F8-9911-6140BF01E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25D5-D191-46DE-9187-FC19A437B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E0EDB4-1972-477E-AA1C-3919C285C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C6F608-5814-49C5-9453-EF637AD0B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1835A8-FF75-409F-A010-F8D0B225D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AC9579-83D0-4744-A3B2-D098018A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D99B00-1EEF-4F90-97FE-89AE55CB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BBA8AB-020F-45A5-860A-63A224E39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C38751-DC61-4361-8D8E-8084F7651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B8ECC5-597F-4746-88D7-25C787198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EBE3CA-E31A-4410-BA73-7D1F85A52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76D1F2-E43E-448F-982C-C2C3F15C9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E3FB-40A4-4EAD-9ED3-E740134AD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9EA56F-7521-4ECD-AFE0-626C9454E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B6A640-AB11-4FA4-8760-840AAB841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5AC39D-6B4B-440D-8AA1-42A5FF10A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F04CAC-60A8-40B4-95FB-8079AFB82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823C43-D31A-4BD2-A2F0-FEA2B7231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681D60-B53C-4784-B36E-00B61D2D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924CD7-801E-49BA-931F-A983EA326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8E7BC8-883C-4427-BD94-7664A086C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F8118F-B9A2-48A7-8B73-86D79FA1F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6198BA-D93F-4E39-A40A-C22661545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6405-6A68-4A8C-91A9-4557312DB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7A9B18-E76B-41E9-93DA-A3087FF39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4235B8-7E1F-4EE9-A1D7-420BAF52D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12B5D4-F1EE-4522-9043-3D70262F2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26AB69-3DF5-4F14-9D06-C42478B7C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444C15-DEA2-4A57-BFB6-F61CF68F9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01CDD4-6538-4DCF-A0AE-C172EB9E8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DC9D23-4E43-4D37-B3E5-64158DBCB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09D83F-F0D2-4E5C-8D0E-5990F163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B8D6E2-9D22-4B2F-ABB8-D3CF44C75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CC0DDB-E432-47CA-ABDE-49796910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F28C5-F0F5-4D5B-91FB-E7CF05B6E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60F14A-1DC6-4E80-8CBC-429913411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A9744A-DC7C-430B-A4C4-60AE3EA48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021CD6-4F4B-4E1F-9001-F5055B577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F88907-6631-4733-B388-1822F7D46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C31043-83DD-49FC-8D6E-C7F1A5971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3C840F-E3E4-451C-94B1-6E96E87A5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0062F9-863F-40EF-914B-15866BFED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E913E2-7F7C-4AF3-931A-7AAF7F4AF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D252D8-8C2A-4ABA-81C4-5B8833270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B5EC96-3F92-4B60-B032-852D6151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9E212-200A-483E-80FB-3BC500A14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913CB8-4A51-41E4-BFB9-25908B013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43CB40-4AFA-4D4F-8B8B-309609C1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D6E37B-CBD5-44D8-866B-98C9AD127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700E24-64D6-44A1-8D0B-7B8E5B15B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3C2018-97BA-4145-87C2-E337C36F4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BC8356-C3EC-4984-BE16-2041A60DE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D1E7C8-C7FE-4CC2-B7CA-324C17263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10DDB2-7467-4FCC-AAEB-9F16A20EE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BAACB1-2E6E-4A34-9A18-18EEEB3CD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E3C975-8543-4771-AD9E-12B3CEA35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40DF1-E887-494A-B7DF-33AFF4AD5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ECE5E9-B2A3-41EA-AA44-41BCD6070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212557-6100-4ED1-BE6D-F81C1B70A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4192B6-5927-421F-8BB7-CA10DDFDE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70BB12-C457-4A04-8F80-911D325C8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AEC214-EF86-4F4D-8B66-3F600959D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1CB31B-1C50-4B59-BCA9-527B38F03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28989C-F59E-4D4E-8DC9-4B2922DED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6E8ADD-F4DD-4924-B89A-0CA2DF029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D87C86-0A5C-4708-8FD9-1DB8D761B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91FF08-2A1A-4335-9984-AAA1CB104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C9054-8C13-41E6-987A-8F9BC7620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9833B1-77DD-4D26-A2BE-5782558A2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9DE0BC-69E3-485A-8E89-E8A771F32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3FD6F9-E04E-44E7-893A-E179F5365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ED8E60-4C43-456D-BE2A-19FE2D8AF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4F9540-D0B6-42C4-847C-15330770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2CF0CF-3B78-4A08-921E-9678BE5CB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3EE6A6-F096-4F3F-BEB6-D262D977B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AB7643-B353-470F-8844-77ABB4166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576362-1A08-4E46-951A-1C2CAF4DD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AD64B1-38ED-47D2-93CF-88426239A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7DD5E-7A76-4EBE-BE90-88D8F0F94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73F8BE-FCC6-461A-8DA6-6CBC3A8D0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1C07F9-3D61-49A0-B630-9F37C4586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BBC6E9-8A16-4073-9138-DDB42425E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BF13E0-1BD9-4AEF-89A9-EEC3F0F33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BE4285-81FF-4007-8139-131E0E061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D6AF4F-66B7-4821-ADE4-090FBB67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4D882B-5749-4D7F-A286-BAD60310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B7462F-EC4D-42EE-8EC3-80179E47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F3B950-296B-41C1-A0F9-F0A22CECC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C7B009-6056-4EBF-A93D-B0E9819E9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2489F-2713-4FB7-9FF1-BFB411593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F0A31F-0E94-4867-B6DA-620C171C4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9A662-8F4D-4FF0-A725-1AA6EA3F7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B3B6-17D7-44FE-85AB-6036D6BC2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50740-CCEA-4678-B2F6-921E5CA0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9F408-A1DE-4DA4-89DB-D5EE19AAD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3C427-694E-4AF7-B40A-58217447C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B9345-0CFB-4A7C-BE3C-FE4FA9C27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36E5F-C391-4319-97CC-F629D808C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8AED9-679F-4CC8-A655-0F761C005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E7743-FB97-4016-8466-6CEB3E2B6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A2A9D-4D9E-49CD-9406-4A766B42C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86A7C-8822-4627-B756-D17EB091C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C6EC7-16EB-4DFF-BC61-76B83D598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532C-8B27-4236-8EB3-CE4072859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7942D-A089-4D5C-8DE0-0059AC804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AB06A-4AA6-411D-9A40-29929135D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4D8BA-6EDA-4BE4-8ADF-0003D93B2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EE428-74C7-4967-A3BD-32C1EE12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14184-6690-492B-88AB-F15C1EB6A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C11D0-C1AF-4701-A4A7-9191A93B0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308FD-BB6B-4DEA-BD6A-F4AB6E5FF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B7415-23F0-46E8-ADA6-706020309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228FF-4AD7-431D-9235-70E31536E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9F342-70AC-467C-8342-D7CC28D21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95FF-4635-4547-BF64-35A99F97C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C5FFE-FBCA-4748-810F-89D11515E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551E3-81EA-41D6-BD3A-F09EF87F0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77E41-2285-43EC-81DF-C8793E458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42E40-EB57-4B07-AD5C-9AF7A222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EEE27-D19C-442D-B42B-369EAF7A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7B853-67F6-42DC-BCFE-1CD36AE2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A85DD-C84B-41FD-92F3-657CC3A36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DEB46-95F1-4D36-932E-3030B55F5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6190E-FF3F-4BE9-BAE6-B3D15CBD3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B3FDE-FE5A-48D6-919C-C8038E619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046B-B67C-4D85-BE10-8E301D252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54417-B9F2-4E43-BE06-C82E54DE9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796C3-5C1A-4996-A3A4-447CCD308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ABC930-F641-4839-91FD-D2D7FC603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337599-0192-4D29-BD46-5AC29768E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C7E919-C221-420F-B29F-E925DA698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52BBA-7847-46FB-8353-8F8AA6B8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F8A5D9-520A-439F-862C-A8FF7714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D0AA8C-310A-44E5-8732-E41B5088C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B9AC6-7C1A-4977-B7AD-8DFBC23D7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6E3C1-B56B-45A0-BBB4-D3AB0E3A8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752B-5CB9-48F8-A9F7-8C40FF3A4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13A2F-0081-4D96-AE37-2BA14C049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D27209-BF31-4AAD-9996-128F5B1BE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D8B9C9-8416-4F07-88DE-26E8BB78D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61CA0D-4C4B-4302-B75E-55BB0F1EF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53A245-C8E4-4706-A966-3B7C34380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029886-BD01-41D6-9869-F88CB9953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A8DFC1-614C-4673-868A-8D52907DC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23B935-60E7-41A4-A690-F2E08CD7B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C23848-0B7F-4222-A032-4170CABE6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0F563D-9952-403C-B0C0-C1770621C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D6B6-7639-49E1-B2FA-CA787033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B7A994-7902-4FD1-A902-469920CCF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987A05-0B05-4F0C-84A4-9468527F1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3EB655-7CDD-482C-92CE-415671F9F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9BDEFB-B0D4-4EFC-80B6-BD8FE06BA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E453B8-25B9-40B5-941F-8F2BA14D6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89938B-BD11-4E49-9D74-631FD9B02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A7D051-52BC-4A97-A8BD-077750813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2E6DB5-15B5-4B95-A00E-28B8E6189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3CB9D9-87D8-4AC7-9CEA-11A1822B0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87A577-70EA-48BD-BEB2-59E2BB6A0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F72B-CE46-4628-A22A-99C08CE33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932EA4-9CDB-447F-B6C3-7C81854F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4D3501-D14C-43AC-AA76-3ADD94C2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6FC730-0BE8-4BA1-AD20-00516AD76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53AE4A-7D63-4EFC-BE12-93C883F9E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23DD06-7F1E-48B8-A19B-EBC34D5C4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D8E4AC-8044-4114-BEF3-A350E31B2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8533FF-E529-4282-AAD5-C9A6C7A36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62ABC1-9713-45EB-BECB-D53FAD706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13A172-E665-4020-A801-17E1B3FBB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DD114D-0404-41FD-BC9F-BD79AD550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7921-1A5D-4EDD-A7CE-A4C490E54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206EF3-5EAC-4DF5-9367-07740FAB2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738302-AFE3-43CB-8E2E-3206CEA36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4D6C69-959D-46F1-816B-D58CC814B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FDDEE3-EB08-45C5-B187-FB51BD20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829F4D-D660-4081-BBCD-85550BC72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13D5D5-B2CC-428E-BD65-7766CCEF5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516E5B-1A4E-415E-93FD-575A6CF69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AECC0D-D1DD-406D-A666-31187B0DF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4BABAB-CFDE-4A33-92A0-9FDDB2E49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37CA61-9EC7-41A2-B175-3FC9F830D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1FEBF-108C-466E-9C80-DB46551CA6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B4BFE-D8A5-40A0-B794-A38297CF79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293E7-7C41-4C0B-BB67-BDFC5D7023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07035-EEBE-4467-A269-8A080AA580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121FB-E0C7-4FFD-BA54-D0EA3CCAAE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1EEED-F103-4110-8A90-0E4F7B57CC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AADD4-2D1E-49DF-9FC2-4958D95C57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BBEBB-3DA3-4B56-998A-273EC9968A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A7444-7D19-468C-8F9D-EB6331F572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03CDD-4FC0-408E-96E7-2F01987FCA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6DB6F-DC44-46F8-B403-391E036C3B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A004A-1CA6-4192-9BF0-1432033FB3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83BEC-C47F-4698-A0A7-71BE6D1F42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2F94A-FF13-44D3-B679-6BFD4A579C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31ABD-6F31-4EE4-8CD6-BA8C639356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4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4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6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6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6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6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6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0000"/>
                </a:solidFill>
                <a:latin typeface="Comic Sans MS"/>
              </a:rPr>
              <a:t>FOO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o we live to e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Box 3"/>
          <p:cNvSpPr/>
          <p:nvPr/>
        </p:nvSpPr>
        <p:spPr>
          <a:xfrm>
            <a:off x="4495680" y="5181480"/>
            <a:ext cx="4267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Саломатов Виктор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9 «В» класс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Picture 9" descr="ph3_1"/>
          <p:cNvPicPr/>
          <p:nvPr/>
        </p:nvPicPr>
        <p:blipFill>
          <a:blip r:embed="rId1"/>
          <a:stretch/>
        </p:blipFill>
        <p:spPr>
          <a:xfrm>
            <a:off x="2362320" y="762120"/>
            <a:ext cx="4114800" cy="510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Did you know that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Americans eat 20 billion hot dogs every year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The average Italian eats 25 kg of pasta each yea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Probably the world’s record-breaker in eating was </a:t>
            </a:r>
            <a:r>
              <a:rPr b="1" i="1" lang="en-US" sz="4000" spc="-1" strike="noStrike">
                <a:solidFill>
                  <a:srgbClr val="000000"/>
                </a:solidFill>
                <a:latin typeface="Monotype Corsiva"/>
              </a:rPr>
              <a:t>23-year old fash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who once manage to put a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                     </a:t>
            </a: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1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                  </a:t>
            </a: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poun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                 </a:t>
            </a: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of  foo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eing veggie is ‘in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A diet free from meat, researches say, has all the vitamins, minerals and protein you nee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A vegetarian diet not only healthier, but it is also kind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re is a danger hanging over your lif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If you are young and fit, don’t think that this doesn’t concern you. Teenagers, too, are getting fatt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Obesity rates in teens, according to experts, are doubling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Picture 5" descr="ph4"/>
          <p:cNvPicPr/>
          <p:nvPr/>
        </p:nvPicPr>
        <p:blipFill>
          <a:blip r:embed="rId1"/>
          <a:stretch/>
        </p:blipFill>
        <p:spPr>
          <a:xfrm>
            <a:off x="2271600" y="971640"/>
            <a:ext cx="4600800" cy="44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You are what you eat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What do your tastes in food and drink reveal about your character? Read about Charlie Chilli, Suzie Sweet-Tooth, Hungry Harry and Picky Polly and see which one you identify with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8" name="Picture 5" descr="Charlie"/>
          <p:cNvPicPr/>
          <p:nvPr/>
        </p:nvPicPr>
        <p:blipFill>
          <a:blip r:embed="rId2"/>
          <a:stretch/>
        </p:blipFill>
        <p:spPr>
          <a:xfrm>
            <a:off x="1981080" y="304920"/>
            <a:ext cx="5802480" cy="612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Picture 5" descr="Suzie"/>
          <p:cNvPicPr/>
          <p:nvPr/>
        </p:nvPicPr>
        <p:blipFill>
          <a:blip r:embed="rId2"/>
          <a:stretch/>
        </p:blipFill>
        <p:spPr>
          <a:xfrm>
            <a:off x="1752480" y="914400"/>
            <a:ext cx="5943600" cy="51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Picture 5" descr="Harry"/>
          <p:cNvPicPr/>
          <p:nvPr/>
        </p:nvPicPr>
        <p:blipFill>
          <a:blip r:embed="rId2"/>
          <a:stretch/>
        </p:blipFill>
        <p:spPr>
          <a:xfrm>
            <a:off x="2357280" y="395280"/>
            <a:ext cx="4429440" cy="56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Picture 7" descr="SO1-1-2000"/>
          <p:cNvPicPr/>
          <p:nvPr/>
        </p:nvPicPr>
        <p:blipFill>
          <a:blip r:embed="rId1"/>
          <a:stretch/>
        </p:blipFill>
        <p:spPr>
          <a:xfrm>
            <a:off x="2432160" y="274680"/>
            <a:ext cx="4279680" cy="585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Picture 5" descr="polly"/>
          <p:cNvPicPr/>
          <p:nvPr/>
        </p:nvPicPr>
        <p:blipFill>
          <a:blip r:embed="rId2"/>
          <a:stretch/>
        </p:blipFill>
        <p:spPr>
          <a:xfrm>
            <a:off x="3416400" y="274680"/>
            <a:ext cx="2603520" cy="620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Characters Analysi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Monotype Corsiva"/>
              </a:rPr>
              <a:t>Chilli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eaters are brave and adventurous; they like to shock, but they get bored and restless very easil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Monotype Corsiva"/>
              </a:rPr>
              <a:t>Sweet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-eaters are easy going and sociable but they lack confidence. They are kind and sympathetic but not always reliab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Monotype Corsiva"/>
              </a:rPr>
              <a:t>Hungry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eaters are hard-working and generous; they aren’t ambitious and hate changes of any sort. They worry about the futur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Monotype Corsiva"/>
              </a:rPr>
              <a:t>Picky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eaters are artistic and sensitive but they lose their  tempers easily. They set themselves very high standards and don’t like to fai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subTitle"/>
          </p:nvPr>
        </p:nvSpPr>
        <p:spPr>
          <a:xfrm>
            <a:off x="1447920" y="182844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Some useless facts from the history of feas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The rich ancient Egyptians liked parties and good food. They often wore cones of perfumed wax on their head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Wh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Picture 9" descr="f2"/>
          <p:cNvPicPr/>
          <p:nvPr/>
        </p:nvPicPr>
        <p:blipFill>
          <a:blip r:embed="rId1"/>
          <a:stretch/>
        </p:blipFill>
        <p:spPr>
          <a:xfrm>
            <a:off x="5153040" y="2624040"/>
            <a:ext cx="3029040" cy="247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In ancient Greece and Rome, guests at a banquet wore wreaths of plaited flowers and leav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Wh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1" name="Picture 7" descr="f3"/>
          <p:cNvPicPr/>
          <p:nvPr/>
        </p:nvPicPr>
        <p:blipFill>
          <a:blip r:embed="rId1"/>
          <a:stretch/>
        </p:blipFill>
        <p:spPr>
          <a:xfrm>
            <a:off x="5033880" y="2428920"/>
            <a:ext cx="3267000" cy="286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Romans liked to invite odd numbers of guests. They believed that even numbers meant …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Picture 7" descr="f4"/>
          <p:cNvPicPr/>
          <p:nvPr/>
        </p:nvPicPr>
        <p:blipFill>
          <a:blip r:embed="rId1"/>
          <a:stretch/>
        </p:blipFill>
        <p:spPr>
          <a:xfrm>
            <a:off x="4648320" y="2568600"/>
            <a:ext cx="4038480" cy="258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In the ancient Middle East, a host would pour perfumed oil over the heads of his guest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Picture 7" descr="f5"/>
          <p:cNvPicPr/>
          <p:nvPr/>
        </p:nvPicPr>
        <p:blipFill>
          <a:blip r:embed="rId1"/>
          <a:stretch/>
        </p:blipFill>
        <p:spPr>
          <a:xfrm>
            <a:off x="5057640" y="2352600"/>
            <a:ext cx="3219480" cy="301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If a guest failed to turn up at a party in 19</a:t>
            </a:r>
            <a:r>
              <a:rPr b="0" lang="en-US" sz="4000" spc="-1" strike="noStrike" baseline="30000">
                <a:solidFill>
                  <a:srgbClr val="000000"/>
                </a:solidFill>
                <a:latin typeface="Monotype Corsiva"/>
              </a:rPr>
              <a:t>th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-century Paris, a professional guest could be hired to take his pl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Picture 7" descr="f6"/>
          <p:cNvPicPr/>
          <p:nvPr/>
        </p:nvPicPr>
        <p:blipFill>
          <a:blip r:embed="rId1"/>
          <a:stretch/>
        </p:blipFill>
        <p:spPr>
          <a:xfrm>
            <a:off x="5176800" y="2305080"/>
            <a:ext cx="2981520" cy="31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It was once traditional for a male guest to be given an envelope containing the name of the lady he was to accompany to the tab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Picture 7" descr="f1"/>
          <p:cNvPicPr/>
          <p:nvPr/>
        </p:nvPicPr>
        <p:blipFill>
          <a:blip r:embed="rId1"/>
          <a:stretch/>
        </p:blipFill>
        <p:spPr>
          <a:xfrm>
            <a:off x="5143680" y="2376360"/>
            <a:ext cx="304776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much food do you think you will eat by the time you are 79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Picture 6" descr="ph1"/>
          <p:cNvPicPr/>
          <p:nvPr/>
        </p:nvPicPr>
        <p:blipFill>
          <a:blip r:embed="rId1"/>
          <a:stretch/>
        </p:blipFill>
        <p:spPr>
          <a:xfrm>
            <a:off x="1792440" y="1600200"/>
            <a:ext cx="555768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The first chopsticks appeared in China during the Shang dynasty (1600-1028 BC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Picture 7" descr="f9"/>
          <p:cNvPicPr/>
          <p:nvPr/>
        </p:nvPicPr>
        <p:blipFill>
          <a:blip r:embed="rId1"/>
          <a:stretch/>
        </p:blipFill>
        <p:spPr>
          <a:xfrm>
            <a:off x="4648320" y="2795760"/>
            <a:ext cx="4038480" cy="21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average Frenchwoman, for example, will ea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 cows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 she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5 pi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200 chick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07 tonnes of 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05 tonnes of potat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,000 litres of mi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,000 eggs and ……….and    8 kg of di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licious, isn’t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cientists say that we eat about half-a-ton of food a year – not counting drin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me people eat even mor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and of the Fattes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ccording to World Health Organization, Americans are the fattest people in the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5% of women and 63% of men over 25 are overweight or obe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verweight</a:t>
            </a:r>
            <a:r>
              <a:rPr b="0" lang="en-US" sz="2800" spc="-1" strike="noStrike">
                <a:solidFill>
                  <a:srgbClr val="000000"/>
                </a:solidFill>
                <a:latin typeface="PhoneticTM"/>
              </a:rPr>
              <a:t>["ouvq'weIt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bese </a:t>
            </a:r>
            <a:r>
              <a:rPr b="0" lang="en-US" sz="2800" spc="-1" strike="noStrike">
                <a:solidFill>
                  <a:srgbClr val="000000"/>
                </a:solidFill>
                <a:latin typeface="PhoneticTM"/>
              </a:rPr>
              <a:t>[qu'bJs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epidemic is sp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ough America is the world leader in obesity, Europe is quickly catching up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Britai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has replaced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Germany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 Europe’s most overweight na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Picture 9" descr="fat3"/>
          <p:cNvPicPr/>
          <p:nvPr/>
        </p:nvPicPr>
        <p:blipFill>
          <a:blip r:embed="rId1"/>
          <a:stretch/>
        </p:blipFill>
        <p:spPr>
          <a:xfrm>
            <a:off x="1157400" y="4165560"/>
            <a:ext cx="2638440" cy="173376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11" descr="fat2"/>
          <p:cNvPicPr/>
          <p:nvPr/>
        </p:nvPicPr>
        <p:blipFill>
          <a:blip r:embed="rId2"/>
          <a:stretch/>
        </p:blipFill>
        <p:spPr>
          <a:xfrm>
            <a:off x="1152360" y="1830240"/>
            <a:ext cx="2648160" cy="172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What is </a:t>
            </a:r>
            <a:r>
              <a:rPr b="1" i="1" lang="en-US" sz="6000" spc="-1" strike="noStrike">
                <a:solidFill>
                  <a:srgbClr val="000000"/>
                </a:solidFill>
                <a:latin typeface="Comic Sans MS"/>
              </a:rPr>
              <a:t>tasty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is no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always </a:t>
            </a:r>
            <a:r>
              <a:rPr b="1" i="1" lang="en-US" sz="6000" spc="-1" strike="noStrike">
                <a:solidFill>
                  <a:srgbClr val="000000"/>
                </a:solidFill>
                <a:latin typeface="Comic Sans MS"/>
              </a:rPr>
              <a:t>healthy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Doctors say that chips and pizzas are fattening, coca cola spoils our teeth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Foods with lots of additives, fat or sugar make you violent and anti-social. Natural foods can make you more intelligent, optimistic and energeti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Picture 6" descr="ph2"/>
          <p:cNvPicPr/>
          <p:nvPr/>
        </p:nvPicPr>
        <p:blipFill>
          <a:blip r:embed="rId1"/>
          <a:stretch/>
        </p:blipFill>
        <p:spPr>
          <a:xfrm>
            <a:off x="4648320" y="2228760"/>
            <a:ext cx="4038480" cy="3268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lockwork Orange</cp:lastModifiedBy>
  <dcterms:modified xsi:type="dcterms:W3CDTF">2015-01-25T14:49:27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