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E38-0182-4405-83F6-3B943348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79E-73AA-4671-9760-B51C1AB7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027A7-A9A1-493C-86AF-1046135A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79DC5-E4AA-4186-BA13-7856C736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0030A-50BE-4B06-A11D-FCEB2B0B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C0144-EC90-4AA8-918D-61F7BE6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A0D90-A285-4703-8752-0829C71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4AD7-70F7-4309-92B3-535E0CB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D110F-7C04-4CE6-AD3A-10C0CC7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74BE4-D42A-4B8A-94BE-D63FD336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92EE6-5FB9-4B9F-A0E6-F251A916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31EC-8C38-4394-8E81-6B2D97B6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B3D-933F-47FF-89B8-88418433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4666A-2AD5-4874-A173-86288896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259C0-D999-4330-A664-B26BDEA1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D7B35-06D2-4158-9FFC-CC83A91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5E743-C68E-4250-835D-5F28F75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E151-4272-4E4C-AE2E-A020E6C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4AA22-023C-4353-ADE4-E8F4085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E192C-D548-427D-8E59-4848CC0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CD24F-AF2D-4570-8CB3-680CB37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90674-E262-484E-B7DB-423FDB1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B2533-CCE3-45CE-ACB5-C835CAF7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26A-C0D4-4E59-9B00-136B7D8B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35E23-076A-4D11-BA0D-52E84145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44EA0-549A-4690-B260-CFFEF594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B327F-779A-4D9A-9593-B30B61B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D38F6-C846-495C-A3A8-643EB6AE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C3FBE-52D6-43B1-A930-618CFC4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4F996-615C-45EF-8E32-97CBC10F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9EF6A-26E3-40D8-BB2A-A098486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E830B-17B3-4CE9-98D3-0D92895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C6DA1-F1BB-450C-A85B-1317BB1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5633B-7528-4DEB-9F0B-769438D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86E-0AEE-4631-8A35-432489F3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23E63-6737-4C32-BE02-B050DBA2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176B2-0888-4C82-B26E-0F9F8207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1791A-CE78-4FDB-8C29-A0715AF1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11A36-078C-4CB6-9DFA-E8BF5C5B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140F5-1ABB-43B3-A509-8FD1089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51A6B-3434-45F5-B20F-1D42CD4C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4F6DD-695F-4482-954B-CD2671EB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91F3-AE3F-4D71-BFE5-A886A467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7B959-3F71-4A80-A4AB-4DEE3F7D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E2D84-6AE6-4265-B60A-AC1964C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A3CA-BBBC-400B-B145-D4D38520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826EA-6F53-4132-A2E4-BDD29BE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4F1D0-A518-43E3-96CA-F446C3E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4E770-CE57-4C5E-860F-BAC65A2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3A644-4EA0-4F31-A53D-C94F90B7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18A1C-E80A-4EBE-9315-38AD584C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E46A9-52BD-40FC-AA06-69F2E49A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B2C9A-704E-44EA-9180-0DE87814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09FFA-48DB-4653-BF69-3361F51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C90F8-7B01-4788-A472-8DEC447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A0F1B-7F7F-4AF3-96FC-6EF29EB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2B2B-63DC-432B-8116-10889C9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860F3-4E4B-402E-99A8-2EA6DEB4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68C90-B6F9-4562-8754-E68B689A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7C093-04C5-482B-A333-2F6AE5F5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427B6-6A30-406C-87B6-207D361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1B64B-5EB5-4F7D-B17D-2558B92D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55D6E-04DC-41C0-BFBF-D118E492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220E5-E7C8-48F9-A5A8-8DA03D1F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D1539-F644-4364-8BC8-35E6DDA4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80691-92E1-4B95-8A4B-94FFAC9A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92229-A9B6-4CDA-93F2-357F3C7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A9CB-8A83-4668-92DC-6D526CD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1FE5D-9570-499D-A64C-71F16CC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2D24D-4899-42AD-A7D8-E2D48FAD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862BC-9DEB-486B-8CCC-662501A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5B396-AD3B-4913-8923-E9C9416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CE01-C2EA-40B1-8C20-2247A53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11695-4DDB-4906-953A-4321F08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00661-345A-46E6-991C-EE5EDB52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6510F-3991-411A-A1E3-FA088054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27214-FC80-424B-BDA2-A6365130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FAD57-859A-46A1-8F2A-6A8A32A6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98B0-D0B1-459A-B2D6-F3FA6078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61DAD-62E3-4FE2-BF52-9A7FAFA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36751-0E06-4500-BB73-B56A979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87388-DD7F-48AF-8B84-34CCD38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044F6-00CE-4025-9688-A23E5097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3E38D-945D-43EB-8CC6-53C6BE03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C09BF-362C-417F-96B9-5A58FD1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BFB8A-2410-4943-940B-F0D20C6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C52B0-25CB-4D60-ADEA-5B1C217B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C4D71-CC0B-4777-B9EC-8850110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F78F3-F06A-4D4F-9CBC-3E14A69C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5424-5751-4EAD-BE7E-E452E949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024DE-5719-4076-A440-D95A5F92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2B94-8AF2-46D7-A3D8-6A835FD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AEA-ED29-427A-BB3A-C4D5BAA3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74F-E4A0-4D28-8814-F028BE2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6EAF-E3E0-4C97-9906-5A6327A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DA8B-BB64-47F3-A024-7D3B028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8D92-20CF-492D-ACC4-08B3752E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3C97-8624-42A6-97C3-71A0508F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A785-22DF-4082-A576-84C4CC39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82E7-41EF-4DA3-AF53-B9F3DAF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549C-75DD-4C05-8F03-17BC2D77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3A5F-CBC1-4622-814E-4EE4B2F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F225-77C4-450D-ADD8-02286BF0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47B-CC6E-4C36-AC4E-BF908C93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0B4B-DC3F-474E-8774-47E51A2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FD12-DBC7-494E-A2EB-6B3BD87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AFCB-87AC-40BB-9460-C5BDE62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6709-EB97-4D24-A825-9C926AD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7CB3-D4CC-4CAB-ADE7-CB8B165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66F6-A03D-4A39-98F0-5971C8F2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87EE-877C-4BD8-9C05-F9F242DE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05BB-52EB-49B0-842D-9ECB5DB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768B-D4FB-4F69-87F8-1B5AAFF4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54FC-0D2C-40F7-8591-19151E48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754-77A9-4175-A20C-4B3AF3D6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6F3C-89C3-4A5D-AD8D-942C4A20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97F8-1E5B-4D17-BBCF-0D7246AB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EF2C-A3BC-468C-8086-2CAEA0F4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DBB2-6C16-4C9B-B71A-C58A7A3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F672-BC26-4E11-AF1A-A26DCB6F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2F47C-2671-4296-A1E0-EA44549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B821-71D6-4DF9-9EAA-0A90C75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3F71-EDDC-49B7-9760-6FCF9212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D95F-3C0F-4F8F-A65D-33554A23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D5A5-E27E-437F-8A0A-3C0F1C71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1E4-CBD4-4A00-B7B3-C42C526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6F67-C690-4BE4-84B1-EB27166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544B-834E-401E-B482-1E180001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8B4D6-FB81-4640-A8F3-4F576FBF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1F3E1-F31C-4CE0-9B19-7B5B7BA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DBC9-DBC7-4212-A764-835ED9E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0A3E-9BE8-4A62-9B0C-4515B559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5669-7E91-4C41-A388-6310D5A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C90C-1586-465E-8C4B-C282B8F9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4EC5-DC88-4F12-8B96-601F8DA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BA49-7840-4D63-925A-F4C5E719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339-CB06-4CB9-B2BC-C94E293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5CE4-7E49-421B-9F77-6C904C38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8A6DB-2DE7-436D-95F8-FD9E4FD6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FB23C-E9CC-43EA-B70D-42E05D1B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3C90-081C-4CDE-882D-F7C4E775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CA8B-CC06-41BE-BC9B-7E647B0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580C-2AFB-4BC2-A582-A363DC20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2144-E086-48F4-B042-FE7A242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9311-E7D1-4B4B-9AE2-451B638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9F4B7-B5DC-4158-B398-4C8BEA1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15450-318B-4E38-B0D3-D5E48E6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F24-B2AD-4129-8DAC-ED18FC9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1E67-0C87-4169-BA7B-C3984C50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F12D2-732E-4980-92D3-E547A646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7DEB-853B-433D-B0A1-B38BFD2A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726FF-F8EF-45C4-A8A1-E29C2C66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2F49-741C-4538-BDA0-14D3306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1E6E-C4E5-419F-8352-432FC75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21A1-F1F1-40A8-B17A-A66BB9A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E0A9-6039-4D81-BE4E-C6539AD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F2E0-8441-45F3-9D0E-D397394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AF03-7A19-4841-8250-CFAB91B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F4A-4EF6-4277-99D1-B2A46B5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DA5C2-9331-46D4-B57A-E8DB597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3028-CD66-4B8D-BB13-408A0EC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33C4-7A3A-4428-8CCC-9FF41CC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CE6EB-0767-4056-8813-81FDC17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CC209-B033-4C9D-8723-06237F33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95C5F-13B0-493E-B6F4-B6AA4E1E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75945-4807-4F8A-B6E3-5BAA7839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EC33-0660-4DC2-BE5C-C47820D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5BD03-08C3-41C7-8A3D-54CCFCA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F96C-62A1-470E-A498-F1D909B9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04D-1BF3-4B62-A231-87BF61B6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C1B3-CF9A-4310-A050-D22A08A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62444-5936-43EC-A763-1A59D7A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6D8A-E04E-48F6-9C9A-2CD51E1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9A51-8BCF-43EB-B238-A8D0D30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E3AF-38B2-41E2-8DEC-A537D6A0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AC945-B454-4AC5-A7C9-B30CA047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A0BF6-E38F-4ED1-A765-82D551A9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5683-262A-4755-BC81-75F8E7AF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AA73E-8DC3-4EAF-B04D-B2E1FCFF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348D2-D0FB-41FE-8C86-940CABD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068F-26B4-4A44-AADF-63CA585B1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BCB6-AB67-4801-8A43-5B1FE91FB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207-97E7-47D5-8393-68249E32F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748-5A73-4F8E-B6E6-F63081703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8F2-2986-4DCD-9072-A384900D8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CD9-CA20-4458-ADC8-A8EE8AA1A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0BB9-E97D-460A-8730-9CABE9F25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2FC-3FFE-4B02-B67E-C248F83ED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CD1B-4531-4856-BF33-3C4BA078C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94A-B903-430B-A966-E3CD0950F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1AA-53FB-4F36-A62D-0CCDD6EF1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230-1655-441F-ACE4-1BAA803FC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F47C-09A6-4310-ADB7-C8236A682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704C-DA14-4B57-AA37-8AFFD33C6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9E71-ADEF-4D45-A97B-4F03AB856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we live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4495680" y="5181480"/>
            <a:ext cx="426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аломатов Виктор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9 «В» класс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9" descr="ph3_1"/>
          <p:cNvPicPr/>
          <p:nvPr/>
        </p:nvPicPr>
        <p:blipFill>
          <a:blip r:embed="rId1"/>
          <a:stretch/>
        </p:blipFill>
        <p:spPr>
          <a:xfrm>
            <a:off x="2362320" y="762120"/>
            <a:ext cx="41148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Did you know tha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mericans eat 20 billion hot dogs every ye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average Italian eats 25 kg of pasta each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robably the world’s record-breaker in eating was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23-year old fash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who once manage to put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pou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of 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ing veggie is ‘i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diet free from meat, researches say, has all the vitamins, minerals and protein you n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vegetarian diet not only healthier, but it is also ki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is a danger hanging over your lif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If you are young and fit, don’t think that this doesn’t concern you. Teenagers, too, are getting fa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besity rates in teens, according to experts, are doub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5" descr="ph4"/>
          <p:cNvPicPr/>
          <p:nvPr/>
        </p:nvPicPr>
        <p:blipFill>
          <a:blip r:embed="rId1"/>
          <a:stretch/>
        </p:blipFill>
        <p:spPr>
          <a:xfrm>
            <a:off x="2271600" y="971640"/>
            <a:ext cx="460080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You are what you ea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hat do your tastes in food and drink reveal about your character? Read about Charlie Chilli, Suzie Sweet-Tooth, Hungry Harry and Picky Polly and see which one you identify wit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5" descr="Charlie"/>
          <p:cNvPicPr/>
          <p:nvPr/>
        </p:nvPicPr>
        <p:blipFill>
          <a:blip r:embed="rId2"/>
          <a:stretch/>
        </p:blipFill>
        <p:spPr>
          <a:xfrm>
            <a:off x="1981080" y="304920"/>
            <a:ext cx="5802480" cy="61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Suzie"/>
          <p:cNvPicPr/>
          <p:nvPr/>
        </p:nvPicPr>
        <p:blipFill>
          <a:blip r:embed="rId2"/>
          <a:stretch/>
        </p:blipFill>
        <p:spPr>
          <a:xfrm>
            <a:off x="1752480" y="91440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Harry"/>
          <p:cNvPicPr/>
          <p:nvPr/>
        </p:nvPicPr>
        <p:blipFill>
          <a:blip r:embed="rId2"/>
          <a:stretch/>
        </p:blipFill>
        <p:spPr>
          <a:xfrm>
            <a:off x="2357280" y="395280"/>
            <a:ext cx="442944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7" descr="SO1-1-2000"/>
          <p:cNvPicPr/>
          <p:nvPr/>
        </p:nvPicPr>
        <p:blipFill>
          <a:blip r:embed="rId1"/>
          <a:stretch/>
        </p:blipFill>
        <p:spPr>
          <a:xfrm>
            <a:off x="2432160" y="274680"/>
            <a:ext cx="42796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polly"/>
          <p:cNvPicPr/>
          <p:nvPr/>
        </p:nvPicPr>
        <p:blipFill>
          <a:blip r:embed="rId2"/>
          <a:stretch/>
        </p:blipFill>
        <p:spPr>
          <a:xfrm>
            <a:off x="3416400" y="274680"/>
            <a:ext cx="2603520" cy="62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haracters Analy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Chilli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eaters are brave and adventurous; they like to shock, but they get bored and restless very easi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Swee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eaters are easy going and sociable but they lack confidence. They are kind and sympathetic but not always rel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Hungry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eaters are hard-working and generous; they aren’t ambitious and hate changes of any sort. They worry about the fu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Picky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eaters are artistic and sensitive but they lose their  tempers easily. They set themselves very high standards and don’t like to f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447920" y="1828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Some useless facts from the history of fea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rich ancient Egyptians liked parties and good food. They often wore cones of perfumed wax on their hea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9" descr="f2"/>
          <p:cNvPicPr/>
          <p:nvPr/>
        </p:nvPicPr>
        <p:blipFill>
          <a:blip r:embed="rId1"/>
          <a:stretch/>
        </p:blipFill>
        <p:spPr>
          <a:xfrm>
            <a:off x="5153040" y="2624040"/>
            <a:ext cx="30290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In ancient Greece and Rome, guests at a banquet wore wreaths of plaited flowers and lea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7" descr="f3"/>
          <p:cNvPicPr/>
          <p:nvPr/>
        </p:nvPicPr>
        <p:blipFill>
          <a:blip r:embed="rId1"/>
          <a:stretch/>
        </p:blipFill>
        <p:spPr>
          <a:xfrm>
            <a:off x="5033880" y="2428920"/>
            <a:ext cx="32670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Romans liked to invite odd numbers of guests. They believed that even numbers meant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7" descr="f4"/>
          <p:cNvPicPr/>
          <p:nvPr/>
        </p:nvPicPr>
        <p:blipFill>
          <a:blip r:embed="rId1"/>
          <a:stretch/>
        </p:blipFill>
        <p:spPr>
          <a:xfrm>
            <a:off x="4648320" y="2568600"/>
            <a:ext cx="40384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n the ancient Middle East, a host would pour perfumed oil over the heads of his gues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7" descr="f5"/>
          <p:cNvPicPr/>
          <p:nvPr/>
        </p:nvPicPr>
        <p:blipFill>
          <a:blip r:embed="rId1"/>
          <a:stretch/>
        </p:blipFill>
        <p:spPr>
          <a:xfrm>
            <a:off x="5057640" y="2352600"/>
            <a:ext cx="321948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If a guest failed to turn up at a party in 1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century Paris, a professional guest could be hired to take his 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7" descr="f6"/>
          <p:cNvPicPr/>
          <p:nvPr/>
        </p:nvPicPr>
        <p:blipFill>
          <a:blip r:embed="rId1"/>
          <a:stretch/>
        </p:blipFill>
        <p:spPr>
          <a:xfrm>
            <a:off x="5176800" y="2305080"/>
            <a:ext cx="29815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t was once traditional for a male guest to be given an envelope containing the name of the lady he was to accompany to the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f1"/>
          <p:cNvPicPr/>
          <p:nvPr/>
        </p:nvPicPr>
        <p:blipFill>
          <a:blip r:embed="rId1"/>
          <a:stretch/>
        </p:blipFill>
        <p:spPr>
          <a:xfrm>
            <a:off x="5143680" y="237636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uch food do you think you will eat by the time you are 79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ph1"/>
          <p:cNvPicPr/>
          <p:nvPr/>
        </p:nvPicPr>
        <p:blipFill>
          <a:blip r:embed="rId1"/>
          <a:stretch/>
        </p:blipFill>
        <p:spPr>
          <a:xfrm>
            <a:off x="1792440" y="1600200"/>
            <a:ext cx="5557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first chopsticks appeared in China during the Shang dynasty (1600-1028 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7" descr="f9"/>
          <p:cNvPicPr/>
          <p:nvPr/>
        </p:nvPicPr>
        <p:blipFill>
          <a:blip r:embed="rId1"/>
          <a:stretch/>
        </p:blipFill>
        <p:spPr>
          <a:xfrm>
            <a:off x="4648320" y="279576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verage Frenchwoman, for example, will 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ows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200 chic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7 tonnes of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05 tonnes of 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litres of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,000 eggs and ……….and    8 kg of d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cious, isn’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sts say that we eat about half-a-ton of food a year – not counting dr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eople eat even m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d of the Fatt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World Health Organization, Americans are the fattest peopl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5% of women and 63% of men over 25 are overweight or ob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weight</a:t>
            </a:r>
            <a:r>
              <a:rPr b="0" lang="en-US" sz="2800" spc="-1" strike="noStrike">
                <a:solidFill>
                  <a:srgbClr val="000000"/>
                </a:solidFill>
                <a:latin typeface="PhoneticTM"/>
              </a:rPr>
              <a:t>["ouvq'weI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ese </a:t>
            </a:r>
            <a:r>
              <a:rPr b="0" lang="en-US" sz="2800" spc="-1" strike="noStrike">
                <a:solidFill>
                  <a:srgbClr val="000000"/>
                </a:solidFill>
                <a:latin typeface="PhoneticTM"/>
              </a:rPr>
              <a:t>[qu'bJ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pidemic is sp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gh America is the world leader in obesity, Europe is quickly catching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rita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replac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erman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Europe’s most overweight 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9" descr="fat3"/>
          <p:cNvPicPr/>
          <p:nvPr/>
        </p:nvPicPr>
        <p:blipFill>
          <a:blip r:embed="rId1"/>
          <a:stretch/>
        </p:blipFill>
        <p:spPr>
          <a:xfrm>
            <a:off x="1157400" y="41655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fat2"/>
          <p:cNvPicPr/>
          <p:nvPr/>
        </p:nvPicPr>
        <p:blipFill>
          <a:blip r:embed="rId2"/>
          <a:stretch/>
        </p:blipFill>
        <p:spPr>
          <a:xfrm>
            <a:off x="1152360" y="1830240"/>
            <a:ext cx="264816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tast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is n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lways </a:t>
            </a: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health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octors say that chips and pizzas are fattening, coca cola spoils our tee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oods with lots of additives, fat or sugar make you violent and anti-social. Natural foods can make you more intelligent, optimistic and energet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6" descr="ph2"/>
          <p:cNvPicPr/>
          <p:nvPr/>
        </p:nvPicPr>
        <p:blipFill>
          <a:blip r:embed="rId1"/>
          <a:stretch/>
        </p:blipFill>
        <p:spPr>
          <a:xfrm>
            <a:off x="4648320" y="2228760"/>
            <a:ext cx="4038480" cy="326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ckwork Orange</cp:lastModifiedBy>
  <dcterms:modified xsi:type="dcterms:W3CDTF">2015-01-25T14:49:2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