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8EBF-2432-4BC3-A4DA-66906DC52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AF6B-92FF-46B2-A453-702BBFFFF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656A-78CB-408A-A797-6D6AD11CE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17E7-05D3-45CC-9348-E7CFCA92A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7D435-3D42-49B9-B17D-D705526E7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14CC0-C1A5-449F-BB37-73E585F7E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BCA6B-E5F3-4726-8D85-7FD094BE6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CE63E-1979-4D86-9E4A-37B15E4D1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FAE4C-A4E9-4630-8369-E7B5DDD2D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C9275-BB79-41BD-B1A8-7D2F14DE5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9AF00-B1A2-4727-9FBC-DACA087C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3408-AE5D-4F8F-B9C6-4C9477DDA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F13D5-2E1A-4879-B803-5EF523B6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58C90-BE43-46A5-B339-B4B2B28E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68B75-3D59-4921-A68E-6E4F0D7A3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25691-BC68-413B-87CA-E887D14F2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0286D-CA20-463F-AA69-DFCC36516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4517-A14E-4539-AE0D-6F2BF4649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04C9-F3A9-4F5B-A99C-225333BD1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9A0D-8953-43C6-A7F0-88F2F266A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0E2F-907A-4F70-8925-8C6378C8F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814A-FCF5-41B3-93DE-B9D1E5C3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57A4-1E3D-4AA2-8EFA-DF2C511B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3CF0-08E4-4209-81B2-1FC197BB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05828-85F2-4D36-B5DD-4C2829C411C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30848-1DCB-4E13-B98E-BE09952C8FA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yandex.ru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images.yandex.ru/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620280"/>
            <a:ext cx="7620120" cy="280836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ая область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Художественно-эстетическое развитие» </a:t>
            </a:r>
            <a:br>
              <a:rPr sz="2800"/>
            </a:br>
            <a:br>
              <a:rPr sz="2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 ФГТ, ФГОС и Примерной общеобразовательной  программой дошкольного образования «Детство»</a:t>
            </a:r>
            <a:br>
              <a:rPr sz="2800"/>
            </a:br>
            <a:endParaRPr b="0" lang="en-US" sz="1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55280" y="4365720"/>
            <a:ext cx="7921800" cy="175248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олнила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 подготовительной груп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Юрченко Ольга Николаевн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Художественная литература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2-я младшая группа)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437920" y="1599840"/>
            <a:ext cx="63817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дачи образовательной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Обогащать опыт слушания литературных произведений за счет разных малых форм фольклора (потешек, песенок, прибауток), простых народных и авторских сказок (в основном о животных), рассказов и стихов о детях, их играх, игрушках, повседневной бытовой деятельности, о знакомых детям животны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 Воспитывать у детей интерес к фольклорным и литературным текстам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емление внимательно их слуш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 Развивать умения воспринимать текст, с помощью взрослого поним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держание, устанавливать порядок событий в тексте, помогать мысленно представлять события и героев, устанавливать простейшие связи последовательности событий в текс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. Поддерживать желание эмоционально откликаться на чтение и рассказывание, активно содействовать и сопереживать изображенным героям и события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. Привлекать к исполнению стихов, пересказыванию знакомых сказок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ссказ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11280" y="2599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образовательной деятельности</a:t>
            </a:r>
            <a:br>
              <a:rPr sz="2800"/>
            </a:b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627280" y="11970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Расширение читательских интересов дет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явление радости и удовольствия от слушания и рассказывания литературных произведений, стремление к повторной встрече с книг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осприятие литературного текс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средоточенное слушание чтения и рассказывания взрослого до конца, не отвлекаясь. Проявление эмоционального отклика на чтение и рассказывание взрослого, активного сопереживания изображенным героям и событиям. Понимание содержания произведения и последовательности событий в тексте, выявление наиболее ярких поступков и действий героев, стремление дать им элементарную оценку. Проявление интереса к иллюстрациям в детской книге. Представление в воображении героев как на основе иллюстраций, так и на основе авторского сло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ворческая деятельность на основе литературного текс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ражение своего отношения к литературному произведению, его героям: в рисунке, при слушании, чтении наизусть текста, в простых играх-драматизациях и играх с персонажами игрушечного настольного, пальчикового теат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зультаты образовательной деятельности</a:t>
            </a:r>
            <a:br>
              <a:rPr sz="2800"/>
            </a:b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437920" y="1341000"/>
            <a:ext cx="6705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остижения ребенка (Что нас радует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· Ребенок охотно отзывается на предложение прослушать литературный текст, сам просит взрослого прочесть стихи, сказк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Узнает содержание прослушанных произведений по иллюстрациям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ложкам знакомых кни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· Активно сопереживает героям произведения, эмоционально откликается 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держание прочитанног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· Активно и с желанием участвует в разных видах творческой деятельности на основе литературного текста (рисует, участвует в словесных играх, в играх- драматизациях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ызывает озабоченность и требует совместных усилий педагогов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родите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· Ребенок не откликается на предложение послушать чтение или рассказывание литературного текс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· Отказывается от разговора по содержанию произведения или однослов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вечает на вопросы только после личного обращения к нему взрослог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· Не проявляет удовольствия от восприятия художественного произведени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охотно включается в игры с текстовым сопровождением, в театрализованные игр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 (2-я младшая группа)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438280" y="1125000"/>
            <a:ext cx="64008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дачи образовательной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Воспитывать у детей слуховую сосредоточенность и эмоциональную отзывчивость на музы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Поддерживать детское экспериментирование с немузыкальными (шумовыми, природными) и музыкальными звуками и исследования качеств музыкального звук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оты, длительности, динамики, темб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Активизировать слуховую восприимчивость младших дошкольни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образовательной деятельности</a:t>
            </a:r>
            <a:br>
              <a:rPr sz="2800"/>
            </a:b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личение некоторых свойств музыкального звука (высоко — низко, громко — тихо). Понимание простейших связей музыкального образа и средств выразительности (медведь — низкий регистр). Различение того, что музыка бывает разная по характеру (веселая — грустная). Сравнение разных по звучанию предметов в процессе манипулирования, звукоизвлечения. Самостоятельное экспериментирование со звуками в разных видах деятельности, исследование качества музыкального звука: высоты, длительности. Различение элементарного характера музыки, понимание простейших музыкальных образов. Вербальное и невербальное выражение просьбы послуш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зы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образительное искусство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средняя группа)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438280" y="1341000"/>
            <a:ext cx="64008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дачи образовательной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Воспитывать эмоционально-эстетические чувства, отклик на проявление прекрасного в предметах и явлениях окружающего мира, умения замечать красоту окружающих предметов и объектов приро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Активизировать интерес к произведениям народного и профессионального искусства и формировать опыт восприятия произведений искусства различных видов и жанров, способствовать освоению некоторых средств выразительности изобразительного искус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Развивать художественное восприятие, умения последовательно внимательно рассматривать произведения искусства и предметы окружающего мира; соотносить увиденное с собственным опыт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Формировать образные представления о предметах и явлениях мира и на их основе развивать умения изображать простые предметы и явления в собственной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438280" y="333000"/>
            <a:ext cx="6400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держание образовательной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явление интереса к предметам народных промыслов, иллюстрациям в детских книгах, скульптуре малых форм, необычным архитектурным постройкам, описанию архитектурных объектов в иллюстрациях к сказк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редставления и опыт восприятия произведений искус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Декоративно-прикладное искусств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 знакомство с близкими опыту дет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идами русских народных промыслов; их назначение, образность, материалы для изготовления. Особенности декоративных образов: выразительность, яркость, нарядность. Своеобразие некоторых узоров и орнаментов: кольца, дуги, точки; бутоны, листья; цветовые сочетания, традиционные образы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График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 особенности книжной графики: сопровождение иллюстрации текста; украшение книги. Ценность книг и необходимость бережного отношения к ни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Живопис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 жанры живописи: натюрморт, пейзаж, портрет; разные п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удожественному образу и настроению произведения. Средства выразительности живописи (цвет, линия, композиция); многообразие цветов и оттенков, форм, фактуры в предметах и явлениях окружающего ми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нимание образа (что изображено) и доступных средств выразительности, с помощью которых художник создает выразительный образ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витие умений обращать внимание и откликаться на интересные декоративно- оформительские решения: украшение группы, одежду, атрибуты игр, замечать новые красивые предметы в групп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продуктивной деятельности и детского творчества (средняя группа)</a:t>
            </a:r>
            <a:br>
              <a:rPr sz="2800"/>
            </a:b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438280" y="1268280"/>
            <a:ext cx="64008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Активизировать интерес к разнообразной изобразительной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Формировать умения и навыки изобразительной, декоративной, конструктивной деятельности: развитие изобразительно-выразительных и технических умений, освоение изобразительных техни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Поощрять желание и развивать умения воплощать в процессе создания образа собственные впечатления, переживания; поддерживать творческое начало в процессе восприятия прекрасного и собственной изобразительной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Развивать сенсорные, эмоционально-эстетические, творческие и познавательные способ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образовательной деятельности (средняя группа)</a:t>
            </a:r>
            <a:br>
              <a:rPr sz="2400"/>
            </a:b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438280" y="980640"/>
            <a:ext cx="6400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рисовани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 умения отбирать при напоминании педагога изобразительные материалы и инструменты, способы изображения в соответствии с создаваемым образом. Использование правильных формообразующих движений для создания полосы, кольца, дуги; правильно удерживать инструменты; сохранение правильной позы при рисовании. Штриховать; работать щетинной кистью, сочетать некоторые материалы (гуашь и восковые мелки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ккуратно пользоваться материал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аппликаци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 освоение доступных способов и приемов вырезания и обрывной аппликации; из полос и вырезанных форм составлять изображения разных предмет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мения правильно использовать ножницы, аккуратно вырезать и наклеивать детали; умения использовать неизобразительные материалы для создания выразительного образ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лепк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 умения лепить из различных материалов: глины, пластилина, снега, песка. Знакомство с конструктивным и комбинированным способом создания изображения. Освоение некоторых приемов лепки: оттягивание из целого куска, прищипывание и т. п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конструировании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из готовых геометрических фигур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 умения анализировать объект, выделять основные части и детали, составляющие сооружение. Создание вариантов знакомых сооружений из готовых геометрических форм и тематическ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нструктора, деталей разного размера. Умения выполнять простые построй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2438280" y="980640"/>
            <a:ext cx="64008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дачи образовательной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 Расширять опыт слушания литературных произведений за счет разных жанров фольклора (прибаутки, загадки, заклички, небылицы, сказки о животных и волшебные), литературной прозы (сказка, рассказ) и поэзии (стихи, авторские загадки, веселые детские сказки в стихах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 Углублять у детей интерес к литературе, воспитывать желание к постоянному общению с книгой в совместной со взрослым и самостоятельной дея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 Развивать умения воспринимать текст: понимать основное содержание, устанавливать временные и простые причинные связи, называть главные характеристики героев, несложные мотивы их поступков, оценивать их с позиций этических норм, сочувствовать и сопереживать героям произведений, осознавать значение некоторых средств языковой выразительности для передачи образов героев, общего настроения произведения или его фрагмен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. Способствовать освоению художественно-речевой деятельности на основе литературных текстов: пересказывать сказки и рассказы (в том числе по частям, по ролям), выразительно рассказывать наизусть потешки и прибаутки, стихи и поэтические сказки (и их фрагменты), придумывать поэтические рифмы, короткие описательные загадки, участвовать в литературных играх со звукоподражаниями, рифмами и словами на основе художественного текс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450720"/>
            <a:ext cx="5662800" cy="52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дожественная литература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410920" y="189000"/>
            <a:ext cx="642780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дожественно-эстетическое развитие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агает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тие предпосылок ценностно-смыслового восприятия и понимания произведений искусства (словесного, музыкального, изобразительного), мира природ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тановление эстетического отношения к окружающему мир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формирование элементарных представлений о видах искус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сприятие музыки, художественной литературы, фольклор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имулирование сопереживания персонажам художественных произвед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еализацию самостоятельной творческой деятельности детей (изобразительной, конструктивно-модельной, музыкальной и др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2438280" y="333360"/>
            <a:ext cx="64008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остижения ребенка (Что нас радует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· Ребенок легко включается в процесс восприятия книги, охотно обсуждает произведение, выражает свое отношение к событиям и героям, красоте некоторых художественных средств, представляет героев, особенности их внешнего вида, некоторые черты характера, объясняет явные мотивы поступков герое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· Имеет представления о некоторых особенностях таких литературных жанров, как загадка, сказка, рассказ, стихотворение, небылиц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· Охотно пересказывает знакомые и вновь прочитанные сказки и рассказы, выразительно рассказывает наизусть прибаутки, стихи и поэтические сказки, придумывает поэтические рифмы, короткие описательные загад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· С желанием рисует иллюстрации, активно участвует в театрализованных играх, стремится к созданию выразительных образ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ызывает озабоченность и требует совместных усилий педагогов и родите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· Интерес к слушанию литературных произведений выражен слабо. Ребенок самостоятельно не общается с книгами в книжном уголке, не просит прочитать новое произвед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· Затрудняется при пересказывании текстов, пересказывает их по вопросам или на основе иллюстрац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· Отказывается от участия в театрализованных играх, чаще бывает зрителем, в образно-игровых этюдах создает только простой стереотипный образ геро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Музыка (средняя группа)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438280" y="1197000"/>
            <a:ext cx="64008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дачи образовательной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 Воспитывать слушательскую культуру детей, развивать умения понимать и интерпретировать выразительные средства музы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 Развивать умения общаться и сообщать о себе, своем настроении с помощью музы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 Развивать музыкальный слух — интонационный, мелодически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армонический, ладовый; обучать элементарной музыкальной грамо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. Развивать координацию слуха и голоса, формировать начальные певческие навы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. Способствовать освоению детьми приемов игры на детских музыкальных инструмент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6. Способствовать освоению элементов танца и ритмопластики для создания музыкальных двигательных образов в играх и драматизация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7. Стимулировать желание ребенка самостоятельно заниматься музыкальной деятельность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2410920" y="333000"/>
            <a:ext cx="64278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держание образователь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ознавание настроения музыки на примере уже знакомых метроритмических рисунков. Понимание того, что чувства людей от радости до печали отражаются во множестве произведений искусства, в том числе и в музыке. Анализ музыкальной формы двух- и трехчастных произведений. Понимание того, что музыка может выражать характер и настроение человека (резвый, злой, плаксивый). Различение музыки, изображающей что-либо (какое-то движение в жизни, в природе: скачущую лошадь, мчащийся поезд, светлое утро, восход солнца, морской прибой). Дифференцирование: выражает музыка внутренний мир человека, а изображает внешнее движение. Пользование звуковыми сенсорными предэталон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2438280" y="333000"/>
            <a:ext cx="64008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льное искус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образовательной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ктивизировать проявление эстетического отношения к окружающему миру (искусству, природе, предметам быта, игрушкам, социальным явлениям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азвивать художественно-эстетическое восприятие, эмоциональный отклик на  проявления красоты в окружающем мире, произведениях искусства и собственных творческих работах; способствовать освоению эстетических оценок, сужд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Развивать представления о жанрово-видовом разнообразии искусства, способствовать освоению детьми языка изобразительного искусства и художественной деятельности, формировать опыт восприятия разнообразных эстетических объектов и произведений искус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Развивать эстетические интересы, эстетические предпочтения, желание познавать искусство и осваивать изобразительную деятель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держание образовательной деятельности (старшая группа)</a:t>
            </a:r>
            <a:br>
              <a:rPr sz="2800"/>
            </a:b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Развитие умений откликаться и замечать красоту окружающего мир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фференцированно воспринимать многообразие форм, цвета, фактуры, способы их передачи в художественных образах. Ассоциировать и образно воспринимать и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Развивать художественно-эстетические способ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Умения художественного восприятия: самостоятельно и последовательно анализировать произведения и архитектурные объекты; выделять типичное, обобщенное. Умения различать произведения искусства разных видов, понимание специфики разных видов искус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c0039"/>
                </a:solidFill>
                <a:latin typeface="Arial"/>
              </a:rPr>
              <a:t>Развитие продуктивной деятельности и детского творчества (старшая группа)</a:t>
            </a:r>
            <a:br>
              <a:rPr sz="2400"/>
            </a:b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438280" y="1125000"/>
            <a:ext cx="64008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дачи образовательной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Развивать изобразительную деятельность детей: самостоятельное определение замысла будущей работы, стремление создать выразительный образ, умение самостоятельно отбирать впечатления, переживания для определения сюжета, выбирать соответствующие образу изобразительные техники и материалы, планировать деятельность и достигать результата, оценивать его, взаимодействовать с другими детьми в процессе коллективных творческих работ. Развивать технические и изобразительно-выразительные ум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 Поддерживать личностные проявления старших дошкольников в процессе освоения искусства и собственной творческой деятельности: самостоятельность, инициативность, индивидуальность, творчеств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 Продолжать развивать эмоционально-эстетические, творческие, сенсорные и познавательные способ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2438280" y="333000"/>
            <a:ext cx="6400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держание образовательн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умений определять замысел будущей работы, самостоятельно отбир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печатления, переживания для определения сюжета, создавать выразительный образ и передавать свое отнош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умений планировать деятельность, доводить работу до результат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ивать его; экономично использовать материалы. Знакомство со способом создания наброска. Умение рисовать контур предмета простым карандаш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воение новых, более сложных способов создания изображения. Соз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ображений по представлению, памяти, с натуры; умения анализировать объект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йства, устанавливать пространственные, пропорциональные отношения, передавать их в работ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цвета как средства передачи настроения, состояния, отношения 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ображаемому или выделения главного в картине; свойства цвета (теплая, холод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мма), красота, яркость насыщенных или приглушенных тонов. Умения тонк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личать оттенки (развитое цветовое восприятие). Умения подбирать фон бумаги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четание крас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исовании: применение разнообразных изобразительных материалов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трументов (сангина, пастель, мелки, акварель, тушь, перо, палитра, кисти раз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ров, гелевые ручки, витражные краски, уголь, фломастер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ния создавать новые цветовые тона и оттенки путем составлени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бавления водой или разбели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аппликации: использование разнообразных материалов: бумаги раз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а и свойств, ткани, природных материалов и веществ, бросового матери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комство с техниками симметричного, ажурного вырезания; разнообразны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ами прикрепления деталей на фон, получения объемной аппликации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лепке: использование разнообразных и дополнительных материалов д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корирования. Умения лепить конструктивным и смешанным способом; создав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огофигурные и устойчивые конструкции; создавать объемные и рельеф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обра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дожественная литература (старшая группа)</a:t>
            </a:r>
            <a:br>
              <a:rPr sz="2800"/>
            </a:b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438280" y="1197000"/>
            <a:ext cx="64008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дачи образовательной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 Поддерживать у детей интерес к литературе, обогащать «читательский» опыт детей за счет произведений более сложных жанров фольклора (волшебные и бытовые сказки, метафорические загадки, былины), литературной прозы (сказка-повесть, рассказ с нравственным подтекстом) и поэзии (басни, лирические стихи, литературные загадки с метафорой, поэтические сказки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 Воспитывать литературно-художественный вкус, способность понимать настроение произведения, чувствовать музыкальность, звучность и ритмичность поэтических текстов; красоту, образность и выразительность языка сказок и рассказ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 Совершенствовать умения художественного восприятия текста в единстве его содержания и формы, смыслового и эмоционального подтекс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. Развивать первоначальные представления об особенностях литературы: о родах (фольклор и авторская литература), видах (проза и поэзия), о многообразии жанров и их некоторых специфических признаках (композиция, средства языков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ыразительности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2438280" y="189000"/>
            <a:ext cx="640080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держание образовательн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Расширение читательских интересов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ение стремления к постоянному общению с книгой, выра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овольствия при слушании литературных произведений. Проявление избирательного отношения к произведениям определенного вида, жанра, тематики, стремление объяснить свой выбо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воение умений воспринимать литературное произведение в единстве 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я и формы, смыслового и эмоционального подтекста, устанавлив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огообразные связи в тексте. Понимание литературного героя в его разнообраз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ениях (внешний вид, поступки, мотивы поступков, переживания, мысли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емление дать оценку его поступкам. Понимание настроения произведени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увствование его эмоционального подтекста. Проявление внимания к языку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знанного отношения к использованию некоторых средств языков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зительности (многозначность слова, синонимика, эпитет, сравнение, метафор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ворческая деятельность на основе литературного тек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воение способов передачи результатов восприятия литературных текстов 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ных видах художественно-речевой (пересказ, сочинение, рассуждение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образительной (рисование, аппликация, конструирование, оформление)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атрализованной деятельности. Проявление желания создавать в игре-драматизации целостный образ, в котором сочетаются эмоции, настроения, состояния героя, их смена и развитие. Сохранение в пересказах стилистических и жанровых особенностей произведения, использование в собственных сочинениях приемов, соответствующих особенностям жанра (например: при сочинении сказок — традиционные зачины, концовки, постоянные эпитеты, традиционные сравнения и образные фразеологизмы и пр.). Проявление активности и самостоятельности в поиске способов выражения образа героя в театрализованной игр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46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 (старшая группа)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дачи образовательн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огащать слуховой опыт детей при знакомстве с основными жанрами музы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Накапливать представления о жизни и творчестве некоторых компози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бучать детей анализу средств музыкальной вырази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Развивать умения творческой интерпретации музыки разными средств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удожественной вырази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Развивать певческие ум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Стимулировать освоение умений игрового музицир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Стимулировать самостоятельную деятельность детей по импров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нцев, игр, оркестров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2-я младшая группа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195640" y="1413000"/>
            <a:ext cx="669744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ая область  «Художественно-эстетическое развитие»  включает в себ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зобразительное искус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тие продуктивной деятельности и детского творчества (рисование, аппликация, лепка, конструирова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художественная литер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уз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держание образовательной деятельности (старшая группа)</a:t>
            </a:r>
            <a:br>
              <a:rPr sz="2800"/>
            </a:b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навание музыки разных композиторов: западноевропейских (И.-С. Баха, Э. Грига, И. Гайдна, В.-А. Моцарта, Р. Шумана и др.) и русских (Н. А. Римского- Корсакова, М. И. Глинки, П. И. Чайковского и др.). Владение элементарными представлениями о биографиях и творчестве композиторов, о истории создания оркестра, о истории развития музыки, о музыкальных инструментах. Различение музыки разных жанров. Знание характерных признаков балета и оперы. Различение средств музыкальной выразительности (лад, мелодия, метроритм). Понимание того, что характер музыки выражается средствами музыкальной  вырази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2438280" y="476280"/>
            <a:ext cx="64008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остижения ребенка (Что нас радует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· У ребенка развиты элементы культуры слушательского восприят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· Ребенок выражает желание посещать концерты, музыкальный теат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· Музыкально эрудирован, имеет представления о жанрах музы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· Проявляет себя в разных видах музыкальной исполнительской дея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· Активен в театрализ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· Участвует в инструментальных импровизация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ызывает озабоченность и требует совместных усилий педагогов и родите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· Ребенок не активен в музыкальной дея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· Не распознает характер музы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· Поет на одном зву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· Плохо ориентируется в пространстве при исполнении танцев и перестроении с музык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· Не принимает участия в театрализ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· Слабо развиты музыкальные способности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образительное искусство (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готовительная группа)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438280" y="1052280"/>
            <a:ext cx="64008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дачи образовательной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Продолжать формировать эмоционально-эстетические ориентации, подвести детей к пониманию ценности искусства, способствовать освоению и использованию разнообразных эстетических оценок, суждений относительно проявлений красоты в окружающем мире, художественных образов, собственных творческих рабо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 Стимулировать самостоятельное проявление эстетического отношения к окружающему миру в разнообразных ситуациях: повседневных и образовательных, досуговой деятельности, в ходе посещения музеев, парков, экскурсий по горо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 Совершенствовать художественно-эстетическое восприятие, художественно- эстетические способности, продолжать осваивать язык изобразительного искусства и художественной деятельности и на этой основе способствовать обогащению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чальному обобщению представлений об искусств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. Поддерживать проявления у детей интересов, эстетических предпочтений, желания познавать искусство и осваивать изобразительную деятельность в процессе посещения музеев, выставок, стимулирования коллекционирования, творческих досугов, рукоделия, проектной дея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образовательной деятельности</a:t>
            </a:r>
            <a:br>
              <a:rPr sz="2800"/>
            </a:b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438280" y="1197000"/>
            <a:ext cx="64008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терес к проявлениям красоты в окружающем мире, желание задавать вопросы и высказывать собственные предпочтения, рассматривать произведения искусства, привлекательные предметы быта и природные объек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ставления и опыт восприятия различных произведений изобразительного искусства, разных видов архитектурных объектов: о специфике видов искусства (скульптуры, живописи, графики, архитектуры), используемых изобразительных и строительных материалах и инструмент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кульптур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 виды скульптуры, особенности средств вырази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График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 виды и особенности средств выразительности. Специфики труда художника-иллюстратора, способы создания иллюстр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Архитектур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 особенности и виды архитектуры, материалы, используемые в строительств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продуктивной деятельности и детского творчества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438280" y="1268280"/>
            <a:ext cx="64008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и образователь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Поддерживать проявления самостоятельности, инициативности, индивидуальности, рефлексии, активизировать творческие проявления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Совершенствовать компоненты изобразительной деятельности, технические и изобразительно-выразительные ум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Развивать эмоционально-эстетические, творческие, сенсорные и познавательные способ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образовательной деятельности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438280" y="1052640"/>
            <a:ext cx="6400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мения самостоятельно определять замысел будущей работы, отбирать впечатления, переживания для выразительного образа, интересного сюже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явление индивидуального почерка, инициативы в художественно-игровой деятельности, высказывание собственных эстетических суждений и оценок, умение передавать свое отнош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здание выразительного образа с помощью осознанного выбора и сочетания выразительных средств, умений разрабатывать образ; предлагать варианты образ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бирать наиболее соответствующие образу изобразительные техники и материалы и их сочетать, по собственной инициативе интегрировать виды деятельности.Ум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ланировать деятельность, доводить работу до результата, адекватно оценивать его; вносить изменения в работу, включать детали, дорабатывать изображ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стоятельное использование способов экономичного применения материалов и проявление бережного отношения к материалам и инструмент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воение и самостоятельное использование разных способов созд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2438280" y="333000"/>
            <a:ext cx="64008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ижения ребенка (Что нас радует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Ребенок проявляет самостоятельность, инициативу, индивидуальность 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е деятельности; имеет творческие увлеч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Проявляет эстетические чувства, откликается на прекрасное в окружающ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е и в искусстве; узнает, описывает некоторые известные произведени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итектурные и скульптурные объекты, предметы народных промыслов, зад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 о произведениях, поясняет некоторые отличительные особенности видов искус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Экспериментирует в создании образа, проявляет самостоятельность в процес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а темы, продумывания художественного образа, выбора техник и способ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я изображения; демонстрирует высокую техническую грамотность; планирует деятельность, умело организует рабочее место, проявляет аккуратность и организованно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Адекватно оценивает собственные работы; в процессе выполн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ективных работ охотно и плодотворно сотрудничает с другими деть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зывает озабоченность и требует совместных усилий педагогов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Ребенок не замечает красоту в повседневной жизни; не интересует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усств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Рисует, лепит, конструирует более охотно при поддержке взрослог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монстрирует невысокий уровень творческой актив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Показывает относительный уровень технической грамотности, созд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2438280" y="260280"/>
            <a:ext cx="640080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дожественная литература  (подготовительная групп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образовательной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оспитывать ценностное отношение к художественной литературе как виду искусства и литературной речи; способствовать углублению и дифференциации читательских интерес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богащать читательский опыт детей за счет произведений более сложных по содержанию и форм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овершенствовать умения художественного восприятия текста в единстве его содержания и формы, смыслового и эмоционального подтекста; развивать умения элементарно анализировать содержание и форму произведения (особенности композиционного строения, средства языковой выразительности и их значение), развивать литературную реч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богащать представления об особенностях литературы: о родах (фольклор и авторская литература), видах (проза и поэзия), о многообразии жанров и их некоторых специфических признак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Обеспечивать возможность проявления детьми самостоятельности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тва в разных видах художественно-творческой деятельности на основе литературных произвед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образовательной деятельности (подготовительная группа)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остижения ребенка (Что нас радует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Ребенок проявляет эстетический вкус, стремление к постоянному общению 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нигой, желание самому научиться чит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Обнаруживает избирательное отношение к произведениям определен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тики или жанра, к разным видам творческой деятельности на основе произвед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Называет любимые литературные тексты, объясняет, чем они ему нравя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Знает фамилии 4—5 писателей, отдельные факты их биографии, называет и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едения, с помощью взрослого рассуждает об особенностях их творче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Воспринимает произведение в единстве его содержания и формы, высказыв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е отношение к героям и иде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Творчески активен и самостоятелен в речевой, изобразительной и театрально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ой деятельности на основе художественных текст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зывает озабоченность и требует совместных усилий педагогов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Интерес к литературе выражен не ярко, литературный опыт ограниче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Ребенок с трудом называет знакомые книги, не может объяснить, чем они ем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равя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Невыразительно читает короткие стихи, рассказывает сказки и рассказы, н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ридумать сказку по аналог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узыка (подготовительная группа)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дачи образовательной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Обогащать слуховой опыт у детей при знакомстве с основными жанрам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илями и направлениями в музы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 Накапливать представления о жизни и творчестве русских и зарубежных компози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 Обучать детей анализу, сравнению и сопоставлению при разбор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узыкальных форм и средств музыкальной вырази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. Развивать умения творческой интерпретации музыки разными средствами художественной вырази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. Развивать умения чистоты интонирования в пен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6. Помогать осваивать навыки ритмического многоголосья посредств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грового музициров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11280" y="259920"/>
            <a:ext cx="64008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зобразительное искусство (2-я младшая группа)</a:t>
            </a:r>
            <a:endParaRPr b="0" lang="en-US" sz="2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84000" y="1196640"/>
            <a:ext cx="6327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дачи образовательной деятельност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Формировать сенсорный опыт и развивать положительный эмоциональный отклик детей на эстетические свойства и качества предметов, на эстетическую сторону явлений природы и окружающего ми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Формировать умения внимательно рассматривать картинку, народную игрушку, узнавать в изображенном знакомые предметы и объекты, устанавливать связь между предметами и их изображением в рисунке, лепке; понимать сюжет, эмоционально откликаться, реагировать, сопереживать героям; привлечь внимание к некоторым средствам вырази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%D0%B4%D0%B5%D1%82%D0%B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25760" y="4581360"/>
            <a:ext cx="3486240" cy="19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держание образовательной деятельности</a:t>
            </a:r>
            <a:br>
              <a:rPr sz="2800"/>
            </a:b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438280" y="1197000"/>
            <a:ext cx="64008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навание музыки разных композиторов, стилей и жанров. Вла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ментарными представлениями о творчестве композиторов, о музыкальных инструментах, об элементарных музыкальных формах. Различение музыки разных жанров и стилей. Знание характерных признаков балета, оперы, симфонической и камерной музыки. Различение средств музыкальной выразительности (лад, мелодия, метроритм). Понимание того, что характер музыки выражается средствами музыкальной вырази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рассуждать о музыке адекватно характеру музыкального образа, суждения развернутые, глубокие, интересные, оригинальны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несение новых музыкальных впечатлений с собственным жизненным опытом, опытом других людей благодаря разнообразию музыкальных впечатл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образовательной деятельности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438280" y="1196640"/>
            <a:ext cx="64008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ижения ребенка (Что нас радует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Развита культура слушательского восприят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Ребенок любит посещать концерты, музыкальный театр, делится полученны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ечатления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Музыкально эрудирован, имеет представления о жанрах и направления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ческой и народной музыки, творчестве разных компози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Проявляет себя во всех видах музыкальной исполнительской деятельности, 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здник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Активен в театрализации, где включается в ритмо-интонационные игр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ющие почувствовать выразительность и ритмичность интонаций, а такж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хотворных ритмов, певучие диалоги или рассказыв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Проговаривает ритмизированно стихи и импровизирует мелодии на заданну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у, участвует в инструментальных импровизация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зывает озабоченность и требует совместных усилий педагогов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Ребенок не активен в некоторых видах музыкальной дея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Не узнает музыку известных компози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Имеет слабые навыки вокального п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Плохо ориентируется в пространстве при исполнении танцев и перестроении 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Не принимает активного участия в театрализ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11280" y="475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58" name="Picture 6" descr="sport01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2205000"/>
            <a:ext cx="4753080" cy="37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держание образовательной деятельности</a:t>
            </a:r>
            <a:br>
              <a:rPr sz="2400"/>
            </a:b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11280" y="1125360"/>
            <a:ext cx="61214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ктивизация интереса к красивым игрушкам, нарядным предметам быта, одежде, интересным природным явлениям и объектам; побуждение обращать внимание на разнообразие сенсорных признаков объектов, явл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накомство на конкретных примерах с народным искусством: глиняными игрушками, игрушками из соломы и дерева, предметами быта и одежды; скульптурой малых форм; с детскими книгами (иллюстрации художников Ю. Васнецова, В. Сутеева, с близкими детскому опыту живописными образами. Форм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раза человека-мастера как создателя народных игрушек, иллюстраций в книгах, карти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витие умений узнавать в изображении знакомые предметы, объекты, явления, называть их; умений их внимательно рассматривать; эмоционально откликаться на некоторые средства выразительности: ритм пятен и линий, яркость цвета; выделять простые элементы росписи народных промыслов, декора игрушек; передавать собственное отношение к образам в мимике, жестах. Поддержка высказывания детей своих предпочтений в выборе книг, игрушек. Совместное со взрослым обыгрывание народных игрушек, нарядных предмет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продуктивной деятельности и детского творчества</a:t>
            </a: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341000"/>
            <a:ext cx="623736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дачи образовательной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Развивать у детей интерес к участию в образовательных ситуациях и играх эстетической направленности, желание рисовать, лепить совместно со взрослым и самостоятель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Развивать умения создавать простые изображения, принимать замысел, предложенный взрослым, раскрывать его в работе, используя освоенные способы создания изображения, формы, элементарную композици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Создавать условия для освоения детьми свойств и возможностей изобразительных материалов и инструментов и развивать мелкую моторику и умения использовать инструмен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Побуждать к самостоятельному выбору способов изображения на основе освоенных технических прием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держание образовательной деятельности (2-я младшая группа)</a:t>
            </a:r>
            <a:br>
              <a:rPr sz="2400"/>
            </a:b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1052640"/>
            <a:ext cx="64548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исовани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развитие умений ритмично наносить линии, штрихи, пят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Знакомство со способами изображения простых предметов, проведения разных прямых линий, в разных направлениях; способами создания предметов разной формы, комбинации разных форм и линий. Способы создания изображения: на основе дуги, изображение игрушек на основе округлых и вытянутых фор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едметном изображени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развитие умений передавать общие признаки и некоторые характерные детали предметов, относительное сходство по форме, цвету; выделять главное цветом, расположением, размеро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южетном изображени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создавать изображение на всем листе, стремиться отображать линию горизонта, строить простейшую композицию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коративном изображени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умения видеть предметную и геометрическую форму, строить на ней нарядный узор при помощи ритма и чередования форм, цветных пятен; передавать элементами декоративного узора прямые пересекающие линии, точки, круги, мазки, чередование элементов, пятен; украшать дымковскими узорами силуэты игрушек, вырезанных взрослы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я подбирать цвета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расный, синий, зеленый, желтый, белый, черный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ующие изображаемому предмету, создавать изображение с использованием 1, 2 и нескольких цвет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4360" y="228240"/>
            <a:ext cx="6400800" cy="608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я правильно держать карандаш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т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регулировать силу нажима, аккуратно набирать краску на кисть, снимать лишнюю краску, промывать кисть и использовать салфетку; поддерживать свободное движение кисти во время рисования. Принятие правильной непринужденной позы в процессе деятельности.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ппликаци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знакомство со свойствами бумаги и последовательностью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пликационной работы. Создание изображения знакомых предметов, декоративных композиций, используя готовые формы. Создание изображения на бумаге разной формы (квадрат, круг), предметной основе. Знакомство с возможностями использования неизобразительных материалов.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лепк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знакомство со свойствами глины, пластилина, соленого теста, влажного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ка, снега. Создание простейших форм (шар, круг, цилиндр, колбаска), их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оизменения. Умения украшать работу, используя стеки, палочку, печати-штампы.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нструировани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формировать умения различать, называть и использовать в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йке простые строительные детали, анализировать постройку. Использование способов расположения кирпичиков вертикально, плотно друг к другу, на определенном расстоянии. Постройка предметов мебели, горок, грузовых машин, домов. Знакомство со свойствами песка, снега, сооружая из них постройки. Нанесение на постройки из этих материалов деталей декора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ание детей принимать участие в создании как индивидуальных, так и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ых со взрослым и детьми композиций в рисунках, лепке, аппликации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руировании. Обыгрывание постройки, лепной работы и включение их в игру.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2437920" y="333360"/>
            <a:ext cx="6310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образователь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ижения ребенка (Что нас раду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Ребенок охотно участвует в ситуациях эстетической направленности. Есть любимые книги, изобразительные материал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Эмоционально откликается на интересные образы, радуется красивому предмету, рисунку; с увлечением рассматривает предметы народных промыслов, игрушки, иллюстр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здает простейшие изображения на основе простых форм; передает сходство с реальными предмет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Принимает участие в создании совместных композиций, испытывает совместные эмоциональные пережи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зывает озабоченность и требует совместных усилий педагогов и родителе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ебенок не проявляет активности и эмоционального отклика при восприят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едений искус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 испытывает желания рисовать, лепить, конструиров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охотно участвует в создании совместных со взрослым творческих рабо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1T17:34:20Z</dcterms:created>
  <dc:creator>$$$</dc:creator>
  <dc:description/>
  <dc:language>en-US</dc:language>
  <cp:lastModifiedBy>user</cp:lastModifiedBy>
  <dcterms:modified xsi:type="dcterms:W3CDTF">2015-01-25T19:46:15Z</dcterms:modified>
  <cp:revision>41</cp:revision>
  <dc:subject/>
  <dc:title>Подвижные игры в детском саду</dc:title>
</cp:coreProperties>
</file>