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AE8-DE46-4C87-864D-C428C3C9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3B3-3115-40F8-AD8A-0A9C79FF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D15-1A8A-486C-A7C2-F445F70B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94D-A9AC-49FD-9020-A675EF1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6E14-22EA-4549-A8F7-79C2FEF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3BD7-F1F6-4801-AD33-91FF7AF4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2C2F-E8EB-4E39-8BCA-8EADB88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B87E-ED1D-4ADD-8718-887F7A1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10F-7E0D-455E-B2C8-103F2C6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3982-12B5-42F0-8011-115F9EE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D477-379F-41AC-ADFD-BB0CBB0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F83-61F0-436B-894F-2A862BD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DE35-DD94-4E95-9C6E-4BA7684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80A-7781-49F8-9BE2-B79867F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F62-384A-4B84-9A06-606DA8F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5ED5-D18B-4A7F-B5B5-2FD2F4AA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AA3F-59E4-45E7-8E27-6AA82556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A93-40D5-4062-9E6B-BC02FD3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0F2-8479-4359-8683-1C27BCA2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E72-4469-431E-A9EF-A639BDD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E91-67DE-4DF6-BFE4-FA6D050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DFD-B863-4976-BF0A-AD42207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6A6-E054-4804-AF0F-D9A56CE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F8B-FD7B-4165-B3C5-5A36431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E0C-BAA4-4959-9B18-5CC7F2CB2B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835-3090-4EFE-A182-53D058F29F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620280"/>
            <a:ext cx="7620120" cy="2808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-эстетическое развитие» 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 ФГТ, ФГОС и Примерной общеобразовательной  программой дошкольного образования «Детство»</a:t>
            </a:r>
            <a:br>
              <a:rPr sz="2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280" y="4365720"/>
            <a:ext cx="7921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ченко Ольга Никола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удожественная литератур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2-я младшая группа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37920" y="1599840"/>
            <a:ext cx="6381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огащать опыт слушания литературных произведений за счет разных малых форм фольклора (потешек, песенок, прибауток), простых народных и авторских сказок (в основном о животных), рассказов и стихов о детях, их играх, игрушках, повседневной бытовой деятельности, о знакомых детям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Воспитывать у детей интерес к фольклорным и литературным текст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емление внимательно их слуш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азвивать умения воспринимать текст, с помощью взрослого поним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, устанавливать порядок событий в тексте, помогать мысленно представлять события и героев, устанавливать простейшие связи последовательности событий в тек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ддерживать желание эмоционально откликаться на чтение и рассказывание, активно содействовать и сопереживать изображенным героям и событ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ривлекать к исполнению стихов, пересказыванию знакомых сказок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27280" y="1197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сширение читательских интересов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е радости и удовольствия от слушания и рассказывания литературных произведений, стремление к повторной встрече с кни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риятие литературног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редоточенное слушание чтения и рассказывания взрослого до конца, не отвлекаясь. Проявление эмоционального отклика на чтение и рассказывание взрослого, активного сопереживания изображенным героям и событиям. Понимание содержания произведения и последовательности событий в тексте, выявление наиболее ярких поступков и действий героев, стремление дать им элементарную оценку. Проявление интереса к иллюстрациям в детской книге. Представление в воображении героев как на основе иллюстраций, так и на основе авторского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ворческая деятельность на основе литературног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ажение своего отношения к литературному произведению, его героям: в рисунке, при слушании, чтении наизусть текста, в простых играх-драматизациях и играх с персонажами игрушечного настольного, пальчикового теа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7920" y="1341000"/>
            <a:ext cx="6705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охотно отзывается на предложение прослушать литературный текст, сам просит взрослого прочесть стихи, сказ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знает содержание прослушанных произведений по иллюстрациям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ожкам знакомых кни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но сопереживает героям произведения, эмоционально откликаетс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но и с желанием участвует в разных видах творческой деятельности на основе литературного текста (рисует, участвует в словесных играх, в играх- драматизация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не откликается на предложение послушать чтение или рассказывание литературного 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Отказывается от разговора по содержанию произведения или односло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чает на вопросы только после личного обращения к нему взросл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проявляет удовольствия от восприятия художественного произве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хотно включается в игры с текстовым сопровождением, в театрализованны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(2-я младша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спитывать у детей слуховую сосредоточенность и эмоциональную отзывчивость на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ддерживать детское экспериментирование с немузыкальными (шумовыми, природными) и музыкальными звуками и исследования качеств музыкального зву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ы, длительности, динамики,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Активизировать слуховую восприимчивость младших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ение некоторых свойств музыкального звука (высоко — низко, громко — тихо). Понимание простейших связей музыкального образа и средств выразительности (медведь — низкий регистр). Различение того, что музыка бывает разная по характеру (веселая — грустная). Сравнение разных по звучанию предметов в процессе манипулирования, звукоизвлечения. Самостоятельное экспериментирование со звуками в разных видах деятельности, исследование качества музыкального звука: высоты, длительности. Различение элементарного характера музыки, понимание простейших музыкальных образов. Вербальное и невербальное выражение просьбы послу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редня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спитывать эмоционально-эстетические чувства, отклик на проявление прекрасного в предметах и явлениях окружающего мира, умения замечать красоту окружающих предметов и объектов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Активизировать интерес к произведениям народного и профессионального искусства и формировать опыт восприятия произведений искусства различных видов и жанров, способствовать освоению некоторых средств выразительности изобразитель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азвивать художественное восприятие, умения последовательно внимательно рассматривать произведения искусства и предметы окружающего мира; соотносить увиденное с собственным опы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Формировать образные представления о предметах и явлениях мира и на их основе развивать умения изображать простые предметы и явления в соб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438280" y="33300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е интереса к предметам народных промыслов, иллюстрациям в детских книгах, скульптуре малых форм, необычным архитектурным постройкам, описанию архитектурных объектов в иллюстрациях к сказ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дставления и опыт восприятия произведений искус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коративно-прикладное искус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знакомство с близкими опыт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ами русских народных промыслов; их назначение, образность, материалы для изготовления. Особенности декоративных образов: выразительность, яркость, нарядность. Своеобразие некоторых узоров и орнаментов: кольца, дуги, точки; бутоны, листья; цветовые сочетания, традиционные образ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обенности книжной графики: сопровождение иллюстрации текста; украшение книги. Ценность книг и необходимость бережного отношения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жанры живописи: натюрморт, пейзаж, портрет; разные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удожественному образу и настроению произведения. Средства выразительности живописи (цвет, линия, композиция); многообразие цветов и оттенков, форм, фактуры в предметах и явлениях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имание образа (что изображено) и доступных средств выразительности, с помощью которых художник создает выразительный об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умений обращать внимание и откликаться на интересные декоративно- оформительские решения: украшение группы, одежду, атрибуты игр, замечать новые красивые предметы в груп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дуктивной деятельности и детского творчества (средня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8280" y="1268280"/>
            <a:ext cx="6400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Активизировать интерес к разнообразной изобрази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ормировать умения и навыки изобразительной, декоративной, конструктивной деятельности: развитие изобразительно-выразительных и технических умений, освоение изобразительных тех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ощрять желание и развивать умения воплощать в процессе создания образа собственные впечатления, переживания; поддерживать творческое начало в процессе восприятия прекрасного и собственной изобрази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Развивать сенсорные, эмоционально-эстетические, творческие и познавательные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 (средня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980640"/>
            <a:ext cx="6400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исов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отбирать при напоминании педагога изобразительные материалы и инструменты, способы изображения в соответствии с создаваемым образом. Использование правильных формообразующих движений для создания полосы, кольца, дуги; правильно удерживать инструменты; сохранение правильной позы при рисовании. Штриховать; работать щетинной кистью, сочетать некоторые материалы (гуашь и восковые мел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куратно пользоваться матери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апплик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воение доступных способов и приемов вырезания и обрывной аппликации; из полос и вырезанных форм составлять изображения раз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ния правильно использовать ножницы, аккуратно вырезать и наклеивать детали; умения использовать неизобразительные материалы для создания выразительного обр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леп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лепить из различных материалов: глины, пластилина, снега, песка. Знакомство с конструктивным и комбинированным способом создания изображения. Освоение некоторых приемов лепки: оттягивание из целого куска, прищипывание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нструировани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готовых геометрических фигу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анализировать объект, выделять основные части и детали, составляющие сооружение. Создание вариантов знакомых сооружений из готовых геометрических форм и темат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труктора, деталей разного размера. Умения выполнять простые постр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980640"/>
            <a:ext cx="6400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Расширять опыт слушания литературных произведений за счет разных жанров фольклора (прибаутки, загадки, заклички, небылицы, сказки о животных и волшебные), литературной прозы (сказка, рассказ) и поэзии (стихи, авторские загадки, веселые детские сказки в стиха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Углублять у детей интерес к литературе, воспитывать желание к постоянному общению с книгой в совместной со взрослым и самостояте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азвивать умения воспринимать текст: понимать основное содержание, устанавливать временные и простые причинные связи, называть главные характеристики героев, несложные мотивы их поступков, оценивать их с позиций этических норм, сочувствовать и сопереживать героям произведений, осознавать значение некоторых средств языковой выразительности для передачи образов героев, общего настроения произведения или его фраг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пособствовать освоению художественно-речевой деятельности на основе литературных текстов: пересказывать сказки и рассказы (в том числе по частям, по ролям), выразительно рассказывать наизусть потешки и прибаутки, стихи и поэтические сказки (и их фрагменты), придумывать поэтические рифмы, короткие описательные загадки, участвовать в литературных играх со звукоподражаниями, рифмами и словами на основе художественного 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450720"/>
            <a:ext cx="56628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10920" y="189000"/>
            <a:ext cx="6427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едпосылок ценностно-смыслового восприятия и понимания произведений искусства (словесного, музыкального, изобразительного), мира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овление эстетического отношения к окружающему ми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элементарных представлений о видах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риятие музыки, художественной литературы, фолькл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ирование сопереживания персонажам художественных произве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лизацию самостоятельной творческой деятельности детей (изобразительной, конструктивно-модельной, музыкальной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438280" y="33336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Ребенок легко включается в процесс восприятия книги, охотно обсуждает произведение, выражает свое отношение к событиям и героям, красоте некоторых художественных средств, представляет героев, особенности их внешнего вида, некоторые черты характера, объясняет явные мотивы поступков геро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Имеет представления о некоторых особенностях таких литературных жанров, как загадка, сказка, рассказ, стихотворение, небыл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Охотно пересказывает знакомые и вновь прочитанные сказки и рассказы, выразительно рассказывает наизусть прибаутки, стихи и поэтические сказки, придумывает поэтические рифмы, короткие описательные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С желанием рисует иллюстрации, активно участвует в театрализованных играх, стремится к созданию выразительных обр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Интерес к слушанию литературных произведений выражен слабо. Ребенок самостоятельно не общается с книгами в книжном уголке, не просит прочитать новое произ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Затрудняется при пересказывании текстов, пересказывает их по вопросам или на основе иллюстр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Отказывается от участия в театрализованных играх, чаще бывает зрителем, в образно-игровых этюдах создает только простой стереотипный образ геро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Музыка (средняя группа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Воспитывать слушательскую культуру детей, развивать умения понимать и интерпретировать выразительные средства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вать умения общаться и сообщать о себе, своем настроении с помощью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азвивать музыкальный слух — интонационный, мелодиче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рмонический, ладовый; обучать элементарной музыкальной грам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Развивать координацию слуха и голоса, формировать начальные певческие нав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Способствовать освоению детьми приемов игры на детских музыкальных инструмен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Способствовать освоению элементов танца и ритмопластики для создания музыкальных двигательных образов в играх и драмат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Стимулировать желание ребенка самостоятельно заниматься музыкальной деяте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410920" y="333000"/>
            <a:ext cx="6427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настроения музыки на примере уже знакомых метроритмических рисунков. Понимание того, что чувства людей от радости до печали отражаются во множестве произведений искусства, в том числе и в музыке. Анализ музыкальной формы двух- и трехчастных произведений. Понимание того, что музыка может выражать характер и настроение человека (резвый, злой, плаксивый). Различение музыки, изображающей что-либо (какое-то движение в жизни, в природе: скачущую лошадь, мчащийся поезд, светлое утро, восход солнца, морской прибой). Дифференцирование: выражает музыка внутренний мир человека, а изображает внешнее движение. Пользование звуковыми сенсорными предэтал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тивизировать проявление эстетического отношения к окружающему миру (искусству, природе, предметам быта, игрушкам, социальным явления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художественно-эстетическое восприятие, эмоциональный отклик на  проявления красоты в окружающем мире, произведениях искусства и собственных творческих работах; способствовать освоению эстетических оценок, су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представления о жанрово-видовом разнообразии искусства, способствовать освоению детьми языка изобразительного искусства и художественной деятельности, формировать опыт восприятия разнообразных эстетических объектов и произведений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вать эстетические интересы, эстетические предпочтения, желание познавать искусство и осваивать изобрази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витие умений откликаться и замечать красоту окружающего ми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рованно воспринимать многообразие форм, цвета, фактуры, способы их передачи в художественных образах. Ассоциировать и образно восприним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вивать художественно-эстетические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мения художественного восприятия: самостоятельно и последовательно анализировать произведения и архитектурные объекты; выделять типичное, обобщенное. Умения различать произведения искусства разных видов, понимание специфики разных видов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Развитие продуктивной деятельности и детского творчества (старша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Развивать изобразительную деятельность детей: самостоятельное определение замысла будущей работы, стремление создать выразительный образ, умение самостоятельно отбирать впечатления, переживания для определения сюжета, выбирать соответствующие образу изобразительные техники и материалы, планировать деятельность и достигать результата, оценивать его, взаимодействовать с другими детьми в процессе коллективных творческих работ. Развивать технические и изобразительно-выразительные ум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ддерживать личностные проявления старших дошкольников в процессе освоения искусства и собственной творческой деятельности: самостоятельность, инициативность, индивидуальность, творч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одолжать развивать эмоционально-эстетические, творческие, сенсорные и познавательные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438280" y="33300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мений определять замысел будущей работы, самостоятельно отбир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чатления, переживания для определения сюжета, создавать выразительный образ и передавать свое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мений планировать деятельность, доводить работу до результа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ть его; экономично использовать материалы. Знакомство со способом создания наброска. Умение рисовать контур предмета простым карандаш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новых, более сложных способов создания изображения. Соз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й по представлению, памяти, с натуры; умения анализировать объек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, устанавливать пространственные, пропорциональные отношения, передавать их в рабо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цвета как средства передачи настроения, состояния, отношени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аемому или выделения главного в картине; свойства цвета (теплая, хол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), красота, яркость насыщенных или приглушенных тонов. Умения то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ть оттенки (развитое цветовое восприятие). Умения подбирать фон бумаг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четание крас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исовании: применение разнообразных изобразительных материалов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ов (сангина, пастель, мелки, акварель, тушь, перо, палитра, кисти раз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ов, гелевые ручки, витражные краски, уголь, фломас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я создавать новые цветовые тона и оттенки путем составл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авления водой или разбел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пликации: использование разнообразных материалов: бумаги раз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и свойств, ткани, природных материалов и веществ, бросового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техниками симметричного, ажурного вырезания; разнообраз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ми прикрепления деталей на фон, получения объемной аппликации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епке: использование разнообразных и дополнительных материалов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рирования. Умения лепить конструктивным и смешанным способом; созда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фигурные и устойчивые конструкции; создавать объемные и рельеф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оддерживать у детей интерес к литературе, обогащать «читательский» опыт детей за счет произведений более сложных жанров фольклора (волшебные и бытовые сказки, метафорические загадки, былины), литературной прозы (сказка-повесть, рассказ с нравственным подтекстом) и поэзии (басни, лирические стихи, литературные загадки с метафорой, поэтические сказ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Воспитывать литературно-художественный вкус, способность понимать настроение произведения, чувствовать музыкальность, звучность и ритмичность поэтических текстов; красоту, образность и выразительность языка сказок и расс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вершенствовать умения художественного восприятия текста в единстве его содержания и формы, смыслового и эмоционального под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Развивать первоначальные представления об особенностях литературы: о родах (фольклор и авторская литература), видах (проза и поэзия), о многообразии жанров и их некоторых специфических признаках (композиция, средства язы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438280" y="189000"/>
            <a:ext cx="6400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читательских интересов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стремления к постоянному общению с книгой, вы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ольствия при слушании литературных произведений. Проявление избирательного отношения к произведениям определенного вида, жанра, тематики, стремление объяснить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умений воспринимать литературное произведение в единстве 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я и формы, смыслового и эмоционального подтекста, устанавли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ные связи в тексте. Понимание литературного героя в его разнообраз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ях (внешний вид, поступки, мотивы поступков, переживания, мысли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дать оценку его поступкам. Понимание настроения произвед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вание его эмоционального подтекста. Проявление внимания к язы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ного отношения к использованию некоторых средств язык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тельности (многозначность слова, синонимика, эпитет, сравнение, метафо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деятельность на основе литературного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способов передачи результатов восприятия литературных тексто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х видах художественно-речевой (пересказ, сочинение, рассуждение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тельной (рисование, аппликация, конструирование, оформле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ализованной деятельности. Проявление желания создавать в игре-драматизации целостный образ, в котором сочетаются эмоции, настроения, состояния героя, их смена и развитие. Сохранение в пересказах стилистических и жанровых особенностей произведения, использование в собственных сочинениях приемов, соответствующих особенностям жанра (например: при сочинении сказок — традиционные зачины, концовки, постоянные эпитеты, традиционные сравнения и образные фразеологизмы и пр.). Проявление активности и самостоятельности в поиске способов выражения образа героя в театрализованной иг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(старша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гащать слуховой опыт детей при знакомстве с основными жанрами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капливать представления о жизни и творчестве некоторых компози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учать детей анализу средств музыкальной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азвивать умения творческой интерпретации музыки разными сред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удожественной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азвивать певческие ум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Стимулировать освоение умений игрового музи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тимулировать самостоятельную деятельность детей по импров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ев, игр, оркестро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-я младшая группа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6697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 «Художественно-эстетическое развитие»  включает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дуктивной деятельности и детского творчества (рисование, аппликация, лепка, констру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удожестве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музыки разных композиторов: западноевропейских (И.-С. Баха, Э. Грига, И. Гайдна, В.-А. Моцарта, Р. Шумана и др.) и русских (Н. А. Римского- Корсакова, М. И. Глинки, П. И. Чайковского и др.). Владение элементарными представлениями о биографиях и творчестве композиторов, о истории создания оркестра, о истории развития музыки, о музыкальных инструментах. Различение музыки разных жанров. Знание характерных признаков балета и оперы. Различение средств музыкальной выразительности (лад, мелодия, метроритм). Понимание того, что характер музыки выражается средствами музыкальной 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У ребенка развиты элементы культуры слушательского вос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выражает желание посещать концерты, музыкальный теа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Музыкально эрудирован, имеет представления о жанрах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роявляет себя в разных видах музыкальной исполни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ен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Участвует в инструментальных импров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не активен в музыка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распознает характер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оет на одном зву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лохо ориентируется в пространстве при исполнении танцев и перестроении с музы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принимает участия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Слабо развиты музыкальные способ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бразительное искусство (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должать формировать эмоционально-эстетические ориентации, подвести детей к пониманию ценности искусства, способствовать освоению и использованию разнообразных эстетических оценок, суждений относительно проявлений красоты в окружающем мире, художественных образов, собственных творческих раб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Стимулировать самостоятельное проявление эстетического отношения к окружающему миру в разнообразных ситуациях: повседневных и образовательных, досуговой деятельности, в ходе посещения музеев, парков, экскурсий по гор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Совершенствовать художественно-эстетическое восприятие, художественно- эстетические способности, продолжать осваивать язык изобразительного искусства и художественной деятельности и на этой основе способствовать обогащени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му обобщению представлений об искус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ддерживать проявления у детей интересов, эстетических предпочтений, желания познавать искусство и осваивать изобразительную деятельность в процессе посещения музеев, выставок, стимулирования коллекционирования, творческих досугов, рукоделия, проект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 к проявлениям красоты в окружающем мире, желание задавать вопросы и высказывать собственные предпочтения, рассматривать произведения искусства, привлекательные предметы быта и природные объе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ления и опыт восприятия различных произведений изобразительного искусства, разных видов архитектурных объектов: о специфике видов искусства (скульптуры, живописи, графики, архитектуры), используемых изобразительных и строительных материалах и инструмен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кульп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иды скульптуры, особенности средств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иды и особенности средств выразительности. Специфики труда художника-иллюстратора, способы создания иллю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обенности и виды архитектуры, материалы, используемые в строительст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дуктивной деятельности и детского творчеств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8280" y="1268280"/>
            <a:ext cx="6400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ддерживать проявления самостоятельности, инициативности, индивидуальности, рефлексии, активизировать творческие проявл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вершенствовать компоненты изобразительной деятельности, технические и изобразительно-выразительные у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вивать эмоционально-эстетические, творческие, сенсорные и познавательные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38280" y="1052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самостоятельно определять замысел будущей работы, отбирать впечатления, переживания для выразительного образа, интересного сю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явление индивидуального почерка, инициативы в художественно-игровой деятельности, высказывание собственных эстетических суждений и оценок, умение передавать свое от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выразительного образа с помощью осознанного выбора и сочетания выразительных средств, умений разрабатывать образ; предлагать варианты обра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ирать наиболее соответствующие образу изобразительные техники и материалы и их сочетать, по собственной инициативе интегрировать виды деятельности.Ум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ть деятельность, доводить работу до результата, адекватно оценивать его; вносить изменения в работу, включать детали, дорабатывать изобра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е использование способов экономичного применения материалов и проявление бережного отношения к материалам и инструме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и самостоятельное использование разных способов с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проявляет самостоятельность, инициативу, индивидуальнос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е деятельности; имеет творческие у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являет эстетические чувства, откликается на прекрасное в окружающ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и в искусстве; узнает, описывает некоторые известные произве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ые и скульптурные объекты, предметы народных промыслов, за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 произведениях, поясняет некоторые отличительные особенности видов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Экспериментирует в создании образа, проявляет самостоятельность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а темы, продумывания художественного образа, выбора техник и спосо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изображения; демонстрирует высокую техническую грамотность; планирует деятельность, умело организует рабочее место, проявляет аккуратность и организова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Адекватно оценивает собственные работы; в процессе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х работ охотно и плодотворно сотрудничает с другими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не замечает красоту в повседневной жизни; не интерес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исует, лепит, конструирует более охотно при поддержке взрос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 невысокий уровень творческой актив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казывает относительный уровень технической грамотности, соз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260280"/>
            <a:ext cx="6400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  (подготовительная груп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спитывать ценностное отношение к художественной литературе как виду искусства и литературной речи; способствовать углублению и дифференциации читательских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читательский опыт детей за счет произведений более сложных по содержанию и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вершенствовать умения художественного восприятия текста в единстве его содержания и формы, смыслового и эмоционального подтекста; развивать умения элементарно анализировать содержание и форму произведения (особенности композиционного строения, средства языковой выразительности и их значение), развивать литератур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огащать представления об особенностях литературы: о родах (фольклор и авторская литература), видах (проза и поэзия), о многообразии жанров и их некоторых специфических призна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еспечивать возможность проявления детьми самостоятельност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а в разных видах художественно-творческой деятельности на основе литературных произ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 (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проявляет эстетический вкус, стремление к постоянному обще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ой, желание самому научиться чи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бнаруживает избирательное отношение к произведениям определ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ки или жанра, к разным видам творческой деятельности на основ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азывает любимые литературные тексты, объясняет, чем они ему нравя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Знает фамилии 4—5 писателей, отдельные факты их биографии, называет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, с помощью взрослого рассуждает об особенностях их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ринимает произведение в единстве его содержания и формы, высказыв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отношение к героям и ид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Творчески активен и самостоятелен в речевой, изобразительной и театр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деятельности на основе художественных тек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нтерес к литературе выражен не ярко, литературный опыт огранич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с трудом называет знакомые книги, не может объяснить, чем они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я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выразительно читает короткие стихи, рассказывает сказки и рассказы, 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думать сказку по ана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(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огащать слуховой опыт у детей при знакомстве с основными жанр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лями и направлениями в му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акапливать представления о жизни и творчестве русских и зарубеж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Обучать детей анализу, сравнению и сопоставлению при разб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льных форм и средств музыкальной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вивать умения творческой интерпретации музыки разными средствами художественной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Развивать умения чистоты интонирования в п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омогать осваивать навыки ритмического многоголосья посред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ового музиц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бразительное искусство (2-я младшая группа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84000" y="1196640"/>
            <a:ext cx="6327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ормировать сенсорный опыт и развивать положительный эмоциональный отклик детей на эстетические свойства и качества предметов, на эстетическую сторону явлений природы и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ормировать умения внимательно рассматривать картинку, народную игрушку, узнавать в изображенном знакомые предметы и объекты, устанавливать связь между предметами и их изображением в рисунке, лепке; понимать сюжет, эмоционально откликаться, реагировать, сопереживать героям; привлечь внимание к некоторым средствам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%D0%B4%D0%B5%D1%82%D0%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5760" y="4581360"/>
            <a:ext cx="34862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музыки разных композиторов, стилей и жанров. Вла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ми представлениями о творчестве композиторов, о музыкальных инструментах, об элементарных музыкальных формах. Различение музыки разных жанров и стилей. Знание характерных признаков балета, оперы, симфонической и камерной музыки. Различение средств музыкальной выразительности (лад, мелодия, метроритм). Понимание того, что характер музыки выражается средствами музыкальной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ссуждать о музыке адекватно характеру музыкального образа, суждения развернутые, глубокие, интересные, оригина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новых музыкальных впечатлений с собственным жизненным опытом, опытом других людей благодаря разнообразию музыкальных впечат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38280" y="119664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азвита культура слушательского вос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любит посещать концерты, музыкальный театр, делится получ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чатл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Музыкально эрудирован, имеет представления о жанрах и направл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ой и народной музыки, творчестве раз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являет себя во всех видах музыкальной исполнительской деятельности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Активен в театрализации, где включается в ритмо-интонационны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щие почувствовать выразительность и ритмичность интонаций, а так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ных ритмов, певучие диалоги или рассказы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говаривает ритмизированно стихи и импровизирует мелодии на задан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у, участвует в инструментальных импров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не активен в некоторых видах музыка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 узнает музыку извест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меет слабые навыки вокального п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лохо ориентируется в пространстве при исполнении танцев и перестроени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 принимает активного участия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8" name="Picture 6" descr="sport0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205000"/>
            <a:ext cx="47530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12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зация интереса к красивым игрушкам, нарядным предметам быта, одежде, интересным природным явлениям и объектам; побуждение обращать внимание на разнообразие сенсорных признаков объектов, я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ство на конкретных примерах с народным искусством: глиняными игрушками, игрушками из соломы и дерева, предметами быта и одежды; скульптурой малых форм; с детскими книгами (иллюстрации художников Ю. Васнецова, В. Сутеева, с близкими детскому опыту живописными образами. 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 человека-мастера как создателя народных игрушек, иллюстраций в книгах, карт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умений узнавать в изображении знакомые предметы, объекты, явления, называть их; умений их внимательно рассматривать; эмоционально откликаться на некоторые средства выразительности: ритм пятен и линий, яркость цвета; выделять простые элементы росписи народных промыслов, декора игрушек; передавать собственное отношение к образам в мимике, жестах. Поддержка высказывания детей своих предпочтений в выборе книг, игрушек. Совместное со взрослым обыгрывание народных игрушек, наряд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дуктивной деятельности и детского творчеств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237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звивать у детей интерес к участию в образовательных ситуациях и играх эстетической направленности, желание рисовать, лепить совместно со взрослым и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звивать умения создавать простые изображения, принимать замысел, предложенный взрослым, раскрывать его в работе, используя освоенные способы создания изображения, формы, элементарную компози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оздавать условия для освоения детьми свойств и возможностей изобразительных материалов и инструментов и развивать мелкую моторику и умения использовать 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буждать к самостоятельному выбору способов изображения на основе освоенных технических прие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2-я младша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052640"/>
            <a:ext cx="6454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ис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умений ритмично наносить линии, штрихи, пят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комство со способами изображения простых предметов, проведения разных прямых линий, в разных направлениях; способами создания предметов разной формы, комбинации разных форм и линий. Способы создания изображения: на основе дуги, изображение игрушек на основе округлых и вытянутых фор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мет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умений передавать общие признаки и некоторые характерные детали предметов, относительное сходство по форме, цвету; выделять главное цветом, расположением, разме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южет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вать изображение на всем листе, стремиться отображать линию горизонта, строить простейшую композиц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мения видеть предметную и геометрическую форму, строить на ней нарядный узор при помощи ритма и чередования форм, цветных пятен; передавать элементами декоративного узора прямые пересекающие линии, точки, круги, мазки, чередование элементов, пятен; украшать дымковскими узорами силуэты игрушек, вырезанных взросл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одбирать ц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сный, синий, зеленый, желтый, белый, черный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изображаемому предмету, создавать изображение с использованием 1, 2 и нескольких цв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4008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равильно держать карандаш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гулировать силу нажима, аккуратно набирать краску на кисть, снимать лишнюю краску, промывать кисть и использовать салфетку; поддерживать свободное движение кисти во время рисования. Принятие правильной непринужденной позы в процессе деятельности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плик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ство со свойствами бумаги и последовательность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онной работы. Создание изображения знакомых предметов, декоративных композиций, используя готовые формы. Создание изображения на бумаге разной формы (квадрат, круг), предметной основе. Знакомство с возможностями использования неизобразительных материалов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п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ство со свойствами глины, пластилина, соленого теста, влаж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а, снега. Создание простейших форм (шар, круг, цилиндр, колбаска), 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изменения. Умения украшать работу, используя стеки, палочку, печати-штампы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струир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мения различать, называть и использовать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ке простые строительные детали, анализировать постройку. Использование способов расположения кирпичиков вертикально, плотно друг к другу, на определенном расстоянии. Постройка предметов мебели, горок, грузовых машин, домов. Знакомство со свойствами песка, снега, сооружая из них постройки. Нанесение на постройки из этих материалов деталей декор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детей принимать участие в создании как индивидуальных, так 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х со взрослым и детьми композиций в рисунках, лепке, аппликаци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и. Обыгрывание постройки, лепной работы и включение их в игру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37920" y="333360"/>
            <a:ext cx="6310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охотно участвует в ситуациях эстетической направленности. Есть любимые книги, изобразительные матери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моционально откликается на интересные образы, радуется красивому предмету, рисунку; с увлечением рассматривает предметы народных промыслов, игрушки, иллюст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ет простейшие изображения на основе простых форм; передает сходство с реальным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нимает участие в создании совместных композиций, испытывает совместные эмоциональные пережи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 род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не проявляет активности и эмоционального отклика при восприя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й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испытывает желания рисовать, лепить, констру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хотно участвует в создании совместных со взрослым творчески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7:34:20Z</dcterms:created>
  <dc:creator>$$$</dc:creator>
  <dc:description/>
  <dc:language>en-US</dc:language>
  <cp:lastModifiedBy>user</cp:lastModifiedBy>
  <dcterms:modified xsi:type="dcterms:W3CDTF">2015-01-25T19:46:15Z</dcterms:modified>
  <cp:revision>41</cp:revision>
  <dc:subject/>
  <dc:title>Подвижные игры в детском саду</dc:title>
</cp:coreProperties>
</file>