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FBB-E514-412E-9F22-A126520B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71B-9FF8-4C04-8B8B-2F99123C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D97-46F5-4F60-8078-083AD94A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8DB-32C9-46BD-84BF-384FEEBF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38B-1299-4244-AD29-53EBA0E9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0913-9E27-4CB0-9FF1-B45C190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147-C633-4FE4-9C72-EBF5E71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6E21-A4AB-4324-AC20-24652D78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0FBF-CC1F-464E-B028-74B1456C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2400-1CF7-41F2-839C-91687E5F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C6C8-A98E-4094-81A3-E9AAD55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7A0-74D4-43C9-B668-D4DB8E6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EDC-20CD-422F-99A8-4100030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E44-765B-4133-A684-E700EA1A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C570-9067-436F-A091-1A310C1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1EA2-5C23-4FEE-965D-82FCDE01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C5F-E716-447A-8C90-9AF17A78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F1E-12C7-41D6-9ABB-265C96F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441-40EB-4CA7-8050-6B7779D8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970-BA77-4DE2-979F-752D0C82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CB8-97FF-4D7A-95E7-3E47C0CC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B52-0E89-47FA-955E-0A00FAF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973-7AEE-4D8C-B891-9527B87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120-A3E1-4E58-80A9-BEF88F4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3C47-67CF-424B-9D56-826A300AD6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FCF2-F365-436E-B5FA-57404C86B5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561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Поиск закономерности </a:t>
            </a:r>
            <a:br>
              <a:rPr sz="6600"/>
            </a:b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в записи ряда чисел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Анимашки, картинка 2763"/>
          <p:cNvPicPr/>
          <p:nvPr/>
        </p:nvPicPr>
        <p:blipFill>
          <a:blip r:embed="rId1"/>
          <a:stretch/>
        </p:blipFill>
        <p:spPr>
          <a:xfrm>
            <a:off x="1835280" y="0"/>
            <a:ext cx="631512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-489600"/>
            <a:ext cx="75438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ОТКРЫТКИ КАРТИНКИ"/>
          <p:cNvPicPr/>
          <p:nvPr/>
        </p:nvPicPr>
        <p:blipFill>
          <a:blip r:embed="rId1"/>
          <a:stretch/>
        </p:blipFill>
        <p:spPr>
          <a:xfrm>
            <a:off x="7308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3860280"/>
            <a:ext cx="8713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46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Реши                                                                                                                         </a:t>
            </a: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самостоятельн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Новогодние картинки снеговик Новогодние картинки 2014 Новый год 2014 - год лошади"/>
          <p:cNvPicPr/>
          <p:nvPr/>
        </p:nvPicPr>
        <p:blipFill>
          <a:blip r:embed="rId1"/>
          <a:stretch/>
        </p:blipFill>
        <p:spPr>
          <a:xfrm>
            <a:off x="1476360" y="260280"/>
            <a:ext cx="55450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16320" y="3429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Мои детки. СНЕГОВИК. РАСКРАСКИ."/>
          <p:cNvPicPr/>
          <p:nvPr/>
        </p:nvPicPr>
        <p:blipFill>
          <a:blip r:embed="rId1"/>
          <a:stretch/>
        </p:blipFill>
        <p:spPr>
          <a:xfrm>
            <a:off x="2333520" y="1228680"/>
            <a:ext cx="4476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-167760"/>
            <a:ext cx="75438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692280"/>
            <a:ext cx="8424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снежинки, графика, снеговик, зелёный, зима, праздник, новый год, рождество - (картинка, изображение, фото, обои 473838)"/>
          <p:cNvPicPr/>
          <p:nvPr/>
        </p:nvPicPr>
        <p:blipFill>
          <a:blip r:embed="rId1"/>
          <a:stretch/>
        </p:blipFill>
        <p:spPr>
          <a:xfrm>
            <a:off x="1908000" y="3297240"/>
            <a:ext cx="57596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ь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влять закономерность в записи чис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ть вычислительные навы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вершенствовать умение решать зада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УСТНЫЙ СЧ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4 + 4           5 + 5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2 – 9         6 + 3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 + 5          11 - 7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13 – 8         11 - 9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tencil"/>
              </a:rPr>
              <a:t>9    3    6    7    8    2    4    5</a:t>
            </a:r>
            <a:br>
              <a:rPr sz="6000"/>
            </a:br>
            <a:r>
              <a:rPr b="1" lang="en-US" sz="6000" spc="-1" strike="noStrike">
                <a:solidFill>
                  <a:srgbClr val="eaeaea"/>
                </a:solidFill>
                <a:latin typeface="Stencil"/>
              </a:rPr>
              <a:t>Г    Е   О   Н   С    К    В   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СНЕГОВИ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" descr="Рождество. Снеговики. - Праздники - Клипарты PNG - Клипарты у Анны."/>
          <p:cNvPicPr/>
          <p:nvPr/>
        </p:nvPicPr>
        <p:blipFill>
          <a:blip r:embed="rId1"/>
          <a:stretch/>
        </p:blipFill>
        <p:spPr>
          <a:xfrm>
            <a:off x="2556000" y="1628640"/>
            <a:ext cx="4680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60" y="333360"/>
            <a:ext cx="4583160" cy="652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95280" y="155736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38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Лепим - Страница 2 - Пивнушка - Тоже Форум"/>
          <p:cNvPicPr/>
          <p:nvPr/>
        </p:nvPicPr>
        <p:blipFill>
          <a:blip r:embed="rId2"/>
          <a:stretch/>
        </p:blipFill>
        <p:spPr>
          <a:xfrm>
            <a:off x="3924360" y="333360"/>
            <a:ext cx="5041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54, 57, 60, 63, 66</a:t>
            </a:r>
            <a:br>
              <a:rPr sz="7200"/>
            </a:b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68, 73, 78, 83, 88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Позитивчик для понедельника и не только - Рубцовский городской форум"/>
          <p:cNvPicPr/>
          <p:nvPr/>
        </p:nvPicPr>
        <p:blipFill>
          <a:blip r:embed="rId1"/>
          <a:stretch/>
        </p:blipFill>
        <p:spPr>
          <a:xfrm>
            <a:off x="2987640" y="2781360"/>
            <a:ext cx="2962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14720" y="1981080"/>
            <a:ext cx="36954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8920" y="3644640"/>
            <a:ext cx="2737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76720" y="5157360"/>
            <a:ext cx="586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на 8 больш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UHQ Stock Photo - Snowmans &amp; Santa Снеговики и Санта"/>
          <p:cNvPicPr/>
          <p:nvPr/>
        </p:nvPicPr>
        <p:blipFill>
          <a:blip r:embed="rId2"/>
          <a:stretch/>
        </p:blipFill>
        <p:spPr>
          <a:xfrm>
            <a:off x="250920" y="260280"/>
            <a:ext cx="482580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Вектор движения- Рождество Снеговик &quot; Allpolus.com - все для дизайна и видеомонтажа. Photoshop, клипарты, футажи, шаблоны."/>
          <p:cNvPicPr/>
          <p:nvPr/>
        </p:nvPicPr>
        <p:blipFill>
          <a:blip r:embed="rId3"/>
          <a:stretch/>
        </p:blipFill>
        <p:spPr>
          <a:xfrm>
            <a:off x="4211640" y="2637000"/>
            <a:ext cx="47624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1)7 + 8 =15 (с.) – играли на улице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2) 7 + 15 = 22 (с.) – всего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Ответ: 22 снегови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4:05:55Z</dcterms:created>
  <dc:creator>Татьяна</dc:creator>
  <dc:description/>
  <dc:language>en-US</dc:language>
  <cp:lastModifiedBy>Татьяна</cp:lastModifiedBy>
  <dcterms:modified xsi:type="dcterms:W3CDTF">2015-01-25T15:22:40Z</dcterms:modified>
  <cp:revision>13</cp:revision>
  <dc:subject/>
  <dc:title>РЕШЕНИЕ ЗАДАЧ</dc:title>
</cp:coreProperties>
</file>