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gif" ContentType="image/gif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865-51B7-4CF7-8DB3-B9561896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82E-1C6E-412F-9752-EAA594BD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ECE-31AC-43A3-BB3C-D5855A88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37D-8D30-4F53-9D30-27E74B75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C839-A93C-472B-96F0-A043B317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76C9-5F13-4522-87B3-B7186DAE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7C14-351D-467B-A11A-2DD929CF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6E4F-0165-4CFF-9993-F5DDD048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9998-BB1E-4826-AB88-AD6194C1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1A68-6FF8-4DFB-953A-7700E507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DF26-4B92-42F4-B0EE-0E792C34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9F3-4BF4-487F-AA90-202021DF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5A8C-1423-467E-8571-A3BC44F9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A48B-B01B-4D67-9788-FC6B4B7D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0CC4-43B8-4D90-BC18-BD04F21D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3A85-4287-4DFF-84DB-56A4276E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4536-1B5A-42D2-9F7B-8A6F3848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13C5-AB53-48EB-9C16-C58AEB88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A60-2A5E-4728-BE11-EA1E700D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868-06E2-41DD-AD26-3500AAB7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5DC-B0E8-4BA4-B7C3-267DDC00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732-F22C-44ED-A22C-7260ED4E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160-F71B-4722-894B-C99D34E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8C5-69B7-463F-B6AC-C9ADE0DE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EF66-97BC-49F0-A495-B11F3681A9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A890-A5CE-4850-BCCD-5D8524000FC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561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Поиск закономерности </a:t>
            </a:r>
            <a:br>
              <a:rPr sz="6600"/>
            </a:b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в записи ряда чисел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Анимашки, картинка 2763"/>
          <p:cNvPicPr/>
          <p:nvPr/>
        </p:nvPicPr>
        <p:blipFill>
          <a:blip r:embed="rId1"/>
          <a:stretch/>
        </p:blipFill>
        <p:spPr>
          <a:xfrm>
            <a:off x="1835280" y="0"/>
            <a:ext cx="631512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-489600"/>
            <a:ext cx="75438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914720" y="1981080"/>
            <a:ext cx="3695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ОТКРЫТКИ КАРТИНКИ"/>
          <p:cNvPicPr/>
          <p:nvPr/>
        </p:nvPicPr>
        <p:blipFill>
          <a:blip r:embed="rId1"/>
          <a:stretch/>
        </p:blipFill>
        <p:spPr>
          <a:xfrm>
            <a:off x="73080" y="0"/>
            <a:ext cx="51530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914720" y="4114440"/>
            <a:ext cx="3695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3860280"/>
            <a:ext cx="8713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469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Реши                                                                                                                         </a:t>
            </a:r>
            <a:r>
              <a:rPr b="1" lang="en-US" sz="5400" spc="-1" strike="noStrike">
                <a:solidFill>
                  <a:srgbClr val="ff0066"/>
                </a:solidFill>
                <a:latin typeface="Tahoma"/>
              </a:rPr>
              <a:t>самостоятельн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Новогодние картинки снеговик Новогодние картинки 2014 Новый год 2014 - год лошади"/>
          <p:cNvPicPr/>
          <p:nvPr/>
        </p:nvPicPr>
        <p:blipFill>
          <a:blip r:embed="rId1"/>
          <a:stretch/>
        </p:blipFill>
        <p:spPr>
          <a:xfrm>
            <a:off x="1476360" y="260280"/>
            <a:ext cx="55450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89000"/>
            <a:ext cx="8064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616320" y="3429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Мои детки. СНЕГОВИК. РАСКРАСКИ."/>
          <p:cNvPicPr/>
          <p:nvPr/>
        </p:nvPicPr>
        <p:blipFill>
          <a:blip r:embed="rId1"/>
          <a:stretch/>
        </p:blipFill>
        <p:spPr>
          <a:xfrm>
            <a:off x="2333520" y="1228680"/>
            <a:ext cx="4476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-167760"/>
            <a:ext cx="75438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692280"/>
            <a:ext cx="842472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снежинки, графика, снеговик, зелёный, зима, праздник, новый год, рождество - (картинка, изображение, фото, обои 473838)"/>
          <p:cNvPicPr/>
          <p:nvPr/>
        </p:nvPicPr>
        <p:blipFill>
          <a:blip r:embed="rId1"/>
          <a:stretch/>
        </p:blipFill>
        <p:spPr>
          <a:xfrm>
            <a:off x="1908000" y="3297240"/>
            <a:ext cx="575964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Цель урок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влять закономерность в записи чис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вершенствовать вычислительные навы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вершенствовать умение решать зада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УСТНЫЙ СЧ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4 + 4           5 + 5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12 – 9         6 + 3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1 + 5          11 - 7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13 – 8         11 - 9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Stencil"/>
              </a:rPr>
              <a:t>9    3    6    7    8    2    4    5</a:t>
            </a:r>
            <a:br>
              <a:rPr sz="6000"/>
            </a:br>
            <a:r>
              <a:rPr b="1" lang="en-US" sz="6000" spc="-1" strike="noStrike">
                <a:solidFill>
                  <a:srgbClr val="eaeaea"/>
                </a:solidFill>
                <a:latin typeface="Stencil"/>
              </a:rPr>
              <a:t>Г    Е   О   Н   С    К    В   И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СНЕГОВИ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7" name="" descr="Рождество. Снеговики. - Праздники - Клипарты PNG - Клипарты у Анны."/>
          <p:cNvPicPr/>
          <p:nvPr/>
        </p:nvPicPr>
        <p:blipFill>
          <a:blip r:embed="rId1"/>
          <a:stretch/>
        </p:blipFill>
        <p:spPr>
          <a:xfrm>
            <a:off x="2556000" y="1628640"/>
            <a:ext cx="4680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360" y="333360"/>
            <a:ext cx="4583160" cy="6524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95280" y="155736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38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Лепим - Страница 2 - Пивнушка - Тоже Форум"/>
          <p:cNvPicPr/>
          <p:nvPr/>
        </p:nvPicPr>
        <p:blipFill>
          <a:blip r:embed="rId2"/>
          <a:stretch/>
        </p:blipFill>
        <p:spPr>
          <a:xfrm>
            <a:off x="3924360" y="333360"/>
            <a:ext cx="5041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138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ahoma"/>
              </a:rPr>
              <a:t>54, 57, 60, 63, 66</a:t>
            </a:r>
            <a:br>
              <a:rPr sz="7200"/>
            </a:br>
            <a:r>
              <a:rPr b="1" lang="en-US" sz="7200" spc="-1" strike="noStrike">
                <a:solidFill>
                  <a:srgbClr val="eaeaea"/>
                </a:solidFill>
                <a:latin typeface="Tahoma"/>
              </a:rPr>
              <a:t>68, 73, 78, 83, 88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" descr="Позитивчик для понедельника и не только - Рубцовский городской форум"/>
          <p:cNvPicPr/>
          <p:nvPr/>
        </p:nvPicPr>
        <p:blipFill>
          <a:blip r:embed="rId1"/>
          <a:stretch/>
        </p:blipFill>
        <p:spPr>
          <a:xfrm>
            <a:off x="2987640" y="2781360"/>
            <a:ext cx="2962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14720" y="1981080"/>
            <a:ext cx="3695400" cy="1981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78920" y="3644640"/>
            <a:ext cx="273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76720" y="5157360"/>
            <a:ext cx="58672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на 8 больш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UHQ Stock Photo - Snowmans &amp; Santa Снеговики и Санта"/>
          <p:cNvPicPr/>
          <p:nvPr/>
        </p:nvPicPr>
        <p:blipFill>
          <a:blip r:embed="rId2"/>
          <a:stretch/>
        </p:blipFill>
        <p:spPr>
          <a:xfrm>
            <a:off x="250920" y="260280"/>
            <a:ext cx="482580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Вектор движения- Рождество Снеговик &quot; Allpolus.com - все для дизайна и видеомонтажа. Photoshop, клипарты, футажи, шаблоны."/>
          <p:cNvPicPr/>
          <p:nvPr/>
        </p:nvPicPr>
        <p:blipFill>
          <a:blip r:embed="rId3"/>
          <a:stretch/>
        </p:blipFill>
        <p:spPr>
          <a:xfrm>
            <a:off x="4211640" y="2637000"/>
            <a:ext cx="47624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1)7 + 8 =15 (с.) – играли на улице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2) 7 + 15 = 22 (с.) – всего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Ответ: 22 снегови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4:05:55Z</dcterms:created>
  <dc:creator>Татьяна</dc:creator>
  <dc:description/>
  <dc:language>en-US</dc:language>
  <cp:lastModifiedBy>Татьяна</cp:lastModifiedBy>
  <dcterms:modified xsi:type="dcterms:W3CDTF">2015-01-25T15:22:40Z</dcterms:modified>
  <cp:revision>13</cp:revision>
  <dc:subject/>
  <dc:title>РЕШЕНИЕ ЗАДАЧ</dc:title>
</cp:coreProperties>
</file>