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46D-9353-4605-9A92-29A9F5B5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F05-C1D8-4813-A018-E2BA021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EA1-C1A3-4EED-B13C-D9EE9CD7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5CD-D8F0-421E-923A-81F58312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83A-B030-4256-802F-79CFBC4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47-41FD-4FA6-B5F1-4D5FF12D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2B6-62A6-45AC-A705-773A220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1DF-947C-4B85-A659-2F77D48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6EC-6529-42C1-8D58-657FA3A4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E72-5B1D-4049-BF04-5531748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61C-C93D-46EC-BC3B-FE02421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45E-25E8-42C6-9FE6-DE8A53D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B4B-1F73-49F7-9CB2-90D54A288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28760" y="1687680"/>
            <a:ext cx="8207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Тема: Дидактическое обеспечение темы «Представление данных в виде диаграм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44360" y="115920"/>
            <a:ext cx="8891640" cy="66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16000" y="189000"/>
            <a:ext cx="871380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500120" y="21708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ыпускная квалификацион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88840" y="5553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Автор: Толстова Ан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961920" y="5985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уководитель: Вегерин Васили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95280" y="1035720"/>
            <a:ext cx="8424720" cy="55389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ашего исследования обусловлена тем, что в условиях перехода к информационному этапу своего развития общество предъявляет новые требования к развитию личности, готовой к быстрому восприятию и обработке больших объемов информации, вооруженной современными средствами и технологиями работы, в частности технологиями обработки числовой информации в электронных таб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F16-F24D-4FE2-AC3A-854579643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954080" y="17640"/>
            <a:ext cx="60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Методологический аппа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95280" y="1427040"/>
            <a:ext cx="8424720" cy="47563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Объект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цесс изуч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базовом курсе информатики средн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Предмет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учение темы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ставить дидактический материал по изучению темы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13E-644C-48CC-BE32-33160B4C9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79440" y="431640"/>
            <a:ext cx="8424720" cy="61790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Задачи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ыявить роль графического представления данных в виде диаграмм в современном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ть учебно-методические рекомендации по изучению темы: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учить возмож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о представлению данных в виде диа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добрать практические задания по изучению темы «Представление данных в виде диаграм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88D6-399C-4BC1-8A09-C30DEE883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95280" y="2064240"/>
            <a:ext cx="8424720" cy="24710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добранный дидактический материал позволит упростить освоения темы «Представление данных в виде диаграм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2A01-1528-4EC5-AB4A-79A2A24ED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468360" y="934560"/>
            <a:ext cx="8280360" cy="45493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- (греч. diagramma - изображение, рисунок, чертёж) графическое представление данных, позволяющее быстро оценить соотношение нескольких величин. Представляет собой геометрическое символьное изображение информации с применением различных приёмов техники визу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563-D774-4738-AF4C-60CA7E519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468360" y="2293560"/>
            <a:ext cx="8280360" cy="30189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имущество диаграмм перед другими типами наглядной статистической информации заключается в том, что они позволяют быстро произвести логический вывод из большого количества получен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82980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реимущества ди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83A-DCCF-48F5-A859-BD5D9AFCF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4360" y="406080"/>
            <a:ext cx="768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иды диаграм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60640" y="125424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ы-линии (граф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http://upload.wikimedia.org/wikipedia/commons/thumb/8/88/I1_Line_RSG-Diagram.PNG/250px-I1_Line_RSG-Diagram.PNG"/>
          <p:cNvPicPr/>
          <p:nvPr/>
        </p:nvPicPr>
        <p:blipFill>
          <a:blip r:embed="rId1"/>
          <a:stretch/>
        </p:blipFill>
        <p:spPr>
          <a:xfrm>
            <a:off x="1116000" y="171612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http://upload.wikimedia.org/wikipedia/commons/thumb/8/81/I3_Histogram.PNG/250px-I3_Histogram.PNG"/>
          <p:cNvPicPr/>
          <p:nvPr/>
        </p:nvPicPr>
        <p:blipFill>
          <a:blip r:embed="rId2"/>
          <a:stretch/>
        </p:blipFill>
        <p:spPr>
          <a:xfrm>
            <a:off x="5729400" y="1716120"/>
            <a:ext cx="2381040" cy="20955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5772960" y="1271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Гист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http://upload.wikimedia.org/wikipedia/commons/thumb/2/24/I4_Circ_feren_diagram.PNG/250px-I4_Circ_feren_diagram.PNG"/>
          <p:cNvPicPr/>
          <p:nvPr/>
        </p:nvPicPr>
        <p:blipFill>
          <a:blip r:embed="rId3"/>
          <a:stretch/>
        </p:blipFill>
        <p:spPr>
          <a:xfrm>
            <a:off x="3335400" y="4653000"/>
            <a:ext cx="2381040" cy="2095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657800" y="404640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Круговые (секторные)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FF2-576A-459C-A143-87EAD0227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8:51:59Z</dcterms:created>
  <dc:creator>кабинет41</dc:creator>
  <dc:description/>
  <dc:language>en-US</dc:language>
  <cp:lastModifiedBy>Нюша</cp:lastModifiedBy>
  <dcterms:modified xsi:type="dcterms:W3CDTF">2014-06-22T14:42:29Z</dcterms:modified>
  <cp:revision>56</cp:revision>
  <dc:subject/>
  <dc:title>Слайд 1</dc:title>
</cp:coreProperties>
</file>