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92F-32D7-43C7-871A-78FA79F7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B49-8505-41B0-A871-067B9BC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DD2-E735-47F7-92E3-09D43AF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2AA-D870-4DF5-9484-B4322A5E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7C0-0D8E-4370-9641-0911854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FD8-B007-49CC-B31E-645AC0E5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C54-1B98-40CB-B729-BE834CC8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0C3-469C-4553-8701-FB5660E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AB0-0E51-46A3-AF74-5AEB006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B5C-6750-40BA-A21F-E24A208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E28-A9E4-4337-9713-7A3FFFE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23E-4262-4FB2-A6CB-B886DDF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BF1-9351-4AD1-B885-4B9D2A770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28760" y="1687680"/>
            <a:ext cx="8207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Тема: Дидактическое обеспечение темы «Представление данных в виде диаграм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144360" y="115920"/>
            <a:ext cx="8891640" cy="66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16000" y="189000"/>
            <a:ext cx="871380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500120" y="21708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ыпускная квалификацион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88840" y="5553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Автор: Толстова Ан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961920" y="5985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уководитель: Вегерин Василий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95280" y="1035720"/>
            <a:ext cx="8424720" cy="55389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ашего исследования обусловлена тем, что в условиях перехода к информационному этапу своего развития общество предъявляет новые требования к развитию личности, готовой к быстрому восприятию и обработке больших объемов информации, вооруженной современными средствами и технологиями работы, в частности технологиями обработки числовой информации в электронных таб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C12-63DA-47E3-863C-1436F7296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954080" y="17640"/>
            <a:ext cx="60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Методологический аппа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95280" y="1427040"/>
            <a:ext cx="8424720" cy="47563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Объект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цесс изуч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базовом курсе информатики средн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Предмет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учение темы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ставить дидактический материал по изучению темы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 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439D-53CD-46EB-AE01-40DE15EC7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79440" y="431640"/>
            <a:ext cx="8424720" cy="61790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Задачи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ыявить роль графического представления данных в виде диаграмм в современном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ть учебно-методические рекомендации по изучению темы: «Представление данных в виде диаграмм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учить возмож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о представлению данных в виде диа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добрать практические задания по изучению темы «Представление данных в виде диаграм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771-DA0F-4B89-B5D3-E7F5D6B53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95280" y="2064240"/>
            <a:ext cx="8424720" cy="24710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" algn="just">
              <a:lnSpc>
                <a:spcPct val="15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добранный дидактический материал позволит упростить освоения темы «Представление данных в виде диаграм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just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165-46D7-4B4B-A198-70C2A7DCA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468360" y="934560"/>
            <a:ext cx="8280360" cy="45493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- (греч. diagramma - изображение, рисунок, чертёж) графическое представление данных, позволяющее быстро оценить соотношение нескольких величин. Представляет собой геометрическое символьное изображение информации с применением различных приёмов техники визу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415-C84C-4206-A9FD-BC65D7416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468360" y="2293560"/>
            <a:ext cx="8280360" cy="30189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имущество диаграмм перед другими типами наглядной статистической информации заключается в том, что они позволяют быстро произвести логический вывод из большого количества получен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82980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реимущества ди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466-D743-465F-B375-51E38DCC5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4360" y="406080"/>
            <a:ext cx="768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иды диаграм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60640" y="125424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ы-линии (граф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http://upload.wikimedia.org/wikipedia/commons/thumb/8/88/I1_Line_RSG-Diagram.PNG/250px-I1_Line_RSG-Diagram.PNG"/>
          <p:cNvPicPr/>
          <p:nvPr/>
        </p:nvPicPr>
        <p:blipFill>
          <a:blip r:embed="rId1"/>
          <a:stretch/>
        </p:blipFill>
        <p:spPr>
          <a:xfrm>
            <a:off x="1116000" y="171612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http://upload.wikimedia.org/wikipedia/commons/thumb/8/81/I3_Histogram.PNG/250px-I3_Histogram.PNG"/>
          <p:cNvPicPr/>
          <p:nvPr/>
        </p:nvPicPr>
        <p:blipFill>
          <a:blip r:embed="rId2"/>
          <a:stretch/>
        </p:blipFill>
        <p:spPr>
          <a:xfrm>
            <a:off x="5729400" y="1716120"/>
            <a:ext cx="2381040" cy="20955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5772960" y="1271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Гист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http://upload.wikimedia.org/wikipedia/commons/thumb/2/24/I4_Circ_feren_diagram.PNG/250px-I4_Circ_feren_diagram.PNG"/>
          <p:cNvPicPr/>
          <p:nvPr/>
        </p:nvPicPr>
        <p:blipFill>
          <a:blip r:embed="rId3"/>
          <a:stretch/>
        </p:blipFill>
        <p:spPr>
          <a:xfrm>
            <a:off x="3335400" y="4653000"/>
            <a:ext cx="2381040" cy="2095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657800" y="404640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Круговые (секторные)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BF5-44FD-45BA-9A65-591A79D12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8:51:59Z</dcterms:created>
  <dc:creator>кабинет41</dc:creator>
  <dc:description/>
  <dc:language>en-US</dc:language>
  <cp:lastModifiedBy>Нюша</cp:lastModifiedBy>
  <dcterms:modified xsi:type="dcterms:W3CDTF">2014-06-22T14:42:29Z</dcterms:modified>
  <cp:revision>56</cp:revision>
  <dc:subject/>
  <dc:title>Слайд 1</dc:title>
</cp:coreProperties>
</file>