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610-0527-4BAF-88E7-C8E6360C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E50-6682-4F3C-B5F2-7008D73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D45-FCB3-424C-B91B-53EA173A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214-8D88-4986-AE5F-9485C6A0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F05-627B-4E75-97B7-B5FB4D9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B1A-4F2D-4279-8F5A-0C3FC509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28E-142B-4DBA-A71D-3CB92621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879-ADF9-4D17-A951-A29B2B93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AAE-1494-4380-B134-130251FC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A9D-FB83-4640-A238-E09F4A4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9F8-079E-43F0-962D-723B12D6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8B0-FDCB-488B-A352-DEC8642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47AF-8611-4ED8-AE23-6CCF890289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следование влияния несанкционированных свалок в микрорайоне Колычево на эколого-геологические компоненты окружающей среды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р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ылова Анна Константиновна ученица 9 класса МБОУ СОШ №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о. Колом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чвы, взятые в местах стихийных свал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384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к 50-летия Октябр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ивная  реакция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: кислые 5,9…6,2; Содержание желез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ределах нормы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фт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хл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льция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выш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рег реки Оки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ивная реакция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: кислые 6,2…6,3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желез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ределах норм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фт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хлора: повышенно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держани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льц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 повышен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268360" y="270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Талый снег и вода из лужи, взятые в районе свалки в парке 50-летия Октябр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ид сбоку - едва уловимый бледно-желтый, вид сверху – более заметный бледно-желтоват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зрачность \ мутность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довлетворительно прозрачная, наличие взвешенных частиц весьма знач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пах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ого происхождения, торфяной, интенсивность запаха заметная \ 3 балла \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х замеч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ктивная  реакция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)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8…6,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4608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тановить рост стихийных свалок просто, и мы сами можем это сделать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3" descr="9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Asy09LHyO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0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gb_766d87c801498ce5823ad111bf890c93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14_422948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3"/>
          <p:cNvSpPr/>
          <p:nvPr/>
        </p:nvSpPr>
        <p:spPr>
          <a:xfrm flipH="1">
            <a:off x="1979640" y="904572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-541440" y="3933720"/>
            <a:ext cx="849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5" descr="i?id=233388974-30-72&amp;n=2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0" y="32328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Места отдыха       коломчан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2(1)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G_1737"/>
          <p:cNvPicPr/>
          <p:nvPr/>
        </p:nvPicPr>
        <p:blipFill>
          <a:blip r:embed="rId3"/>
          <a:srcRect l="19215" t="31729" r="0" b="0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i?id=103026416-30-72&amp;n=21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i?id=104926747-25-72&amp;n=21"/>
          <p:cNvPicPr/>
          <p:nvPr/>
        </p:nvPicPr>
        <p:blipFill>
          <a:blip r:embed="rId2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?id=5399113-28-72&amp;n=21"/>
          <p:cNvPicPr/>
          <p:nvPr/>
        </p:nvPicPr>
        <p:blipFill>
          <a:blip r:embed="rId3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?id=381265116-13-72&amp;n=21"/>
          <p:cNvPicPr/>
          <p:nvPr/>
        </p:nvPicPr>
        <p:blipFill>
          <a:blip r:embed="rId4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рк 50-летия Октября- охраняемый природный объек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3" descr="10"/>
          <p:cNvPicPr/>
          <p:nvPr/>
        </p:nvPicPr>
        <p:blipFill>
          <a:blip r:embed="rId1"/>
          <a:stretch/>
        </p:blipFill>
        <p:spPr>
          <a:xfrm>
            <a:off x="539640" y="1844640"/>
            <a:ext cx="3888000" cy="460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9"/>
          <p:cNvPicPr/>
          <p:nvPr/>
        </p:nvPicPr>
        <p:blipFill>
          <a:blip r:embed="rId2"/>
          <a:stretch/>
        </p:blipFill>
        <p:spPr>
          <a:xfrm>
            <a:off x="4643280" y="184464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чественный состав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сора  в местах стихийных свалок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астик – 46%, стекло – 35%,металлы – 12% и  7% приходится на быстроразлагающиеся вещества (бумага и пищевые отходы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1835280" y="2852640"/>
          <a:ext cx="540072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540072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пределение активной реакции (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H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) почвы и воды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3" descr="P4080022"/>
          <p:cNvPicPr/>
          <p:nvPr/>
        </p:nvPicPr>
        <p:blipFill>
          <a:blip r:embed="rId1"/>
          <a:stretch/>
        </p:blipFill>
        <p:spPr>
          <a:xfrm>
            <a:off x="603360" y="2203560"/>
            <a:ext cx="4011480" cy="276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P4080025"/>
          <p:cNvPicPr/>
          <p:nvPr/>
        </p:nvPicPr>
        <p:blipFill>
          <a:blip r:embed="rId2"/>
          <a:stretch/>
        </p:blipFill>
        <p:spPr>
          <a:xfrm>
            <a:off x="3924360" y="306864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4080035"/>
          <p:cNvPicPr/>
          <p:nvPr/>
        </p:nvPicPr>
        <p:blipFill>
          <a:blip r:embed="rId1"/>
          <a:srcRect l="0" t="0" r="0" b="25834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4080026"/>
          <p:cNvPicPr/>
          <p:nvPr/>
        </p:nvPicPr>
        <p:blipFill>
          <a:blip r:embed="rId1"/>
          <a:srcRect l="0" t="3012" r="4594" b="290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5:15:05Z</dcterms:created>
  <dc:creator>АНЯ</dc:creator>
  <dc:description/>
  <dc:language>en-US</dc:language>
  <cp:lastModifiedBy>User</cp:lastModifiedBy>
  <dcterms:modified xsi:type="dcterms:W3CDTF">2015-01-24T20:43:15Z</dcterms:modified>
  <cp:revision>29</cp:revision>
  <dc:subject/>
  <dc:title>Влияние несанкционированных свалок бытовых отходов на природные компоненты (почву и воду). </dc:title>
</cp:coreProperties>
</file>