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136-C4CD-4BCF-B44F-CCC607A2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1E1-3C5F-43AA-9830-476F1A8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F1B-F000-479F-8F10-FF76D0A9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511-B8A3-44BF-8061-31EE1FD7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440-3CF5-4577-ABE7-11671A1A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016-94ED-46E1-8EAD-65B7A04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0EB-9D27-48AF-B174-A772BA7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051-437D-49BB-A425-2CF7B8E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630-4733-46D7-A3E5-BB519DD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968-F4E9-4E8A-A53D-B4EA67E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F8B-B143-42FE-BEB0-8A6DE26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6F9-B3AC-439E-A794-4BD313D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D85-17CC-435F-A6AC-81CFFD3E2E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следование влияния несанкционированных свалок в микрорайоне Колычево на эколого-геологические компоненты окружающей среды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р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ылова Анна Константиновна ученица 9 класса МБОУ СОШ №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о. Колом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чвы, взятые в местах стихийных свал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384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к 50-летия Октябр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ивная  реакция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: кислые 5,9…6,2; Содержание желез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ределах нормы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фт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хл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ьция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ыш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рег реки Оки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ивная реакция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: кислые 6,2…6,3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желез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ределах норм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фт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хл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ьц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 повыш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26836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алый снег и вода из лужи, взятые в районе свалки в парке 50-летия Октябр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д сбоку - едва уловимый бледно-желтый, вид сверху – более заметный бледно-желтова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зрачность \ мутность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довлетворительно прозрачная, наличие взвешенных частиц весьма знач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пах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ого происхождения, торфяной, интенсивность запаха заметная \ 3 балла \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х заме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ктивная  реакция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8…6,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тановить рост стихийных свалок просто, и мы сами можем это сделать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9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sy09LHyO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0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gb_766d87c801498ce5823ad111bf890c93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14_422948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3"/>
          <p:cNvSpPr/>
          <p:nvPr/>
        </p:nvSpPr>
        <p:spPr>
          <a:xfrm flipH="1">
            <a:off x="1979640" y="904572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541440" y="3933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5" descr="i?id=233388974-30-72&amp;n=2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32328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Места отдыха       коломчан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2(1)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G_1737"/>
          <p:cNvPicPr/>
          <p:nvPr/>
        </p:nvPicPr>
        <p:blipFill>
          <a:blip r:embed="rId3"/>
          <a:srcRect l="19215" t="31729" r="0" b="0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?id=103026416-30-72&amp;n=2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i?id=104926747-25-72&amp;n=21"/>
          <p:cNvPicPr/>
          <p:nvPr/>
        </p:nvPicPr>
        <p:blipFill>
          <a:blip r:embed="rId2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?id=5399113-28-72&amp;n=21"/>
          <p:cNvPicPr/>
          <p:nvPr/>
        </p:nvPicPr>
        <p:blipFill>
          <a:blip r:embed="rId3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?id=381265116-13-72&amp;n=21"/>
          <p:cNvPicPr/>
          <p:nvPr/>
        </p:nvPicPr>
        <p:blipFill>
          <a:blip r:embed="rId4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рк 50-летия Октября- охраняемый природный объе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3" descr="10"/>
          <p:cNvPicPr/>
          <p:nvPr/>
        </p:nvPicPr>
        <p:blipFill>
          <a:blip r:embed="rId1"/>
          <a:stretch/>
        </p:blipFill>
        <p:spPr>
          <a:xfrm>
            <a:off x="539640" y="1844640"/>
            <a:ext cx="3888000" cy="460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9"/>
          <p:cNvPicPr/>
          <p:nvPr/>
        </p:nvPicPr>
        <p:blipFill>
          <a:blip r:embed="rId2"/>
          <a:stretch/>
        </p:blipFill>
        <p:spPr>
          <a:xfrm>
            <a:off x="4643280" y="184464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чественный состав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сора  в местах стихийных свалок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астик – 46%, стекло – 35%,металлы – 12% и  7% приходится на быстроразлагающиеся вещества (бумага и пищевые отходы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1835280" y="2852640"/>
          <a:ext cx="540072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540072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пределение активной реакции (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H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) почвы и воды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3" descr="P4080022"/>
          <p:cNvPicPr/>
          <p:nvPr/>
        </p:nvPicPr>
        <p:blipFill>
          <a:blip r:embed="rId1"/>
          <a:stretch/>
        </p:blipFill>
        <p:spPr>
          <a:xfrm>
            <a:off x="603360" y="2203560"/>
            <a:ext cx="4011480" cy="27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P4080025"/>
          <p:cNvPicPr/>
          <p:nvPr/>
        </p:nvPicPr>
        <p:blipFill>
          <a:blip r:embed="rId2"/>
          <a:stretch/>
        </p:blipFill>
        <p:spPr>
          <a:xfrm>
            <a:off x="3924360" y="306864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4080035"/>
          <p:cNvPicPr/>
          <p:nvPr/>
        </p:nvPicPr>
        <p:blipFill>
          <a:blip r:embed="rId1"/>
          <a:srcRect l="0" t="0" r="0" b="25834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4080026"/>
          <p:cNvPicPr/>
          <p:nvPr/>
        </p:nvPicPr>
        <p:blipFill>
          <a:blip r:embed="rId1"/>
          <a:srcRect l="0" t="3012" r="4594" b="29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5:15:05Z</dcterms:created>
  <dc:creator>АНЯ</dc:creator>
  <dc:description/>
  <dc:language>en-US</dc:language>
  <cp:lastModifiedBy>User</cp:lastModifiedBy>
  <dcterms:modified xsi:type="dcterms:W3CDTF">2015-01-24T20:43:15Z</dcterms:modified>
  <cp:revision>29</cp:revision>
  <dc:subject/>
  <dc:title>Влияние несанкционированных свалок бытовых отходов на природные компоненты (почву и воду). </dc:title>
</cp:coreProperties>
</file>