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2CC-0182-4934-A699-5401A3C2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818-5C11-49D8-803C-4A6EC2C4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152-8E2D-4F2E-B2E1-7947BEFC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B42-8180-4EA5-AD11-8AB68215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988C-8D98-47F7-9548-1872F09F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F671-356C-45D0-ADEC-C027DD12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7C1D-10C0-4015-A675-17EE7EDB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32CC-2682-45B6-A793-D5A2DD73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2824-86AC-40A6-8247-D2CC00E1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5A93-F592-4617-8F16-DBA345CE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99F8-2B86-4EED-8680-108FE271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33F-C3DD-4784-B164-BA80A27D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5310-AAAB-4F3A-9C02-37E68949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82F2-E5C7-4789-BF42-E4102552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DFDD-81E0-4B34-B648-85704C3B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C1B2-C418-426C-A4F7-D873EDD4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3262-3801-478B-A03B-BEE1F762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27947-800A-42D8-8A36-4C6F4A64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49036-1695-411E-9F77-AFEC5981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D827D-195E-4B6F-BEBD-5E92BE00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91F4B-656E-4E91-A650-217D3C1B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38AD6-F841-4778-90C3-E6DDA522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52D-C5BD-4E57-A0CF-B94F5243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A8B74-84BE-4EAE-9FE0-5A1EBC19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57276-AC38-4D07-AEB8-F864999A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02FD3-8F14-452B-9A3F-492A7D0C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19289-AFA3-46C0-858C-190D946B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94A2C-7E91-4A8A-A7DF-94893DE1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E362F-8B08-46CF-9180-544B2D92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52962-A2E8-4488-9DC8-443A7A96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B5BDA-AC30-4165-9F0D-2F34CAEB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70440-662C-48F0-A983-8950F6B0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CDA0C-AA89-428D-99FA-9CD7757A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3F3-4E9C-4A60-83B3-A70330DD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E8633-868A-44B8-A74E-3B2F5487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D85E8-5503-4967-84FD-C3CBB57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59470-0082-42CD-863D-4CB8FD71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116A-979D-438D-ADC1-3BBF028C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33E3E-B14A-453E-BE7F-3BA61166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C617D-BC01-429D-8060-7308B14E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E6EE1-2575-4998-8296-47692574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41443-797B-4334-A76A-7C8A7568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A39A8-3456-402C-94DE-04997D1C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CEBDE-3817-4147-AC52-845A34D2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C15-F43D-456B-9E8C-44ABE92A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17F0E-F68D-4379-BCDF-48F57D97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89632-FA09-491E-8570-140D4AC6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3823E-EB15-4F4A-9318-48CC78B4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08098-B0A0-42A6-A0A3-6813D7E8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D499D-87C6-4C26-9AFF-17853556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85E32-DBA3-4E97-B143-F12901E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5D172-AF43-454C-9649-6F8C766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781C35-44EC-4ACD-BF07-8C4138C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2E7A0-0AE9-4F04-B1D4-0C5DE32C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F7232-E88E-49D4-9A2D-D9836C08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9D4-0F6C-46E0-A5B1-C4E91FE6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7785D-8D02-4501-B20E-F4EEE203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16508-0D38-47B7-B595-6A92BEC1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ED193-6A84-4D21-8A98-7DE90858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A6DED-CED2-4660-8621-69C19853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D7ABA-AA3B-49E1-AB47-5B8C6246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7CE6A-64EB-4C39-B529-FD25373E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5B12E-5CA5-4CA0-B259-CB6F076F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82AC2-961B-4E62-AA35-6C9525AC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24668-BBDC-438A-BD38-01C88650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93230-2DE7-4D57-B2DF-7BC7B6E7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E22-AE17-454F-9D6C-5C20150D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CD420-8518-4D1A-A3DB-E02AD51A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53C2E-3E8B-4546-BA9C-11988A5B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724D3-66E5-4743-B4DA-A0A123CD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B932F-586D-4447-AB51-DFFC4F56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173CE-C95D-42BF-993A-F270DA2B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FB42E1-F1BA-47C2-B353-95ED8C77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78E5EE-FAB4-4A35-8112-7E1D4F8B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AB690-90F7-4BD8-8C98-6DC762CB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06237-596D-4BA7-9C9C-77F30819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DEBC6-0858-4C3E-8946-0DE0B7E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EC3-DF04-4034-9F84-F69BD78D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C9DC0-CC97-46D0-B06E-9EB41F2D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ED2A9-18D1-4DF1-8AA6-9879EAB0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DB10C-EB8D-44B2-A8D9-B4A3CEB5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C0495-497A-47DE-BA8C-DE0AD1C2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7E4866-9857-452C-B8D6-D62DA2EE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C23-D580-421B-83DC-8E78D736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CED2-C94C-4C28-8DF5-3699A64952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64C8-8BE9-4E6F-AE70-EF0D0380B3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385F-7C8D-4014-9975-E71542840C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54D7-EB9E-4429-A553-4216DADF81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15D0-43C5-4AD9-AED7-234ED3AC5F1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7CEB-3305-4F62-A55B-BE294EF316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CB66-14BE-4779-AF92-6F9C8DC257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3" descr="C:\Users\Дима\Downloads\Безымянный.jpg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Users\Дима\Downloads\12.jpg"/>
          <p:cNvPicPr/>
          <p:nvPr/>
        </p:nvPicPr>
        <p:blipFill>
          <a:blip r:embed="rId2"/>
          <a:stretch/>
        </p:blipFill>
        <p:spPr>
          <a:xfrm>
            <a:off x="611280" y="692280"/>
            <a:ext cx="787716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Дима\Downloads\13.jpg"/>
          <p:cNvPicPr/>
          <p:nvPr/>
        </p:nvPicPr>
        <p:blipFill>
          <a:blip r:embed="rId2"/>
          <a:stretch/>
        </p:blipFill>
        <p:spPr>
          <a:xfrm>
            <a:off x="539640" y="620640"/>
            <a:ext cx="793440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Дима\Downloads\14.jpg"/>
          <p:cNvPicPr/>
          <p:nvPr/>
        </p:nvPicPr>
        <p:blipFill>
          <a:blip r:embed="rId2"/>
          <a:stretch/>
        </p:blipFill>
        <p:spPr>
          <a:xfrm>
            <a:off x="539640" y="620640"/>
            <a:ext cx="78408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Users\Дима\Downloads\15.jpg"/>
          <p:cNvPicPr/>
          <p:nvPr/>
        </p:nvPicPr>
        <p:blipFill>
          <a:blip r:embed="rId2"/>
          <a:stretch/>
        </p:blipFill>
        <p:spPr>
          <a:xfrm>
            <a:off x="611280" y="692280"/>
            <a:ext cx="792144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Users\Дима\Downloads\16.jpg"/>
          <p:cNvPicPr/>
          <p:nvPr/>
        </p:nvPicPr>
        <p:blipFill>
          <a:blip r:embed="rId2"/>
          <a:stretch/>
        </p:blipFill>
        <p:spPr>
          <a:xfrm>
            <a:off x="611280" y="692280"/>
            <a:ext cx="782460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Дима\Downloads\21.jpg"/>
          <p:cNvPicPr/>
          <p:nvPr/>
        </p:nvPicPr>
        <p:blipFill>
          <a:blip r:embed="rId2"/>
          <a:stretch/>
        </p:blipFill>
        <p:spPr>
          <a:xfrm>
            <a:off x="611280" y="620640"/>
            <a:ext cx="79866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C:\Users\Дима\Downloads\31.jpg"/>
          <p:cNvPicPr/>
          <p:nvPr/>
        </p:nvPicPr>
        <p:blipFill>
          <a:blip r:embed="rId2"/>
          <a:stretch/>
        </p:blipFill>
        <p:spPr>
          <a:xfrm>
            <a:off x="539640" y="620640"/>
            <a:ext cx="797580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Users\Дима\Downloads\111.jpg"/>
          <p:cNvPicPr/>
          <p:nvPr/>
        </p:nvPicPr>
        <p:blipFill>
          <a:blip r:embed="rId2"/>
          <a:stretch/>
        </p:blipFill>
        <p:spPr>
          <a:xfrm>
            <a:off x="611280" y="620640"/>
            <a:ext cx="797220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C:\Users\Дима\Downloads\4.jpg"/>
          <p:cNvPicPr/>
          <p:nvPr/>
        </p:nvPicPr>
        <p:blipFill>
          <a:blip r:embed="rId2"/>
          <a:stretch/>
        </p:blipFill>
        <p:spPr>
          <a:xfrm>
            <a:off x="826920" y="692280"/>
            <a:ext cx="763272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Users\Дима\Downloads\5.jpg"/>
          <p:cNvPicPr/>
          <p:nvPr/>
        </p:nvPicPr>
        <p:blipFill>
          <a:blip r:embed="rId2"/>
          <a:stretch/>
        </p:blipFill>
        <p:spPr>
          <a:xfrm>
            <a:off x="755640" y="765000"/>
            <a:ext cx="78660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C:\Users\Дима\Downloads\6.jpg"/>
          <p:cNvPicPr/>
          <p:nvPr/>
        </p:nvPicPr>
        <p:blipFill>
          <a:blip r:embed="rId2"/>
          <a:stretch/>
        </p:blipFill>
        <p:spPr>
          <a:xfrm>
            <a:off x="611280" y="765000"/>
            <a:ext cx="807408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C:\Users\Дима\Downloads\7.jpg"/>
          <p:cNvPicPr/>
          <p:nvPr/>
        </p:nvPicPr>
        <p:blipFill>
          <a:blip r:embed="rId2"/>
          <a:stretch/>
        </p:blipFill>
        <p:spPr>
          <a:xfrm>
            <a:off x="684360" y="765000"/>
            <a:ext cx="794844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C:\Users\Дима\Downloads\8.jpg"/>
          <p:cNvPicPr/>
          <p:nvPr/>
        </p:nvPicPr>
        <p:blipFill>
          <a:blip r:embed="rId2"/>
          <a:stretch/>
        </p:blipFill>
        <p:spPr>
          <a:xfrm>
            <a:off x="684360" y="692280"/>
            <a:ext cx="800244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Дима\Downloads\9.jpg"/>
          <p:cNvPicPr/>
          <p:nvPr/>
        </p:nvPicPr>
        <p:blipFill>
          <a:blip r:embed="rId2"/>
          <a:stretch/>
        </p:blipFill>
        <p:spPr>
          <a:xfrm>
            <a:off x="611280" y="692280"/>
            <a:ext cx="788184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C:\Users\Дима\Downloads\10.jpg"/>
          <p:cNvPicPr/>
          <p:nvPr/>
        </p:nvPicPr>
        <p:blipFill>
          <a:blip r:embed="rId2"/>
          <a:stretch/>
        </p:blipFill>
        <p:spPr>
          <a:xfrm>
            <a:off x="539640" y="692280"/>
            <a:ext cx="803448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2" descr="Поиск обоев и изображений: pole Фабрика картинок - PicsFab.com. Обо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C:\Users\Дима\Downloads\11.jpg"/>
          <p:cNvPicPr/>
          <p:nvPr/>
        </p:nvPicPr>
        <p:blipFill>
          <a:blip r:embed="rId2"/>
          <a:stretch/>
        </p:blipFill>
        <p:spPr>
          <a:xfrm>
            <a:off x="611280" y="692280"/>
            <a:ext cx="811188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10:38:46Z</dcterms:created>
  <dc:creator>Дима</dc:creator>
  <dc:description/>
  <dc:language>en-US</dc:language>
  <cp:lastModifiedBy>Дима</cp:lastModifiedBy>
  <dcterms:modified xsi:type="dcterms:W3CDTF">2015-01-25T10:50:02Z</dcterms:modified>
  <cp:revision>2</cp:revision>
  <dc:subject/>
  <dc:title>Презентация PowerPoint</dc:title>
</cp:coreProperties>
</file>