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885-80DB-4FDF-BDDF-1EA881BA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FA6-F3AA-4564-A3D5-42AE6C35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B59-BFC6-482F-ACDF-71C5F82D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4B5-6BD4-43C7-807F-6B430475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7760-F106-4520-AB9F-9E13572A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FC33-2D42-4660-82A5-F7823D24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8F43-CA2E-4DB1-9902-2183CC98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5D12-58BA-44D3-8F9C-EF09382C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D217-F668-4DA4-B7D7-E8D33AC0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0F3A-0878-429C-8DC2-408D5B7A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6924-3FDF-496F-BE71-B6F71312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2E6-5F8B-40CC-A01F-18AB8B7D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C9B4-A52C-48EA-8716-20E9EF8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02A1-0C21-4F9C-A7D7-04B18A6D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D6C7-6A7A-4065-9A35-14076499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2F2A-A0D7-4C6E-8768-5109DE40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1B9F-760D-4957-9A12-EA09BFA4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A830D-3D8A-4842-9409-2E347B84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FFAB0-E0B2-442C-87D0-289EB7AB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3C977-8BED-4B9B-9E0C-F44251BB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DCD35-1A63-4047-8E7D-23E255E0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37AB0-B439-4AE6-A574-24C45067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D1D-34D9-46B9-B6B8-BF5DCA6E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29A12-8588-47D0-8AE0-5BC2CA27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C2EBB-590E-4D06-A371-9D09F081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D0B95-2A36-4E8A-BD79-2E3E93AC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56298-1FC1-4BA9-AC89-7AD5F78E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9C1EC-B023-4EF6-9F9E-6C5E966D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D2886-6101-4898-B7DC-3C51B072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21022-AF07-461A-BE64-37E3585B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1627-CBAB-4BD2-AB32-A97E75FE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476B-1A72-45A6-AEA3-42BD4D9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C173-3334-4FB2-89DA-6EAC33B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5A3-094C-4041-8708-EE7CD026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FCD3-4441-46B1-9EDA-E6118F4A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07FA-2C33-4900-9CDD-04FDA280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9D5E-165D-4A2E-96F1-EBA1338F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6607E-662C-4857-ABBC-9F5D91E2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0128-AD64-4F72-A617-E145C1D7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E7AC-D19E-4008-A10E-6E7EA34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514C-49C1-420F-A117-CDFB12C6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AEF6-10BE-4A83-A635-70331A17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190CB-E464-45AF-A29E-86571E51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F3585-1366-41F3-8051-1DA81AB4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198-2A8F-4B05-ACD4-08AB18E1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946E0-FDFF-404C-9434-C562616D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3480E-8502-48CE-9D6F-6BE1499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BE09A-C53C-4A11-ABA6-9DEA483D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22710-A9FE-48F1-BFA2-880CA203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2726F-67C7-4DB4-96A1-E286F785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E6EE0-4E46-4F54-B5FC-470EA9F6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D4ECE-9406-48E6-B3A5-F3F70FE4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AD998-0777-486D-B4DC-4C5669D6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67A10-F2A8-4B36-8205-B62D964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08E56-0871-4499-B0C1-57FD4A0F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F42-CA4E-4CD1-A323-1B4252E9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23120-E299-4CE3-8562-D31DE966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BA89E-EB1A-410E-822E-59C3BE55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577FC-FA01-47E5-AD97-0A07B191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AE718-0B4F-457B-BF67-F24318E4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4B66D-8BDE-46AB-A284-A5644E0E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FD561-681A-459E-83D4-E00D0B1C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BEA8B-4375-45CB-8453-6D77CFF2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3E37F-E5D0-4319-BC0D-E9DA245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FAF3B-1D3A-4A2E-8159-3DCCAE9A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60427-3222-46FA-B27A-B3B1147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8FA-C444-4CC1-9695-C0BC9963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7A0E8-6172-4244-A9A7-6CD6BF58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E32A3-5CAB-4B52-9F76-2075C002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D85C5-6CD3-4136-A7BC-E38EC178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423EC-9860-4AC8-B915-D9A3DD32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BC261-1C4E-4442-85C1-779DA6F4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7DF88-B87D-4D7F-8B50-FE087D5C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46E9B-7B62-490E-A123-88E1BF0E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04FD6-4840-46C9-A88B-04FB900A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BFAD3-3483-4C13-85A3-5E8BB5CE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CFB72-356A-44BB-B06F-DF651E2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72B-FFCC-426F-B008-8A178622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47CDD9-5110-445C-BBD1-391CBCC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1D05B-4573-4EA0-9AEA-F5DFBBCA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D4954-08DB-4E0D-9839-97CD6ED1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036C7-6DC6-45D1-95AF-56C6509A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5E7F1-6733-487A-9F1D-21402DC2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237-88D1-400A-BAA4-84E8F17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E590-75C0-4B14-9F05-C8CAC9F32D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D612-F41B-4EBA-B087-BED9ABB770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ABEE-E377-461F-9F7A-33273458F7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A991-24AB-46A0-9B15-57EB4C0D3D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77BF-78EE-43B0-B42E-26E50DEEE4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ABA-9ACC-446D-81DD-FF7D370795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1733-66D0-45AF-9C3E-387214F544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3" descr="C:\Users\Дима\Downloads\Безымянный.jpg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Дима\Downloads\12.jpg"/>
          <p:cNvPicPr/>
          <p:nvPr/>
        </p:nvPicPr>
        <p:blipFill>
          <a:blip r:embed="rId2"/>
          <a:stretch/>
        </p:blipFill>
        <p:spPr>
          <a:xfrm>
            <a:off x="611280" y="692280"/>
            <a:ext cx="78771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Дима\Downloads\13.jpg"/>
          <p:cNvPicPr/>
          <p:nvPr/>
        </p:nvPicPr>
        <p:blipFill>
          <a:blip r:embed="rId2"/>
          <a:stretch/>
        </p:blipFill>
        <p:spPr>
          <a:xfrm>
            <a:off x="539640" y="620640"/>
            <a:ext cx="793440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Дима\Downloads\14.jpg"/>
          <p:cNvPicPr/>
          <p:nvPr/>
        </p:nvPicPr>
        <p:blipFill>
          <a:blip r:embed="rId2"/>
          <a:stretch/>
        </p:blipFill>
        <p:spPr>
          <a:xfrm>
            <a:off x="539640" y="620640"/>
            <a:ext cx="78408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Users\Дима\Downloads\15.jpg"/>
          <p:cNvPicPr/>
          <p:nvPr/>
        </p:nvPicPr>
        <p:blipFill>
          <a:blip r:embed="rId2"/>
          <a:stretch/>
        </p:blipFill>
        <p:spPr>
          <a:xfrm>
            <a:off x="611280" y="692280"/>
            <a:ext cx="79214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Дима\Downloads\16.jpg"/>
          <p:cNvPicPr/>
          <p:nvPr/>
        </p:nvPicPr>
        <p:blipFill>
          <a:blip r:embed="rId2"/>
          <a:stretch/>
        </p:blipFill>
        <p:spPr>
          <a:xfrm>
            <a:off x="611280" y="692280"/>
            <a:ext cx="782460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Дима\Downloads\21.jpg"/>
          <p:cNvPicPr/>
          <p:nvPr/>
        </p:nvPicPr>
        <p:blipFill>
          <a:blip r:embed="rId2"/>
          <a:stretch/>
        </p:blipFill>
        <p:spPr>
          <a:xfrm>
            <a:off x="611280" y="620640"/>
            <a:ext cx="79866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C:\Users\Дима\Downloads\31.jpg"/>
          <p:cNvPicPr/>
          <p:nvPr/>
        </p:nvPicPr>
        <p:blipFill>
          <a:blip r:embed="rId2"/>
          <a:stretch/>
        </p:blipFill>
        <p:spPr>
          <a:xfrm>
            <a:off x="539640" y="620640"/>
            <a:ext cx="79758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Users\Дима\Downloads\111.jpg"/>
          <p:cNvPicPr/>
          <p:nvPr/>
        </p:nvPicPr>
        <p:blipFill>
          <a:blip r:embed="rId2"/>
          <a:stretch/>
        </p:blipFill>
        <p:spPr>
          <a:xfrm>
            <a:off x="611280" y="620640"/>
            <a:ext cx="79722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Users\Дима\Downloads\4.jpg"/>
          <p:cNvPicPr/>
          <p:nvPr/>
        </p:nvPicPr>
        <p:blipFill>
          <a:blip r:embed="rId2"/>
          <a:stretch/>
        </p:blipFill>
        <p:spPr>
          <a:xfrm>
            <a:off x="826920" y="692280"/>
            <a:ext cx="763272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Users\Дима\Downloads\5.jpg"/>
          <p:cNvPicPr/>
          <p:nvPr/>
        </p:nvPicPr>
        <p:blipFill>
          <a:blip r:embed="rId2"/>
          <a:stretch/>
        </p:blipFill>
        <p:spPr>
          <a:xfrm>
            <a:off x="755640" y="765000"/>
            <a:ext cx="78660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C:\Users\Дима\Downloads\6.jpg"/>
          <p:cNvPicPr/>
          <p:nvPr/>
        </p:nvPicPr>
        <p:blipFill>
          <a:blip r:embed="rId2"/>
          <a:stretch/>
        </p:blipFill>
        <p:spPr>
          <a:xfrm>
            <a:off x="611280" y="765000"/>
            <a:ext cx="807408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C:\Users\Дима\Downloads\7.jpg"/>
          <p:cNvPicPr/>
          <p:nvPr/>
        </p:nvPicPr>
        <p:blipFill>
          <a:blip r:embed="rId2"/>
          <a:stretch/>
        </p:blipFill>
        <p:spPr>
          <a:xfrm>
            <a:off x="684360" y="765000"/>
            <a:ext cx="794844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C:\Users\Дима\Downloads\8.jpg"/>
          <p:cNvPicPr/>
          <p:nvPr/>
        </p:nvPicPr>
        <p:blipFill>
          <a:blip r:embed="rId2"/>
          <a:stretch/>
        </p:blipFill>
        <p:spPr>
          <a:xfrm>
            <a:off x="684360" y="692280"/>
            <a:ext cx="800244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Дима\Downloads\9.jpg"/>
          <p:cNvPicPr/>
          <p:nvPr/>
        </p:nvPicPr>
        <p:blipFill>
          <a:blip r:embed="rId2"/>
          <a:stretch/>
        </p:blipFill>
        <p:spPr>
          <a:xfrm>
            <a:off x="611280" y="692280"/>
            <a:ext cx="78818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Users\Дима\Downloads\10.jpg"/>
          <p:cNvPicPr/>
          <p:nvPr/>
        </p:nvPicPr>
        <p:blipFill>
          <a:blip r:embed="rId2"/>
          <a:stretch/>
        </p:blipFill>
        <p:spPr>
          <a:xfrm>
            <a:off x="539640" y="692280"/>
            <a:ext cx="803448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:\Users\Дима\Downloads\11.jpg"/>
          <p:cNvPicPr/>
          <p:nvPr/>
        </p:nvPicPr>
        <p:blipFill>
          <a:blip r:embed="rId2"/>
          <a:stretch/>
        </p:blipFill>
        <p:spPr>
          <a:xfrm>
            <a:off x="611280" y="692280"/>
            <a:ext cx="811188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10:38:46Z</dcterms:created>
  <dc:creator>Дима</dc:creator>
  <dc:description/>
  <dc:language>en-US</dc:language>
  <cp:lastModifiedBy>Дима</cp:lastModifiedBy>
  <dcterms:modified xsi:type="dcterms:W3CDTF">2015-01-25T10:50:02Z</dcterms:modified>
  <cp:revision>2</cp:revision>
  <dc:subject/>
  <dc:title>Презентация PowerPoint</dc:title>
</cp:coreProperties>
</file>