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4BE-CE38-4764-8508-FF56F99A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892-4576-4EA1-BB56-75BF5962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3FD78-B967-408F-942D-2ADBC4E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A2800-52AC-4602-BF2A-EC5CB0B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6028-BD80-4426-8378-4E05132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D701-DC3B-4F48-AF8B-FF5C717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109C7-0ECE-4E52-BFE3-DBE1A38F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1713E-2FE3-4C92-836A-648021A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4955-7A44-487B-9991-BC6A390E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66746-01FC-4E68-B199-F68D9408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F4B7B-B0B1-4230-B189-DA8DB31F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622FE-BA34-4AFF-AE71-B5CA67C2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D1D-F174-4C2F-80B3-CC73DA02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B67E4-5B66-44F3-A039-F1C004C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D247-FDB3-4B12-9452-AFA9856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B65CC-1B7C-4B3D-BBAE-AC63489C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6359-BAD6-4832-8F93-C9D6E14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A2B08-D161-4025-A8F4-59423726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1CD14-9A69-429B-9280-3FFD418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9E888-6CDD-45A6-A20F-2544A0B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CDAC5-CFC1-4FF2-B2B2-A58FFF0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E1844-72F5-42B4-93AE-F9EC1B19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FAD01-CF26-4B7A-8127-E5BBA51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21B-0F95-4D9F-BCFE-FCF6956B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730BC-2B00-437A-BFC3-0574300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838BB-4FC2-443A-83F8-3D401C25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346DA-4470-464D-9A4E-3F444E60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8D5D-C723-40E6-B860-60005A8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96FC-B682-47C6-8E76-422DF84F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E7BF-F6F4-4669-A791-AAC76CD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540AE-CAEF-4817-A1CF-BF9F0CA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DCB88-D74B-4A1C-85D7-937D18A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3FE-9271-41D5-AFF0-392E9349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5CB8-C38A-4CCE-ABB4-B73B91C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E23D-21BC-42E1-B2BE-3A475AA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119C6-06F7-497B-897C-C709D82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7D093-01E9-43AF-B624-244DA9BD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35700-36C7-4253-993C-9EBE0555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F547-5FAD-4730-A33F-19F076E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5975-764F-4838-897D-937B565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F392-8117-4E4B-B47D-E9AEF4B0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0A15-41DA-4B49-A485-9E7F8F69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FB74-BB99-4F2B-9549-660C51C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CB8-DA43-400D-870C-B45323B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673F-ACAC-4A0A-BAC5-EDCEBB68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0A4C-1C5A-4EEF-86FE-E0612D6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FE27-4E15-4E97-8941-69A17D4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4891-5D84-4AC2-8F2B-B65A5B5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5023-9C8B-48E4-83BC-04DD88D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C2CE-E503-4A18-8436-9D7369D1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B5BB-BA69-4C9A-B915-6DA150C0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B053-9E3E-4D40-B6C1-0E19DD30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5536-52FE-41FF-915F-71D1E44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FBA4-F391-42DC-81B0-F24FCD7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A83-9836-442D-82D5-E2C7E88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018A-A6B0-41EC-90AB-94D2DA8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119F-1F42-4609-8670-A3B511A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F7C7-E8A5-4EF1-8C91-36D49FBC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7B41-3F4F-4B0D-AC2C-4E11DCB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863C-62A8-4C0E-BEC9-16A87764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7A31-9897-468A-A8EB-1136105B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8C30-A1AB-4027-A341-75BD979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89C9-6FC3-4211-B923-EA2C233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323E-E6AE-4B5F-A9CF-F3B71D5C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578A-3AB7-4D8D-B5F9-03168837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B35-037D-4D37-A2E6-40DA4C9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6BA8-61C7-48FE-8A23-872D1279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B62C-0ABE-46E9-859C-E864467E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77D3-9D5D-40F2-BBFB-6A597FC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8CD0-E0BE-4EF6-ABA6-FDACFB8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4987-F3C4-4E38-B075-494F63D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13AD-0653-4274-97A4-9D4A5DC9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2AA5-AE38-4BF8-A37D-1386D49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0FEF-CC3C-4401-9F00-B3DA121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C781-761F-4D3B-9F5A-E66C282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F3B0-4AD3-4ECE-8EAB-770EA2C8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EE3-B7DF-4021-A93E-2357E4C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E430A-787A-49C2-893C-E786654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5FE3-A000-4C6A-A56A-CC64C6B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66FC7-5929-4B3A-8375-24E4F3E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8B5BF-18D4-46C0-BD69-5D8ED12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756A-C241-4A97-8D3D-FACF0B71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C3259-46A6-49EF-BF5C-F37649F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CD25-BF46-4867-8566-6F1BD928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6718-6789-49D2-9275-B43C401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9676-2EED-4993-A5E0-D7CE73D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58DA-D573-4659-8204-F8B10C3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861-D968-49BE-82E6-CACE375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B4D5F-9D9D-47B6-9285-065F49AB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EB28-5093-43DE-8D21-A0FC7939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FB2F-6696-4961-A121-E092252D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53C6C-637E-491A-93DB-5EE398CF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881F1B-0CF2-4A18-88C2-2EA2BD5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ABA3E-5CD7-4F19-8603-2BBA7E4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2B9D5C-BD0C-4E76-81D3-AA4C435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4B17F-47B4-4472-B9B5-5DA78584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9E5EB3-AD22-4F40-B809-455C93A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81D3E-6E24-44D9-A0F4-C7B20F6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932-608F-411C-AC85-D8F1686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320A5-7A2E-482C-AB62-D05ECAE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6E779-FBE7-48B2-8A05-8039F88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24350B-E23A-4173-8C97-2E03024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2EE591-09A9-4169-851B-D4D5C35B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3316C-5E9E-4BEA-9DB3-1B76D21A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ED54-D97A-412F-90E6-803D4939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E94F-9661-4578-9AD2-2DC2CB5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A3BC-299D-43EA-AED4-10A7C08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1E84-BB17-41FF-BE4F-417C233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9C0B-6524-408D-923D-E07C4FF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D21-2231-4688-9583-8364DCD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FF67-AC3C-4B3A-A1B3-445CCB41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89EB1-1FE5-4810-B0F2-D6BA5927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7D10-5E58-4025-AE0D-F98E92A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A614-3E73-4928-92C9-854968A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E75B6-AE2F-4669-B700-D4E74C7B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0E5B-6487-442C-8FE4-0B9727AE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72F0-F5DA-4F88-8895-F6511753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8A03-4171-4710-9D2F-1421DB7C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A9093-07F3-4FB7-8DC7-8D411DD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43CD2-2AC5-4250-917A-C19F412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A61-544F-4B16-ACBE-DA492378E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4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F9D-F56E-4001-B628-1A2F1E5D7A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F2F-3FB2-4044-AB12-C45BA5DF1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CD9-7E2F-4C2D-9261-2B9051804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A368-8BC4-4F87-814F-9F2928D15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17D-B146-46D4-9BD3-3C49764DF3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9899-6238-4190-A040-B018E8584BE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8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B186-6BCC-41FC-975E-60DFF09134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4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2060-6E57-4C3D-977E-1A29092D87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9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016-9B7E-435C-B2FC-07748E10A1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9e288"/>
                </a:solidFill>
                <a:latin typeface="Rosewood Std Regular"/>
              </a:rPr>
              <a:t>Тема: летающие и нелетающие птицы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6248160" y="4572000"/>
            <a:ext cx="226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: ученик 3 «в»класса МОУ Гимназия №1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сарыев Тамерл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b75"/>
                </a:solidFill>
                <a:latin typeface="Tahoma"/>
              </a:rPr>
              <a:t>Пингвинов насчитывается 17 видов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нгвины (Sphenisciformes), отря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: о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0 с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20 с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ес: о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2 к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перение короткое, плотное, покрывает тело равномерно, на спине тёмное (от чёрного до сине-чёрного), низ тела белый; у некоторых видов на голове жёлтые пятна или хохо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нгвины очень заботливые роди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нгвинят они выкармливают из своих клювов полупереваренной ры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762120" y="2151000"/>
            <a:ext cx="541008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нгвины живут только в Южном полушарии. Самая северная граница распространения этих птиц проходит в Атлантическом океа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ылья этих птиц представляют собой ласты, покрытые чешуйчатыми короткими перьями. Они помогают пингвинам лишь грести во время плавания и ныря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берег или лед пингвины способны «выходить» одним прыжком. На суше они держатся вертикально и выглядят несколько неуклю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cb75"/>
                </a:solidFill>
                <a:latin typeface="Tahoma"/>
              </a:rPr>
              <a:t>Первыми европейцами, увидевшими пингвинов, были моряки из команды Васко да Гамы, правда, тогда они </a:t>
            </a:r>
            <a:br>
              <a:rPr sz="2400"/>
            </a:br>
            <a:r>
              <a:rPr b="0" lang="ru-RU" sz="2400" spc="-1" strike="noStrike">
                <a:solidFill>
                  <a:srgbClr val="c1cb75"/>
                </a:solidFill>
                <a:latin typeface="Tahoma"/>
              </a:rPr>
              <a:t>посчитали их гусями</a:t>
            </a:r>
            <a:r>
              <a:rPr b="0" lang="ru-RU" sz="40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иболее характерный внешний признак пингвина — это полное отсутствие маховых перьев на крыльях, которые, вдобавок, вовсе неспособны сгиб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тело пингвина покрыто мелкими чешуеобразными перьями, большинство которых состоит из одних стержней, без опаха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077920" cy="312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смотря на то, что они относятся к одному классу, все птицы разные. И даже те у которых есть крылья не всегда умеют ле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ная особенность определяется строением костей и формой самих крыл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мире очень много интересных загадок и удивительных тайн. Давайте не будем терять любознательность и может быть именно нам удастся разгадать некоторые из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 работы: узнать все ли птицы одинаково умеют летать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решил узнать побольше о таких красивых птицах, как попугаи. И о таких необычных, как пингвины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87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задачи данной работ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учить литературу о птиц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мотреть фильмы о дикой при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йти информацию через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ласс ПТИЦЫ (Aves)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 позвоночных животных, представители которого характеризуются тем, что тело их покрыто перьями и передние конечности видоизменены в органы полета — крылья. За редкими исключениями, птицы — летающие животные, а те виды, которые не летают, имеют недоразвитые крыль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всех птиц кости трубчатые, что делает их скелет легче и позволяет летать или быстро бегать. Но у пингвинов они похожи на кости млекопитающих (дельфинов и тюленей) и не содержат внутренних полосте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ссмотрим разных попуга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угаи – очень красивые птицы. Они отличаются ярким оперением и поддаются дрессиров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2778120" cy="323856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3962520" y="3200400"/>
            <a:ext cx="4647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гаи Каре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обычной раскраски их называют ЩЕТИНОГОЛ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амые крупные попугаи - АР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457200" y="174636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ищный попугай - КЕА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появлением больших стад овец эти птицы пересмотрели свое отношение к диете. Сначала попугаи подбирали отбросы у скотобоен, потом некоторые из них начали вырывать кусочки подкожного жира у ослабевших или больных животных, а со временем стали нападать и на вполне здоровых особ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114800" cy="407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9718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ни все такие яркие, разные, но все хорошо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меющие летать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715000" cy="5322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Рассмотрим теперь ПИНГВИНОВ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44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на</cp:lastModifiedBy>
  <dcterms:modified xsi:type="dcterms:W3CDTF">2010-11-08T14:04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