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189-0CCA-4132-B3CB-7906A44D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83-7FC0-4283-B120-D3C8A298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33287-DD60-4B42-8B25-7E62F991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6E350-9254-4EC0-8AC1-24DA775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955B-E9A4-4DC8-9CFC-0290D73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F7B4C-544D-424D-9AA5-B7076EE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3E9E-1034-4EE6-A0AE-25E6360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C0CAB-8E7C-4867-B99E-2071E05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EBB41-BCC0-4570-ACB5-29A1C191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7A2B2-DB0A-4F84-8853-5B21E1DC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755B4-AA38-41B6-A184-0CD62883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B047-152F-4380-AE10-D473B706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20F-69BE-4A61-85E4-C564633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BC6E9-41DF-4FA0-8A94-8C9A59E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20F09-85FF-40B2-8745-EF81955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A342-A0D1-47EB-823F-B87B50C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6B14-000B-482A-9159-AE244AED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10B4B-011B-4F44-A783-AE8D9226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16FF0-51A0-4495-A778-86DE870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3D9E-F6B4-4C2F-9630-BAFAA8F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3A35-8444-4927-8400-DBB5CC9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9B97A-DBEC-4772-98CA-68085640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E787-04C1-423C-838B-C828C604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9FF-5FE9-4461-8000-B84A0133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DABC-6EE9-4C8A-9356-905330B7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7344F-E21F-48EC-8A3B-70F1A9F0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41A8A-1568-42F4-A7B7-7BCE274B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FD653-4817-469C-8CF6-A0B4D3DB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7E05-456B-4903-8964-9349C88D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2F41D-10F0-48E2-BE3D-78340D6A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21552-75DE-43D8-A87E-F43BEE1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5D6B6-CA3E-4A87-8AD3-DCD0E5CE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9CD-8228-431A-8E1E-E693C9A4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2E0D3-0B7E-47EB-82A5-FDECCD2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233B-376A-42DC-B2C2-D8C850CD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41FB-BAF5-4185-85C2-C404E23E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8FDB2-0310-49D4-9B8B-A0287F4B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BC424-7B90-48E6-B0D1-98C5F755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7FF6-8E1B-48D5-9793-A992ECFC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091F-DB2A-4BB0-87C6-0763274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8347-D268-4708-9A5D-AF06E0A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B4C0-5AA3-43EC-9C9D-4CF1DD5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EC40-7BCF-4594-8F8C-DCBA82D0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41B-EC0E-45DC-B6C7-F27DDF20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5ABC-4E24-41FE-9DD2-C361586B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5FCB-F61C-4EF4-8918-83FECEF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B8DA-2B5B-46ED-87B6-94E0BAD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BCE4-073D-41BD-B68D-C1AC31D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8B01-3CC9-419A-B3D2-E8FE20F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3EA3-974C-471A-9FC8-19CF5605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8FC0-062C-49EB-BC8C-FB7ED31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0373-43DB-4261-B2CA-82526CA2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97B9-FE30-4EB3-9465-CA7682B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0E8C-064D-48E7-A80F-689AEDDC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E70-5074-4B06-AAAB-103D829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BF88-9E69-4821-817A-6229F1C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C6DD-483D-4E68-BDFD-A2E30D5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63A7-19BB-4792-A194-F5BC036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0891-BDFB-410E-9249-47D4999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5009-E59E-48AD-81B2-1728493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8616-1C47-466A-BF3D-74B4CB8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A62E-2207-40FD-81D9-8F0776A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8D468-2212-4433-9D7C-95FCE4E5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DBE6-D613-4339-B511-FAC0AA1F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2ABA-4EE0-4C20-8FD7-E88CE916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090-EC23-41A1-A7A2-27B2D318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C9CB-EF97-4A5A-A41B-4824BECB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123C-CC94-4BA5-878E-847151B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E7E8-57AB-4C85-90C6-89AD78CC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09294-7D87-428B-B8CA-3D77FC3F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88D1-A8BE-4D8B-8693-C2D03F9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DDE0-2E53-4BBA-A0D4-466D2C6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8997-8FBE-49D8-A1DF-0A33B8F9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2F79-29B4-4DE6-AA79-41F7156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5D5D-199B-479C-BBCE-226A357B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4B08-1B57-4E21-8202-4930FC12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21A-308B-4221-B593-0F5786A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F2CB-EC29-44C5-BBDE-9B94DD89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430C-D46E-48D6-A2F9-E594A774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1A63-5EB2-4BBC-B0A2-C10639F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9C47-25DF-4CB2-9679-56E33AF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30DC-2730-4335-972B-7E4282A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2BEC-6510-4518-8BE8-AE44DB73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682E-3930-420A-997A-0491C2BD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CA6F-677C-40EC-B6DB-329C841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37A5-F639-4FEB-90DB-FC551FDC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6B32-E030-4203-805D-E7526E0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632-6D74-425A-8E32-57AD42D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BCFBB-9C4A-4C43-B503-3A743FC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ADF6-CFC7-4369-828A-0B798FC6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583F-ACF8-49F9-B86C-37636569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884A1-E58E-4F37-B2E5-EC5DFA18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86B2F6-0FEA-40AD-8658-FF2E36B2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5D88E-0F01-49CC-9BA0-BE6C9ED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FCF85-32BB-47F3-A86C-785996CB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2A242-7A0F-4033-B857-CFE37DD3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759B3A-A368-4455-9E09-BFFF26B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FAE6D-9931-48F4-8E2D-C7A038F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5B7-A6DD-449E-9A00-9494D89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D744E-0984-4672-8331-9C01542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F235F9-3C54-46C4-AF5B-B6DB6A9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102753-3313-4282-8BD4-46F60718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3E6FBD-276C-41DB-AE2C-FB6C276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F8C4DC-4E63-497F-8341-FF966A45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3B21-BAF0-4426-A349-B6A3B5AA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C4E02-474A-4857-93EB-778D3C0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56E3-2EB2-4D68-AE67-8E8146C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4950D-76D6-4C4B-BEFC-1A1C533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0622-C8A0-4EA7-B6D3-E1FD410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16D-B5F5-482B-B89A-2B6D821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19F4-F7DD-4B16-A9B2-332436E9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C0AF-97D9-4206-ABA9-607715B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5F793-63FF-47E9-94CC-771C670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281B9-AF0E-47ED-ADDE-643F788C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9FA33-1C43-448C-8422-693CD63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81657-7D65-438B-B1D7-CED17EEA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1779-603A-45D9-8FB1-668F05D2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01197-5DC9-4F86-9276-474682D3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4B3D1-93B0-40FC-952F-B66AC56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17765-1B0C-47C9-A417-CFD978B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3F5-0DD9-4E43-8CE6-5D5B36FD6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4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B4F8-C5F8-4237-8A9B-32E7612E7E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6ECB-445D-4B16-AEBD-A29D5BFD3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96A-2193-48F7-AB45-B43B9F6DCE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085B-0145-4F99-977D-3B6B2DC416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83EA-F5CD-46D6-815F-4622B71AC4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05D-4D3E-482A-86AD-79139DF07EE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8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C9C-6710-4A85-9A9E-5AAA099C12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4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FBC1-CA43-4754-9096-C83E9074F0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9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479-3412-4AC7-93E8-1089CF602B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9e288"/>
                </a:solidFill>
                <a:latin typeface="Rosewood Std Regular"/>
              </a:rPr>
              <a:t>Тема: летающие и нелетающие птицы</a:t>
            </a:r>
            <a:endParaRPr b="0" lang="en-US" sz="6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6248160" y="4572000"/>
            <a:ext cx="226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: ученик 3 «в»класса МОУ Гимназия №1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сарыев Тамерл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cb75"/>
                </a:solidFill>
                <a:latin typeface="Tahoma"/>
              </a:rPr>
              <a:t>Пингвинов насчитывается 17 видов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нгвины (Sphenisciformes), отря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: о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0 с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20 с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ес: о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2 к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перение короткое, плотное, покрывает тело равномерно, на спине тёмное (от чёрного до сине-чёрного), низ тела белый; у некоторых видов на голове жёлтые пятна или хохо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нгвины очень заботливые родит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нгвинят они выкармливают из своих клювов полупереваренной ры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762120" y="2151000"/>
            <a:ext cx="541008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нгвины живут только в Южном полушарии. Самая северная граница распространения этих птиц проходит в Атлантическом океа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ылья этих птиц представляют собой ласты, покрытые чешуйчатыми короткими перьями. Они помогают пингвинам лишь грести во время плавания и ныря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берег или лед пингвины способны «выходить» одним прыжком. На суше они держатся вертикально и выглядят несколько неуклю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cb75"/>
                </a:solidFill>
                <a:latin typeface="Tahoma"/>
              </a:rPr>
              <a:t>Первыми европейцами, увидевшими пингвинов, были моряки из команды Васко да Гамы, правда, тогда они </a:t>
            </a:r>
            <a:br>
              <a:rPr sz="2400"/>
            </a:br>
            <a:r>
              <a:rPr b="0" lang="ru-RU" sz="2400" spc="-1" strike="noStrike">
                <a:solidFill>
                  <a:srgbClr val="c1cb75"/>
                </a:solidFill>
                <a:latin typeface="Tahoma"/>
              </a:rPr>
              <a:t>посчитали их гусями</a:t>
            </a:r>
            <a:r>
              <a:rPr b="0" lang="ru-RU" sz="40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иболее характерный внешний признак пингвина — это полное отсутствие маховых перьев на крыльях, которые, вдобавок, вовсе неспособны сгиб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тело пингвина покрыто мелкими чешуеобразными перьями, большинство которых состоит из одних стержней, без опаха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2077920" cy="312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смотря на то, что они относятся к одному классу, все птицы разные. И даже те у которых есть крылья не всегда умеют ле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ная особенность определяется строением костей и формой самих крыл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мире очень много интересных загадок и удивительных тайн. Давайте не будем терять любознательность и может быть именно нам удастся разгадать некоторые из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 работы: узнать все ли птицы одинаково умеют летать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 решил узнать побольше о таких красивых птицах, как попугаи. И о таких необычных, как пингвины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87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ые задачи данной работ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учить литературу о птиц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мотреть фильмы о дикой приро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йти информацию через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ласс ПТИЦЫ (Aves)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 позвоночных животных, представители которого характеризуются тем, что тело их покрыто перьями и передние конечности видоизменены в органы полета — крылья. За редкими исключениями, птицы — летающие животные, а те виды, которые не летают, имеют недоразвитые крыль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всех птиц кости трубчатые, что делает их скелет легче и позволяет летать или быстро бегать. Но у пингвинов они похожи на кости млекопитающих (дельфинов и тюленей) и не содержат внутренних полосте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ссмотрим разных попугае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угаи – очень красивые птицы. Они отличаются ярким оперением и поддаются дрессиров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2778120" cy="323856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3962520" y="3200400"/>
            <a:ext cx="4647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гаи Каре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обычной раскраски их называют ЩЕТИНОГОЛ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амые крупные попугаи - АР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457200" y="174636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Хищный попугай - КЕА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появлением больших стад овец эти птицы пересмотрели свое отношение к диете. Сначала попугаи подбирали отбросы у скотобоен, потом некоторые из них начали вырывать кусочки подкожного жира у ослабевших или больных животных, а со временем стали нападать и на вполне здоровых особ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114800" cy="407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9718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ни все такие яркие, разные, но все хорошо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меющие летать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715000" cy="5322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Рассмотрим теперь ПИНГВИНОВ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44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на</cp:lastModifiedBy>
  <dcterms:modified xsi:type="dcterms:W3CDTF">2010-11-08T14:04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