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B16-0682-459C-8A55-A99F66E8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C5F-82A5-45C6-B51D-39033375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D38-182B-4DF5-BAEE-3DCC665E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CB3-85AF-44A1-A817-2F34FD54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72B2-C139-4742-BA90-8A388C88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BE7C-6A82-4543-84AE-E10E1DC0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75A4-B899-43EE-8DE0-10D69A96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69B-6D61-49A0-902B-177FBA5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4BA5-73C4-4E44-96CB-C6AAC663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498F-D29A-4E8F-ABEE-13866B6F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4F39-4911-4873-9D9D-82B0E13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464-B845-4426-B656-C69FC58D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0DAD-5F76-4C50-A718-2D78EA07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B630-0AF2-458E-89F8-8EC621A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0A08-B725-4093-A92B-EBE9059D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970-2366-464E-8D61-44D886EF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7453-31FD-4B1B-B7F2-449B240A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F85-0C4A-4BB9-9977-E9BDD74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338-9E27-4621-B991-B571BDE7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E4D-4014-43DE-AF2B-07AFE57B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412-C840-4380-A965-7B14532F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51B-A83E-4525-AC54-FDC9756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8E9-48C0-4409-8B53-D5044C90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FBC-1C8D-4020-A371-0237DA39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7F8D-85A5-4A9E-A67D-FF5750D677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350-8BCD-40D0-922E-F5F531A317B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Tahoma"/>
              </a:rPr>
              <a:t>Окружающий мир           1 класс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ff"/>
                </a:solidFill>
                <a:latin typeface="Tahoma"/>
              </a:rPr>
              <a:t>Дождь и  ветер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учитель  начальных клас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ьячкова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ff"/>
                </a:solidFill>
                <a:latin typeface="Tahoma"/>
              </a:rPr>
              <a:t>Дождь-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апли воды, падающие на землю из туч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25178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ый дождь с грозой называют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лив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4" descr="7A"/>
          <p:cNvPicPr/>
          <p:nvPr/>
        </p:nvPicPr>
        <p:blipFill>
          <a:blip r:embed="rId1"/>
          <a:stretch/>
        </p:blipFill>
        <p:spPr>
          <a:xfrm>
            <a:off x="2514600" y="205740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уговорот 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90" name="Diagram 3"/>
          <p:cNvGrpSpPr/>
          <p:nvPr/>
        </p:nvGrpSpPr>
        <p:grpSpPr>
          <a:xfrm>
            <a:off x="2190600" y="1938240"/>
            <a:ext cx="4764600" cy="4126320"/>
            <a:chOff x="2190600" y="1938240"/>
            <a:chExt cx="4764600" cy="4126320"/>
          </a:xfrm>
        </p:grpSpPr>
        <p:sp>
          <p:nvSpPr>
            <p:cNvPr id="391" name="_s1028"/>
            <p:cNvSpPr/>
            <p:nvPr/>
          </p:nvSpPr>
          <p:spPr>
            <a:xfrm>
              <a:off x="3119400" y="19382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2" name="_s1029"/>
            <p:cNvSpPr/>
            <p:nvPr/>
          </p:nvSpPr>
          <p:spPr>
            <a:xfrm rot="7200000">
              <a:off x="3516480" y="26254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3" name="_s1030"/>
            <p:cNvSpPr/>
            <p:nvPr/>
          </p:nvSpPr>
          <p:spPr>
            <a:xfrm rot="14400000">
              <a:off x="2722320" y="26258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4" name="_s1031"/>
            <p:cNvSpPr/>
            <p:nvPr/>
          </p:nvSpPr>
          <p:spPr>
            <a:xfrm>
              <a:off x="5367240" y="2470320"/>
              <a:ext cx="116532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5" name="_s1032"/>
            <p:cNvSpPr/>
            <p:nvPr/>
          </p:nvSpPr>
          <p:spPr>
            <a:xfrm>
              <a:off x="3989520" y="4857840"/>
              <a:ext cx="116496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6" name="_s1033"/>
            <p:cNvSpPr/>
            <p:nvPr/>
          </p:nvSpPr>
          <p:spPr>
            <a:xfrm>
              <a:off x="2611440" y="24717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</p:grpSp>
      <p:pic>
        <p:nvPicPr>
          <p:cNvPr id="397" name="Picture 11" descr="j0293828"/>
          <p:cNvPicPr/>
          <p:nvPr/>
        </p:nvPicPr>
        <p:blipFill>
          <a:blip r:embed="rId1"/>
          <a:stretch/>
        </p:blipFill>
        <p:spPr>
          <a:xfrm>
            <a:off x="4983120" y="182556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Лазурь"/>
          <p:cNvPicPr/>
          <p:nvPr/>
        </p:nvPicPr>
        <p:blipFill>
          <a:blip r:embed="rId2"/>
          <a:stretch/>
        </p:blipFill>
        <p:spPr>
          <a:xfrm>
            <a:off x="3505320" y="52578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424022"/>
          <p:cNvPicPr/>
          <p:nvPr/>
        </p:nvPicPr>
        <p:blipFill>
          <a:blip r:embed="rId3"/>
          <a:stretch/>
        </p:blipFill>
        <p:spPr>
          <a:xfrm>
            <a:off x="1143000" y="1676520"/>
            <a:ext cx="24382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ahoma"/>
              </a:rPr>
              <a:t>Ветер -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то движение воздух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2666520"/>
            <a:ext cx="2517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Смерч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асный  сильный ве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4" descr="0123"/>
          <p:cNvPicPr/>
          <p:nvPr/>
        </p:nvPicPr>
        <p:blipFill>
          <a:blip r:embed="rId1"/>
          <a:stretch/>
        </p:blipFill>
        <p:spPr>
          <a:xfrm>
            <a:off x="2362320" y="1219320"/>
            <a:ext cx="655308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ТАЙФУНЫ И УРАГАН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АСНЫЕ ВЕТРЫ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29718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НИМАЮТ ВЫСОКИЕ ВОЛ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АЮТ З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ОСЯТ В МОРЕ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7" descr="море"/>
          <p:cNvPicPr/>
          <p:nvPr/>
        </p:nvPicPr>
        <p:blipFill>
          <a:blip r:embed="rId1"/>
          <a:stretch/>
        </p:blipFill>
        <p:spPr>
          <a:xfrm>
            <a:off x="2743200" y="1219320"/>
            <a:ext cx="60991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БРИЗ И МУССОН –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ИХИ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ЕТ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362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БРИЗ 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ОНИТ ПО МОРЮ ЛЕГКУЮ ВОЛ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5" descr="01"/>
          <p:cNvPicPr/>
          <p:nvPr/>
        </p:nvPicPr>
        <p:blipFill>
          <a:blip r:embed="rId1"/>
          <a:stretch/>
        </p:blipFill>
        <p:spPr>
          <a:xfrm>
            <a:off x="3124080" y="1143000"/>
            <a:ext cx="571824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ПОЧЕМУ ИДЕТ ДОЖД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КАКИЕ ТЫ ЗНАЕШЬ СИЛЬНЫЕ, ОПАСНЫЕ ВЕТ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КАКИЕ ТИХИЕ ВЕТРЫ ТЫ ЗНА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83</cp:lastModifiedBy>
  <dcterms:modified xsi:type="dcterms:W3CDTF">2014-11-02T18:29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