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7CE-69C5-4657-852A-D513CD68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9A5-D8B5-4F55-9CAE-B222BD2E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674-6069-4F79-9BF4-E23A38DC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DB4-C97F-4981-8FC0-8DCD3BFF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85CA-96B3-4A6D-AB73-B77E298A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21E4-7BB2-4441-A14B-43063189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664C-B31E-44E6-9011-681043B0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15FA-52CD-4717-85CC-E82A433E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1C09-A05E-443E-B42B-F5449D14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8C4C-949F-498D-B722-11C15FAC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53B3-9E3D-45E7-A389-0C256C96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E4A-72A4-4109-8024-EDA42E56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D131-7BD8-49B5-A94D-40632F31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BD83-4670-4A9C-9818-401AB43F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30A5-29A4-4370-8048-F10EFF18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F215-F7F4-45B6-9EF9-926B3253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4B42-6B90-46BD-98AF-039674BB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F43-1979-43F2-9A49-5E4BE524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21D-9B14-47C9-9C6F-1752E257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4A3-602C-4BCC-8664-92CF873B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F36-B8CD-4266-8221-23BD5D35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E48-7BF5-48B8-831D-DBDEE412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9DC-C8A0-4A62-917B-CA5153B9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40E-9806-4CBC-9A0A-915BE82A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01F9-D94B-44B8-ADC6-1045062D54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doni MT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F1D8-AB98-4CFF-9D61-BDE27B7CDB0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Tahoma"/>
              </a:rPr>
              <a:t>Окружающий мир           1 класс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ff"/>
                </a:solidFill>
                <a:latin typeface="Tahoma"/>
              </a:rPr>
              <a:t>Дождь и  ветер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 учитель  начальных класс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ьячкова О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ff"/>
                </a:solidFill>
                <a:latin typeface="Tahoma"/>
              </a:rPr>
              <a:t>Дождь- 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капли воды, падающие на землю из туч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2590560"/>
            <a:ext cx="25178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ьный дождь с грозой называют </a:t>
            </a: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лив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Picture 4" descr="7A"/>
          <p:cNvPicPr/>
          <p:nvPr/>
        </p:nvPicPr>
        <p:blipFill>
          <a:blip r:embed="rId1"/>
          <a:stretch/>
        </p:blipFill>
        <p:spPr>
          <a:xfrm>
            <a:off x="2514600" y="2057400"/>
            <a:ext cx="662940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уговорот 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90" name="Diagram 3"/>
          <p:cNvGrpSpPr/>
          <p:nvPr/>
        </p:nvGrpSpPr>
        <p:grpSpPr>
          <a:xfrm>
            <a:off x="2190600" y="1938240"/>
            <a:ext cx="4764600" cy="4126320"/>
            <a:chOff x="2190600" y="1938240"/>
            <a:chExt cx="4764600" cy="4126320"/>
          </a:xfrm>
        </p:grpSpPr>
        <p:sp>
          <p:nvSpPr>
            <p:cNvPr id="391" name="_s1028"/>
            <p:cNvSpPr/>
            <p:nvPr/>
          </p:nvSpPr>
          <p:spPr>
            <a:xfrm>
              <a:off x="3119400" y="19382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MT"/>
              </a:endParaRPr>
            </a:p>
          </p:txBody>
        </p:sp>
        <p:sp>
          <p:nvSpPr>
            <p:cNvPr id="392" name="_s1029"/>
            <p:cNvSpPr/>
            <p:nvPr/>
          </p:nvSpPr>
          <p:spPr>
            <a:xfrm rot="7200000">
              <a:off x="3516480" y="26254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MT"/>
              </a:endParaRPr>
            </a:p>
          </p:txBody>
        </p:sp>
        <p:sp>
          <p:nvSpPr>
            <p:cNvPr id="393" name="_s1030"/>
            <p:cNvSpPr/>
            <p:nvPr/>
          </p:nvSpPr>
          <p:spPr>
            <a:xfrm rot="14400000">
              <a:off x="2722320" y="26258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MT"/>
              </a:endParaRPr>
            </a:p>
          </p:txBody>
        </p:sp>
        <p:sp>
          <p:nvSpPr>
            <p:cNvPr id="394" name="_s1031"/>
            <p:cNvSpPr/>
            <p:nvPr/>
          </p:nvSpPr>
          <p:spPr>
            <a:xfrm>
              <a:off x="5367240" y="2470320"/>
              <a:ext cx="1165320" cy="11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doni MT"/>
              </a:endParaRPr>
            </a:p>
          </p:txBody>
        </p:sp>
        <p:sp>
          <p:nvSpPr>
            <p:cNvPr id="395" name="_s1032"/>
            <p:cNvSpPr/>
            <p:nvPr/>
          </p:nvSpPr>
          <p:spPr>
            <a:xfrm>
              <a:off x="3989520" y="4857840"/>
              <a:ext cx="1164960" cy="11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doni MT"/>
              </a:endParaRPr>
            </a:p>
          </p:txBody>
        </p:sp>
        <p:sp>
          <p:nvSpPr>
            <p:cNvPr id="396" name="_s1033"/>
            <p:cNvSpPr/>
            <p:nvPr/>
          </p:nvSpPr>
          <p:spPr>
            <a:xfrm>
              <a:off x="2611440" y="247176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doni MT"/>
              </a:endParaRPr>
            </a:p>
          </p:txBody>
        </p:sp>
      </p:grpSp>
      <p:pic>
        <p:nvPicPr>
          <p:cNvPr id="397" name="Picture 11" descr="j0293828"/>
          <p:cNvPicPr/>
          <p:nvPr/>
        </p:nvPicPr>
        <p:blipFill>
          <a:blip r:embed="rId1"/>
          <a:stretch/>
        </p:blipFill>
        <p:spPr>
          <a:xfrm>
            <a:off x="4983120" y="182556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Лазурь"/>
          <p:cNvPicPr/>
          <p:nvPr/>
        </p:nvPicPr>
        <p:blipFill>
          <a:blip r:embed="rId2"/>
          <a:stretch/>
        </p:blipFill>
        <p:spPr>
          <a:xfrm>
            <a:off x="3505320" y="525780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424022"/>
          <p:cNvPicPr/>
          <p:nvPr/>
        </p:nvPicPr>
        <p:blipFill>
          <a:blip r:embed="rId3"/>
          <a:stretch/>
        </p:blipFill>
        <p:spPr>
          <a:xfrm>
            <a:off x="1143000" y="1676520"/>
            <a:ext cx="2438280" cy="213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ahoma"/>
              </a:rPr>
              <a:t>Ветер -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то движение воздух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2666520"/>
            <a:ext cx="25178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Смерч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пасный  сильный вет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4" descr="0123"/>
          <p:cNvPicPr/>
          <p:nvPr/>
        </p:nvPicPr>
        <p:blipFill>
          <a:blip r:embed="rId1"/>
          <a:stretch/>
        </p:blipFill>
        <p:spPr>
          <a:xfrm>
            <a:off x="2362320" y="1219320"/>
            <a:ext cx="655308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ТАЙФУНЫ И УРАГАН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–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ПАСНЫЕ ВЕТРЫ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29718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НИМАЮТ ВЫСОКИЕ ВОЛ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АЮТ З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НОСЯТ В МОРЕ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7" descr="море"/>
          <p:cNvPicPr/>
          <p:nvPr/>
        </p:nvPicPr>
        <p:blipFill>
          <a:blip r:embed="rId1"/>
          <a:stretch/>
        </p:blipFill>
        <p:spPr>
          <a:xfrm>
            <a:off x="2743200" y="1219320"/>
            <a:ext cx="609912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БРИЗ И МУССОН –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ИХИЕ</a:t>
            </a: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ЕТР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362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БРИЗ 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ГОНИТ ПО МОРЮ ЛЕГКУЮ ВОЛ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5" descr="01"/>
          <p:cNvPicPr/>
          <p:nvPr/>
        </p:nvPicPr>
        <p:blipFill>
          <a:blip r:embed="rId1"/>
          <a:stretch/>
        </p:blipFill>
        <p:spPr>
          <a:xfrm>
            <a:off x="3124080" y="1143000"/>
            <a:ext cx="571824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Tahoma"/>
              </a:rPr>
              <a:t>ВОПРО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ПОЧЕМУ ИДЕТ ДОЖД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КАКИЕ ТЫ ЗНАЕШЬ СИЛЬНЫЕ, ОПАСНЫЕ ВЕТ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КАКИЕ ТИХИЕ ВЕТРЫ ТЫ ЗНАЕШ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83</cp:lastModifiedBy>
  <dcterms:modified xsi:type="dcterms:W3CDTF">2014-11-02T18:29:2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