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38F9-B321-46E7-93B6-31856DCB0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ACDD-F88B-4C94-A4AD-07385CCD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C60B-6349-4B8C-9A11-9B1E44CA6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EDE6-52EE-4CC2-ACE9-0300DFF4C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B7BD-3308-4671-B46D-EAEA7C00A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8484-926C-499A-A0DB-44868FB2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54AE-652B-4671-87AB-64595C18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D0337-BF33-468B-951A-9E099E94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1B7D-04C2-4B38-8A91-951331C5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9F5E-F848-4E8A-9D00-D92AC6F8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D023-1E24-4777-9F22-680129EE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DA84-9FC4-4B4F-8E58-6E361D83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B9DE-F838-4A74-A9FC-4A0D9D27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EE16-AD2E-45DA-B1ED-AFE74C51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7740-0A19-468F-B684-6138D467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E89D-6ECD-4D6B-A7B7-E4197DA9B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FC27-9AEF-4CFC-8973-0F19D13F0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689F-F9FB-4103-8B9B-27E089F2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BC21-05FF-4DDF-B802-5A6EF40F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8DF6-38CD-488A-96F9-891526D3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5758-3731-4A17-8CC2-65624B63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00B9-B95B-4754-847F-F2E8DB69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3C29-4B60-4E42-BE6D-080457D1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596B-7CD1-42B4-8B04-D58335EB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A030-ED47-4CF9-B205-BCE6DAA5B09E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3A43-8697-407E-B533-DE83138A3950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Perpetua Titling MT"/>
              </a:rPr>
              <a:t>Особенности коррекции дизорфографических нарушений у младших школьников при работе со сказкой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04920" y="940320"/>
            <a:ext cx="873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ы эксперимента по методике «Исследование состояния письменной речи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материале диктантов»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09480" y="2057400"/>
          <a:ext cx="81536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81536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5943600" y="593964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Диаграмма 19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62000" y="1168920"/>
            <a:ext cx="746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ы эксперимента по методике «Исследование навыков письма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материале словарных слов»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990720" y="2019240"/>
          <a:ext cx="7467480" cy="44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019240"/>
                    <a:ext cx="7467480" cy="44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6248520" y="59587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Диаграмма 20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20680" y="777960"/>
            <a:ext cx="870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ы эксперимента по методике «Исследование усвоения способов проверки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рфограмм.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едение анализа дисграфических и дизорфографических ошибок в диктанте»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685800" y="2233440"/>
          <a:ext cx="800100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33440"/>
                    <a:ext cx="800100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6019920" y="58078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Диаграмма 21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736560" y="795240"/>
            <a:ext cx="7672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ы эксперимента по методике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«Исследование объема и качеств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оминативного словаря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процессе беседы по предметам окружающей обстановки и по темам»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33520" y="2057400"/>
          <a:ext cx="789624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57400"/>
                    <a:ext cx="78962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5715000" y="592056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Диаграмма 22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-141120" y="1119600"/>
            <a:ext cx="942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ы эксперимента по методике «Исследование умения употреблять существительные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единственном и множественном числе»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914400" y="2133720"/>
          <a:ext cx="79884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133720"/>
                    <a:ext cx="79884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6248520" y="59983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Диаграмма 23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878040" y="1010160"/>
            <a:ext cx="757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ы эксперимента по методике «Исследование умения употреблять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ложно-падежные конструкции»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33520" y="2057400"/>
          <a:ext cx="8381880" cy="450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57400"/>
                    <a:ext cx="838188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6019920" y="600624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Диаграмма 24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609480" y="304920"/>
            <a:ext cx="8229600" cy="556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пасиб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1" i="1" lang="ru-RU" sz="1600" spc="-1" strike="noStrike">
                <a:solidFill>
                  <a:srgbClr val="006666"/>
                </a:solidFill>
                <a:latin typeface="Verdana"/>
              </a:rPr>
              <a:t>Проблема исследования</a:t>
            </a: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 - содержание и методическая система логопедической работы по коррекции дизорфографии у младших школьников.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   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1" i="1" lang="ru-RU" sz="1600" spc="-1" strike="noStrike">
                <a:solidFill>
                  <a:srgbClr val="006666"/>
                </a:solidFill>
                <a:latin typeface="Verdana"/>
              </a:rPr>
              <a:t>Цель исследования</a:t>
            </a: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 - научное обоснование, разработка и экспериментальная проверка системы логопедической работы по устранению дизорфографии у младших школьников в начальной школе при работе с фольклорным материалом. 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  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i="1" lang="ru-RU" sz="1600" spc="-1" strike="noStrike">
                <a:solidFill>
                  <a:srgbClr val="006666"/>
                </a:solidFill>
                <a:latin typeface="Verdana"/>
              </a:rPr>
              <a:t>Объект исследования</a:t>
            </a: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 – дизорфографические особенности младших школьников.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  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i="1" lang="ru-RU" sz="1600" spc="-1" strike="noStrike">
                <a:solidFill>
                  <a:srgbClr val="006666"/>
                </a:solidFill>
                <a:latin typeface="Verdana"/>
              </a:rPr>
              <a:t>Предмет исследования</a:t>
            </a: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 - система логопедической работы по коррекции дизорфографии у учащихся третьих классов в начальной школе.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1" i="1" lang="ru-RU" sz="1600" spc="-1" strike="noStrike">
                <a:solidFill>
                  <a:srgbClr val="006666"/>
                </a:solidFill>
                <a:latin typeface="Verdana"/>
              </a:rPr>
              <a:t>Гипотеза исследования</a:t>
            </a: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 – мы предполагаем, что специально организованная система логопедической работы обеспечит успешную коррекцию дизорфографии у данной категории детей, если будет использована сказка, направленная на развитие орфографической зоркости, на формирование различных компонентов языковой способности (фонематических, лексических, морфологических и синтаксических обобщений).</a:t>
            </a:r>
            <a:endParaRPr b="0" lang="en-US" sz="16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66"/>
                </a:solidFill>
                <a:latin typeface="Verdana"/>
              </a:rPr>
              <a:t>                                                                </a:t>
            </a:r>
            <a:r>
              <a:rPr b="1" i="1" lang="ru-RU" sz="1600" spc="-1" strike="noStrike">
                <a:solidFill>
                  <a:srgbClr val="006666"/>
                </a:solidFill>
                <a:latin typeface="Verdana"/>
              </a:rPr>
              <a:t>Задачи</a:t>
            </a: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:</a:t>
            </a:r>
            <a:br>
              <a:rPr sz="1600"/>
            </a:br>
            <a:r>
              <a:rPr b="0" lang="ru-RU" sz="1400" spc="-1" strike="noStrike">
                <a:solidFill>
                  <a:srgbClr val="006666"/>
                </a:solidFill>
                <a:latin typeface="Verdana"/>
              </a:rPr>
              <a:t>1.   Проанализировать и охарактеризовать современные подходы к решению проблемы   изучения   и   коррекции  дизорфографии  у   младших  школьников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6666"/>
                </a:solidFill>
                <a:latin typeface="Verdana"/>
              </a:rPr>
              <a:t>2. Разработать методику диагностики, направленную на оценку орфографических знаний, умений и навыков, а так же на определение механизмов   дизорфографии  у  учеников третьих классов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6666"/>
                </a:solidFill>
                <a:latin typeface="Verdana"/>
              </a:rPr>
              <a:t>3.  В процессе экспериментального исследования обнаружить особенности овладения орфографическими знаниями, умениями и навыками школьниками третьих  классов с дизорфографией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6666"/>
                </a:solidFill>
                <a:latin typeface="Verdana"/>
              </a:rPr>
              <a:t>4. Разработать, теоретически обосновать и апробировать методическую систему логопедической работы по коррекции дизорфографии при работе со сказкой у учащихся третьих классов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6666"/>
                </a:solidFill>
                <a:latin typeface="Verdana"/>
              </a:rPr>
              <a:t>5.   Проверить эффективность методической системы логопедической работы по коррекции дизорфографии.  </a:t>
            </a:r>
            <a:br>
              <a:rPr sz="1400"/>
            </a:br>
            <a:br>
              <a:rPr sz="1400"/>
            </a:br>
            <a:r>
              <a:rPr b="1" i="1" lang="ru-RU" sz="1600" spc="-1" strike="noStrike">
                <a:solidFill>
                  <a:srgbClr val="006666"/>
                </a:solidFill>
                <a:latin typeface="Verdana"/>
              </a:rPr>
              <a:t>Методы исследования. </a:t>
            </a: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В процессе исследования применялись следующие методы: теоретический метод (анализ психолого-педагогической и логопедической литературы), эмпирические методы (констатирующий, формирующий и контрольный эксперименты), интерпретационные  методы (количественный и качественный анализ данных, обработка результатов эксперимента).  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6666"/>
                </a:solidFill>
                <a:latin typeface="Verdana"/>
              </a:rPr>
              <a:t>База исследования </a:t>
            </a: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- муниципальное образовательное учреждение, Зарубинская основная общеобразовательная школа (3 класса).</a:t>
            </a:r>
            <a:r>
              <a:rPr b="0" lang="ru-RU" sz="1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62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Verdana"/>
              </a:rPr>
              <a:t>Тест.</a:t>
            </a:r>
            <a:br>
              <a:rPr sz="1600"/>
            </a:br>
            <a:r>
              <a:rPr b="0" lang="en-US" sz="1600" spc="-1" strike="noStrike">
                <a:solidFill>
                  <a:srgbClr val="006666"/>
                </a:solidFill>
                <a:latin typeface="Verdana"/>
              </a:rPr>
              <a:t>1.</a:t>
            </a:r>
            <a:r>
              <a:rPr b="0" i="1" lang="en-US" sz="1600" spc="-1" strike="noStrike">
                <a:solidFill>
                  <a:srgbClr val="006666"/>
                </a:solidFill>
                <a:latin typeface="Verdana"/>
              </a:rPr>
              <a:t>Сказка - это</a:t>
            </a:r>
            <a:r>
              <a:rPr b="0" lang="en-US" sz="1600" spc="-1" strike="noStrike">
                <a:solidFill>
                  <a:srgbClr val="006666"/>
                </a:solidFill>
                <a:latin typeface="Verdana"/>
              </a:rPr>
              <a:t>........</a:t>
            </a:r>
            <a:br>
              <a:rPr sz="1600"/>
            </a:br>
            <a:r>
              <a:rPr b="0" lang="en-US" sz="1600" spc="-1" strike="noStrike">
                <a:solidFill>
                  <a:srgbClr val="006666"/>
                </a:solidFill>
                <a:latin typeface="Verdana"/>
              </a:rPr>
              <a:t>а) вид устных повествований с фантастическим вымыслом;</a:t>
            </a:r>
            <a:br>
              <a:rPr sz="1600"/>
            </a:br>
            <a:r>
              <a:rPr b="0" lang="en-US" sz="1600" spc="-1" strike="noStrike">
                <a:solidFill>
                  <a:srgbClr val="006666"/>
                </a:solidFill>
                <a:latin typeface="Verdana"/>
              </a:rPr>
              <a:t>б) всё, что написано в книгах, как и всё вообще, что печатается и пишется;</a:t>
            </a:r>
            <a:br>
              <a:rPr sz="1600"/>
            </a:br>
            <a:r>
              <a:rPr b="0" lang="en-US" sz="1600" spc="-1" strike="noStrike">
                <a:solidFill>
                  <a:srgbClr val="006666"/>
                </a:solidFill>
                <a:latin typeface="Verdana"/>
              </a:rPr>
              <a:t>в) небольшое литературное повествовательное произведение в прозе с за­вершённым сюжетным действием.</a:t>
            </a:r>
            <a:br>
              <a:rPr sz="1600"/>
            </a:br>
            <a:r>
              <a:rPr b="0" i="1" lang="en-US" sz="1600" spc="-1" strike="noStrike">
                <a:solidFill>
                  <a:srgbClr val="006666"/>
                </a:solidFill>
                <a:latin typeface="Verdana"/>
              </a:rPr>
              <a:t>2. Какие слова употребляются в зачине?</a:t>
            </a:r>
            <a:br>
              <a:rPr sz="1600"/>
            </a:br>
            <a:r>
              <a:rPr b="0" lang="en-US" sz="1600" spc="-1" strike="noStrike">
                <a:solidFill>
                  <a:srgbClr val="006666"/>
                </a:solidFill>
                <a:latin typeface="Verdana"/>
              </a:rPr>
              <a:t>а) В некотором царстве, в некотором государстве...</a:t>
            </a:r>
            <a:br>
              <a:rPr sz="1600"/>
            </a:br>
            <a:r>
              <a:rPr b="0" lang="en-US" sz="1600" spc="-1" strike="noStrike">
                <a:solidFill>
                  <a:srgbClr val="006666"/>
                </a:solidFill>
                <a:latin typeface="Verdana"/>
              </a:rPr>
              <a:t>б) Ни словом сказать, ни пером описать...</a:t>
            </a:r>
            <a:br>
              <a:rPr sz="1600"/>
            </a:br>
            <a:r>
              <a:rPr b="0" lang="en-US" sz="1600" spc="-1" strike="noStrike">
                <a:solidFill>
                  <a:srgbClr val="006666"/>
                </a:solidFill>
                <a:latin typeface="Verdana"/>
              </a:rPr>
              <a:t>в) Жили- были...</a:t>
            </a:r>
            <a:br>
              <a:rPr sz="1600"/>
            </a:br>
            <a:r>
              <a:rPr b="0" i="1" lang="en-US" sz="1600" spc="-1" strike="noStrike">
                <a:solidFill>
                  <a:srgbClr val="006666"/>
                </a:solidFill>
                <a:latin typeface="Verdana"/>
              </a:rPr>
              <a:t>3. Какие слова употребляются в концовке?</a:t>
            </a:r>
            <a:br>
              <a:rPr sz="1600"/>
            </a:br>
            <a:r>
              <a:rPr b="0" lang="en-US" sz="1600" spc="-1" strike="noStrike">
                <a:solidFill>
                  <a:srgbClr val="006666"/>
                </a:solidFill>
                <a:latin typeface="Verdana"/>
              </a:rPr>
              <a:t>а) Жили-были....</a:t>
            </a:r>
            <a:br>
              <a:rPr sz="1600"/>
            </a:br>
            <a:r>
              <a:rPr b="0" lang="en-US" sz="1600" spc="-1" strike="noStrike">
                <a:solidFill>
                  <a:srgbClr val="006666"/>
                </a:solidFill>
                <a:latin typeface="Verdana"/>
              </a:rPr>
              <a:t>б) Тут и сказочке конец, а кто слушал молодец!</a:t>
            </a:r>
            <a:br>
              <a:rPr sz="1600"/>
            </a:br>
            <a:r>
              <a:rPr b="0" lang="en-US" sz="1600" spc="-1" strike="noStrike">
                <a:solidFill>
                  <a:srgbClr val="006666"/>
                </a:solidFill>
                <a:latin typeface="Verdana"/>
              </a:rPr>
              <a:t>в)  Сказка ложь, да в ней намёк, добрым молодцам урок. </a:t>
            </a:r>
            <a:br>
              <a:rPr sz="1600"/>
            </a:br>
            <a:r>
              <a:rPr b="0" i="1" lang="en-US" sz="1600" spc="-1" strike="noStrike">
                <a:solidFill>
                  <a:srgbClr val="006666"/>
                </a:solidFill>
                <a:latin typeface="Verdana"/>
              </a:rPr>
              <a:t>4.Кто из героев живёт в волшебном замке?</a:t>
            </a:r>
            <a:br>
              <a:rPr sz="1600"/>
            </a:br>
            <a:r>
              <a:rPr b="0" lang="en-US" sz="1600" spc="-1" strike="noStrike">
                <a:solidFill>
                  <a:srgbClr val="006666"/>
                </a:solidFill>
                <a:latin typeface="Verdana"/>
              </a:rPr>
              <a:t>а) Иван-царевич;</a:t>
            </a:r>
            <a:br>
              <a:rPr sz="1600"/>
            </a:br>
            <a:r>
              <a:rPr b="0" lang="en-US" sz="1600" spc="-1" strike="noStrike">
                <a:solidFill>
                  <a:srgbClr val="006666"/>
                </a:solidFill>
                <a:latin typeface="Verdana"/>
              </a:rPr>
              <a:t>б) Колобок;</a:t>
            </a:r>
            <a:br>
              <a:rPr sz="1600"/>
            </a:br>
            <a:r>
              <a:rPr b="0" lang="en-US" sz="1600" spc="-1" strike="noStrike">
                <a:solidFill>
                  <a:srgbClr val="006666"/>
                </a:solidFill>
                <a:latin typeface="Verdana"/>
              </a:rPr>
              <a:t>в) Снегурочка;</a:t>
            </a:r>
            <a:br>
              <a:rPr sz="1600"/>
            </a:br>
            <a:r>
              <a:rPr b="0" lang="en-US" sz="1600" spc="-1" strike="noStrike">
                <a:solidFill>
                  <a:srgbClr val="006666"/>
                </a:solidFill>
                <a:latin typeface="Verdana"/>
              </a:rPr>
              <a:t>г) Елена -Премудрая;</a:t>
            </a:r>
            <a:br>
              <a:rPr sz="1600"/>
            </a:br>
            <a:r>
              <a:rPr b="0" lang="en-US" sz="1600" spc="-1" strike="noStrike">
                <a:solidFill>
                  <a:srgbClr val="006666"/>
                </a:solidFill>
                <a:latin typeface="Verdana"/>
              </a:rPr>
              <a:t>д) Другой ответ. Какой?</a:t>
            </a:r>
            <a:br>
              <a:rPr sz="1600"/>
            </a:br>
            <a:r>
              <a:rPr b="0" i="1" lang="en-US" sz="1600" spc="-1" strike="noStrike">
                <a:solidFill>
                  <a:srgbClr val="006666"/>
                </a:solidFill>
                <a:latin typeface="Verdana"/>
              </a:rPr>
              <a:t>5. Кто из героев владеет волшебством?</a:t>
            </a:r>
            <a:br>
              <a:rPr sz="1600"/>
            </a:br>
            <a:r>
              <a:rPr b="0" lang="en-US" sz="1600" spc="-1" strike="noStrike">
                <a:solidFill>
                  <a:srgbClr val="006666"/>
                </a:solidFill>
                <a:latin typeface="Verdana"/>
              </a:rPr>
              <a:t>а) Мужик;</a:t>
            </a:r>
            <a:br>
              <a:rPr sz="1600"/>
            </a:br>
            <a:r>
              <a:rPr b="0" lang="en-US" sz="1600" spc="-1" strike="noStrike">
                <a:solidFill>
                  <a:srgbClr val="006666"/>
                </a:solidFill>
                <a:latin typeface="Verdana"/>
              </a:rPr>
              <a:t>б) Машенька;</a:t>
            </a:r>
            <a:br>
              <a:rPr sz="1600"/>
            </a:br>
            <a:r>
              <a:rPr b="0" lang="en-US" sz="1600" spc="-1" strike="noStrike">
                <a:solidFill>
                  <a:srgbClr val="006666"/>
                </a:solidFill>
                <a:latin typeface="Verdana"/>
              </a:rPr>
              <a:t>в) Василиса - Прекрасная; </a:t>
            </a:r>
            <a:br>
              <a:rPr sz="1600"/>
            </a:br>
            <a:r>
              <a:rPr b="0" lang="en-US" sz="1600" spc="-1" strike="noStrike">
                <a:solidFill>
                  <a:srgbClr val="006666"/>
                </a:solidFill>
                <a:latin typeface="Verdana"/>
              </a:rPr>
              <a:t>г) Баба - Яга;</a:t>
            </a:r>
            <a:br>
              <a:rPr sz="1600"/>
            </a:br>
            <a:r>
              <a:rPr b="0" lang="en-US" sz="1600" spc="-1" strike="noStrike">
                <a:solidFill>
                  <a:srgbClr val="006666"/>
                </a:solidFill>
                <a:latin typeface="Verdana"/>
              </a:rPr>
              <a:t>д) Другой ответ. Какой?</a:t>
            </a:r>
            <a:br>
              <a:rPr sz="1600"/>
            </a:br>
            <a:r>
              <a:rPr b="0" i="1" lang="en-US" sz="1600" spc="-1" strike="noStrike">
                <a:solidFill>
                  <a:srgbClr val="006666"/>
                </a:solidFill>
                <a:latin typeface="Verdana"/>
              </a:rPr>
              <a:t>и т.д.</a:t>
            </a:r>
            <a:endParaRPr b="0" lang="en-US" sz="16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457200" y="1143000"/>
          <a:ext cx="8229600" cy="5318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0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олшебные сказки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Бытовые сказки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казки о животных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60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6699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«Никита Кожемяка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6699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«Снегурочка»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6699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«Репка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6699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«Колобок»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6699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«Теремок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6699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«Заюшкина избушка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6699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«Под грибом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6699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«Лисичка-сестричка и волк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6699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«Два жадных медвежонка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6699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«Заяц-хваста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6699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«Петушок и бобовое зернышко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6699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«Байка о щуке зубастой»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2421000" y="534600"/>
            <a:ext cx="43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Примененные на занятиях сказки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57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6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                      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Критериями отбора сказок являлось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- простота в изложении (ограниченность во времени);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- известны детям;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- наличие большого количества персонажей, для последующей инсценировки;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- богатый лексический материал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41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Verdana"/>
              </a:rPr>
              <a:t>Сравнительная характеристика </a:t>
            </a:r>
            <a:br>
              <a:rPr sz="3200"/>
            </a:br>
            <a:r>
              <a:rPr b="1" i="1" lang="en-US" sz="3200" spc="-1" strike="noStrike">
                <a:solidFill>
                  <a:srgbClr val="006666"/>
                </a:solidFill>
                <a:latin typeface="Verdana"/>
              </a:rPr>
              <a:t>результатов</a:t>
            </a:r>
            <a:br>
              <a:rPr sz="3200"/>
            </a:br>
            <a:r>
              <a:rPr b="1" i="1" lang="en-US" sz="3200" spc="-1" strike="noStrike">
                <a:solidFill>
                  <a:srgbClr val="006666"/>
                </a:solidFill>
                <a:latin typeface="Verdana"/>
              </a:rPr>
              <a:t>констатирующего эксперимента </a:t>
            </a:r>
            <a:br>
              <a:rPr sz="3200"/>
            </a:br>
            <a:r>
              <a:rPr b="1" i="1" lang="en-US" sz="3200" spc="-1" strike="noStrike">
                <a:solidFill>
                  <a:srgbClr val="006666"/>
                </a:solidFill>
                <a:latin typeface="Verdana"/>
              </a:rPr>
              <a:t>и </a:t>
            </a:r>
            <a:br>
              <a:rPr sz="3200"/>
            </a:br>
            <a:r>
              <a:rPr b="1" i="1" lang="en-US" sz="3200" spc="-1" strike="noStrike">
                <a:solidFill>
                  <a:srgbClr val="006666"/>
                </a:solidFill>
                <a:latin typeface="Verdana"/>
              </a:rPr>
              <a:t>контрольного среза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62120" y="1521720"/>
            <a:ext cx="83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ы эксперимента по методике  «Чтобы сказка на земле жила»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80880" y="2081160"/>
          <a:ext cx="8153640" cy="42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81160"/>
                    <a:ext cx="8153640" cy="42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5562720" y="571284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Диаграмма 17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7920" y="1353240"/>
            <a:ext cx="71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ы эксперимента по методике  «Русский дом»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85800" y="1905120"/>
          <a:ext cx="792468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05120"/>
                    <a:ext cx="79246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5105520" y="60541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Диаграмма 18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5-01-25T13:45:42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