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FE1-6991-4D0A-A96C-006C4E33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E54-AC09-419A-BF5C-18F18D14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D1F-FEAE-4461-8A01-8200115F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F7E-3647-461F-B965-9DE42388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E436-CAB9-4BA4-867E-46AE8F04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E30A-E009-428A-843A-DD277385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9866-54FE-4A95-8E38-76A0FE38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8D85-7A1F-4622-A04B-BC7D3100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49B4-A430-4FB0-A019-74453802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9CE1-7BA8-4376-A016-B4CDE2F9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41D9-B98A-4BD4-865A-19C6FBEE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9BE-14BE-40E3-BEA8-D64170E7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D0E3-84A7-40F9-ADD4-83A111F2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FA38-B709-4DFF-9187-9D8BC969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3886-FDAD-421F-B88B-935129A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768-8BFB-481B-AD57-760874A5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356F-269B-4AEE-8FB9-253F6861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9ED-E68E-40C2-A5CF-FE0509AB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4A3-C9DA-4C34-AFB9-B8C66746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D71-57AA-4383-9C22-3A79127F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79A-6A46-4F2A-AD55-1E416EF0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B94-0C0E-4B35-96A6-C772F25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02A-F2E1-493B-A27C-04DB3283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D9F-6DF2-4288-AFC2-4562D36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657-A645-4DA6-B1A4-80B79ADECDA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6FD4-66EC-498F-AB53-4BBFDA7CC55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Perpetua Titling MT"/>
              </a:rPr>
              <a:t>Особенности коррекции дизорфографических нарушений у младших школьников при работе со сказкой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940320"/>
            <a:ext cx="873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состояния письменной реч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материале диктантов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2057400"/>
          <a:ext cx="8153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153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943600" y="593964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1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0" y="1168920"/>
            <a:ext cx="74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навыков письм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материале словарных слов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90720" y="2019240"/>
          <a:ext cx="746748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19240"/>
                    <a:ext cx="746748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248520" y="5958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0680" y="777960"/>
            <a:ext cx="870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усвоения способов провер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рфограмм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ие анализа дисграфических и дизорфографических ошибок в диктанте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2233440"/>
          <a:ext cx="800100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33440"/>
                    <a:ext cx="800100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019920" y="5807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36560" y="795240"/>
            <a:ext cx="767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Исследование объема и качеств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минативного словаря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беседы по предметам окружающей обстановки и по темам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520" y="2057400"/>
          <a:ext cx="78962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8962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5715000" y="59205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-141120" y="1119600"/>
            <a:ext cx="942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умения употреблять существительны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единственном и множественном числе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14400" y="2133720"/>
          <a:ext cx="7988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988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48520" y="5998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78040" y="1010160"/>
            <a:ext cx="757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«Исследование умения употреблят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но-падежные конструкции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33520" y="2057400"/>
          <a:ext cx="838188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38188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019920" y="60062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2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09480" y="304920"/>
            <a:ext cx="822960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Проблема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- содержание и методическая система логопедической работы по коррекции дизорфографии у младших школьников.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 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Цель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- научное обоснование, разработка и экспериментальная проверка системы логопедической работы по устранению дизорфографии у младших школьников в начальной школе при работе с фольклорным материалом. 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Объект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– дизорфографические особенности младших школьников.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Предмет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- система логопедической работы по коррекции дизорфографии у учащихся третьих классов в начальной школе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Гипотеза исследования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 – мы предполагаем, что специально организованная система логопедической работы обеспечит успешную коррекцию дизорфографии у данной категории детей, если будет использована сказка, направленная на развитие орфографической зоркости, на формирование различных компонентов языковой способности (фонематических, лексических, морфологических и синтаксических обобщений).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Задачи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:</a:t>
            </a:r>
            <a:br>
              <a:rPr sz="16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1.   Проанализировать и охарактеризовать современные подходы к решению проблемы   изучения   и   коррекции  дизорфографии  у   младших  школьников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2. Разработать методику диагностики, направленную на оценку орфографических знаний, умений и навыков, а так же на определение механизмов   дизорфографии  у  учеников третьих классов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3.  В процессе экспериментального исследования обнаружить особенности овладения орфографическими знаниями, умениями и навыками школьниками третьих  классов с дизорфографи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4. Разработать, теоретически обосновать и апробировать методическую систему логопедической работы по коррекции дизорфографии при работе со сказкой у учащихся третьих классов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5.   Проверить эффективность методической системы логопедической работы по коррекции дизорфографии.  </a:t>
            </a:r>
            <a:br>
              <a:rPr sz="1400"/>
            </a:br>
            <a:br>
              <a:rPr sz="1400"/>
            </a:b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етоды исследования. 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В процессе исследования применялись следующие методы: теоретический метод (анализ психолого-педагогической и логопедической литературы), эмпирические методы (констатирующий, формирующий и контрольный эксперименты), интерпретационные  методы (количественный и качественный анализ данных, обработка результатов эксперимента).  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База исследования 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- муниципальное образовательное учреждение, Зарубинская основная общеобразовательная школа (3 класса).</a:t>
            </a:r>
            <a:r>
              <a:rPr b="0" lang="ru-RU" sz="1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Тест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1.</a:t>
            </a: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Сказка - это</a:t>
            </a: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.......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вид устных повествований с фантастическим вымыслом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всё, что написано в книгах, как и всё вообще, что печатается и пишется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небольшое литературное повествовательное произведение в прозе с за­вершённым сюжетным действием.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2. Какие слова употребляются в зачине?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В некотором царстве, в некотором государстве..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Ни словом сказать, ни пером описать..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Жили- были...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3. Какие слова употребляются в концовке?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Жили-были...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Тут и сказочке конец, а кто слушал молодец!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 Сказка ложь, да в ней намёк, добрым молодцам урок. 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4.Кто из героев живёт в волшебном замке?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Иван-царевич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Колобок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Снегурочка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г) Елена -Премудрая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д) Другой ответ. Какой?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5. Кто из героев владеет волшебством?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а) Мужик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б) Машенька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в) Василиса - Прекрасная; 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г) Баба - Яга;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Verdana"/>
              </a:rPr>
              <a:t>д) Другой ответ. Какой?</a:t>
            </a:r>
            <a:br>
              <a:rPr sz="1600"/>
            </a:br>
            <a:r>
              <a:rPr b="0" i="1" lang="en-US" sz="1600" spc="-1" strike="noStrike">
                <a:solidFill>
                  <a:srgbClr val="006666"/>
                </a:solidFill>
                <a:latin typeface="Verdana"/>
              </a:rPr>
              <a:t>и т.д.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олшебные сказк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ытовые сказк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азки о животных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6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Никита Кожемя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Снегурочка»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Реп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Колобок»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Теремок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Заюшкина избуш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Под грибом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Лисичка-сестричка и волк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Два жадных медвежон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Заяц-хваст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Петушок и бобовое зернышко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Байка о щуке зубастой»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421000" y="534600"/>
            <a:ext cx="43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Примененные на занятиях сказки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7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Критериями отбора сказок являлось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- простота в изложении (ограниченность во времени)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- известны детям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- наличие большого количества персонажей, для последующей инсценировки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- богатый лексический материал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41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Сравнительная характеристика 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результатов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констатирующего эксперимента 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и 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контрольного срез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1521720"/>
            <a:ext cx="83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 «Чтобы сказка на земле жил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880" y="2081160"/>
          <a:ext cx="815364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81160"/>
                    <a:ext cx="815364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562720" y="57128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1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1353240"/>
            <a:ext cx="71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сперимента по методике  «Русский дом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1905120"/>
          <a:ext cx="7924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924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5105520" y="6054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иаграмма 1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5-01-25T13:45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