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199313" cy="5400675"/>
  <p:notesSz cx="6858000" cy="9144000"/>
  <p:custShowLst>
    <p:custShow name="Произвольный показ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F27-5CFC-48F6-85AA-E6850E9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312228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FD5-9365-4FCF-91D9-2595449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4D7-79FA-4F39-9607-412CBCC7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FE0-10EA-420A-97E3-705963A5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472-7FA8-46CC-BA16-87D862EA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82-9910-40A4-B881-C282757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A83-E2A8-49D2-B55C-7710AB83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5CD-4124-41E2-A661-C883C606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16000"/>
            <a:ext cx="648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82C-CEF0-40CF-942D-F134675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452-8B07-452E-A1EC-4B5E2D9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7E2-7890-4120-AD69-C03E0F7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F0B-BC06-47FC-9964-A2BBADA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2" marL="90000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5005440"/>
            <a:ext cx="167940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lstStyle>
            <a:lvl1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9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5005440"/>
            <a:ext cx="227952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5005440"/>
            <a:ext cx="167940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9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8EAE8DA3-8499-4978-867F-9368343E268E}" type="slidenum">
              <a:rPr b="0" lang="en-US" sz="9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880" y="479520"/>
            <a:ext cx="6361200" cy="650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lIns="72000" rIns="72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доуказ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1130040"/>
            <a:ext cx="2368440" cy="3693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ыполнила:  </a:t>
            </a:r>
            <a:r>
              <a:rPr b="1" i="1" lang="ru-RU" sz="1900" spc="-1" strike="noStrike">
                <a:solidFill>
                  <a:srgbClr val="000000"/>
                </a:solidFill>
                <a:latin typeface="Cambria"/>
              </a:rPr>
              <a:t>Величко Валер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3 «В» класс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учный руководитель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mbria"/>
              </a:rPr>
              <a:t>Калмыкова Е. 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143160" y="1328760"/>
            <a:ext cx="30434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960480" y="539640"/>
            <a:ext cx="52801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риемные родители выкармливают лишь птенца Медоуказчик. Птенцы некоторых других видов медоуказчиков выбрасывают своих сводных братьев из гнезда, так же как это делает, например, птенец обыкновенной кукушки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20840" y="1800360"/>
            <a:ext cx="281952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493360" y="4500720"/>
            <a:ext cx="270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чешуегорлы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460600" y="1951200"/>
            <a:ext cx="1979640" cy="2249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4621320" y="2554200"/>
            <a:ext cx="1739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Лирохвостый 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79400" y="299880"/>
            <a:ext cx="58816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Заметив идущего по лесу человека, птица близко к нему подлетает, громким криком и своеобразными движениями привлекает к себе его внимание и в буквальном смысле слова ведет его за собой. Местные жители, зная, в чем дело, охотно идут за птицей и в конце пути оказываются около пчелиного гнезда. Остается только выбрать из него мед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00120" y="299880"/>
            <a:ext cx="61801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«Медоуказчик,—говорит Шпаррман,--почти не приметен, так совершенно на­поминает обыкновенного серого воробья, хотя немного крупнее и бледнее последнего. Если он открывает человеку место, где находится гнездо пчел, то делает это из эгоистических побуждений: мед и личинки пчел составляют его любимое кушанье, и ему известно, что при разо­рении улья всегда кое-что перепадает на его долю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31129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79640" y="2103480"/>
            <a:ext cx="2820960" cy="1557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707200" y="4140360"/>
            <a:ext cx="1539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20720" y="420840"/>
            <a:ext cx="558000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Другая уникальная повадка этих птиц. Речь идет о дружбе, а вернее, веками установившемся сотрудничестве, некая разновидность симбиоза, медоведа с медоедом — барсуком рате-лем и некоторыми другими дикими животными Африки и даже с человеком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0240" y="1979640"/>
            <a:ext cx="4800600" cy="3241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900000" y="479520"/>
            <a:ext cx="552132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77600"/>
            <a:ext cx="6121440" cy="1157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Цель моей работы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79280" y="3060720"/>
            <a:ext cx="5041800" cy="137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Изучить жизнь медоуказчи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677600"/>
            <a:ext cx="6121440" cy="1157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Задача моей работы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79280" y="3060720"/>
            <a:ext cx="5041800" cy="137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зучить литературу о медоуказчик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осмотреть телефильмы о медоуказчик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йти информацию через Интернет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заповеднике очень интерес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Изображение 137.jpg"/>
          <p:cNvPicPr/>
          <p:nvPr/>
        </p:nvPicPr>
        <p:blipFill>
          <a:blip r:embed="rId1"/>
          <a:stretch/>
        </p:blipFill>
        <p:spPr>
          <a:xfrm>
            <a:off x="1560600" y="1620720"/>
            <a:ext cx="4416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39760"/>
            <a:ext cx="6121440" cy="113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ЕДОУКА́ЗЧИКИ (Indicatoridae), семейство птиц отряда дятлообразных, включает 12-14 видов, объединяемых в четыре рода. Представители этого семейства по внешнему виду имеют очень мало общего с настоящими дятлами. Это небольшие (длиной 10-20 см), скромно окрашенные птички, в общем серых или буроватых тонов, с недлинным, прямо срезанным хвостом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280" y="4447800"/>
            <a:ext cx="50418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00360" y="1620720"/>
            <a:ext cx="3600360" cy="2602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99960" y="2554200"/>
            <a:ext cx="13716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Белохвостый бюльбюль-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139760" y="479520"/>
            <a:ext cx="47404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Распространены Медоуказчик главным образом в Африке (9 видов) и частью в Азии — в Гималаях, а также на островах Индонезии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20720" y="162072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320840" y="4681440"/>
            <a:ext cx="4859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оуказч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Indicatoridae) - 17 вид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839880" y="299880"/>
            <a:ext cx="5460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Медоуказчики питаются главным образом насекомыми, а также пчелиным воском, который переваривают с помощью специальных кишечных бактери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20720" y="1200240"/>
            <a:ext cx="345780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5460840" y="3060720"/>
            <a:ext cx="1560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Плоскоклювый горный тукан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00000" y="420840"/>
            <a:ext cx="53406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Медоуказчик не строит своего гнезда и не насиживает яиц, а, подобно кукушке, подкладывают свои яйца в гнезда других птиц (так называемый гнездовой паразитизм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720" y="1800360"/>
            <a:ext cx="3600720" cy="23256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800360" y="4500720"/>
            <a:ext cx="3000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Большой 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79520" y="308160"/>
            <a:ext cx="62420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й вид медоуказчиков имеет своих хозяев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ой, или черногорлый, медоуказч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(Indicator indicator) подкладывает яйца дуплогнездникам, главным образом своим ближайшим родственникам — бородаткам и дятлам. Другие виды медоуказчиков кладут яйца в открытые гнезда белоглазок, камышовок (или славок), мухоловок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020600" y="2100240"/>
            <a:ext cx="4489560" cy="2400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3966840" y="4680000"/>
            <a:ext cx="1539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11:57Z</dcterms:created>
  <dc:creator>Home</dc:creator>
  <dc:description/>
  <dc:language>en-US</dc:language>
  <cp:lastModifiedBy>Home</cp:lastModifiedBy>
  <dcterms:modified xsi:type="dcterms:W3CDTF">2010-11-08T18:11:58Z</dcterms:modified>
  <cp:revision>22</cp:revision>
  <dc:subject/>
  <dc:title>Медоуказчик</dc:title>
</cp:coreProperties>
</file>