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7199313" cy="5400675"/>
  <p:notesSz cx="6858000" cy="9144000"/>
  <p:custShowLst>
    <p:custShow name="Произвольный показ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4B4-D383-4623-94EF-61A835FB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64800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3122280"/>
            <a:ext cx="64800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E18-C559-4B73-A726-ECE6481D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0640" y="126036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312228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0640" y="312228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38E-C89C-4355-BFE0-D36EF647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20862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1320" y="1260360"/>
            <a:ext cx="20862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2280" y="1260360"/>
            <a:ext cx="20862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3122280"/>
            <a:ext cx="20862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1320" y="3122280"/>
            <a:ext cx="20862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2280" y="3122280"/>
            <a:ext cx="20862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611-697A-412A-9AA4-2CCD37CE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260360"/>
            <a:ext cx="64800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6B0-DA85-4EB6-B88B-BDC668A1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6480000" cy="3564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281-5672-46CA-8C6A-227B4849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3161880" cy="3564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0640" y="1260360"/>
            <a:ext cx="3161880" cy="3564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E0A-5593-4252-9BD0-EBC37632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08F-135D-44C0-BB4E-65DAB361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16000"/>
            <a:ext cx="648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8AF-FA0C-4CE0-8B7B-766CE408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0640" y="1260360"/>
            <a:ext cx="3161880" cy="3564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312228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2D6-3C69-4188-8B9D-41A3972F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3161880" cy="3564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0640" y="126036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0640" y="312228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A3B-D9DF-4EB0-AB48-5CED4F03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26036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0640" y="1260360"/>
            <a:ext cx="316188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3122280"/>
            <a:ext cx="6480000" cy="1699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657-F044-4AB5-A46C-E960012B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260360"/>
            <a:ext cx="6480000" cy="3564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marL="270000" indent="-2700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584280" indent="-2239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2" marL="900000" indent="-179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3" marL="1258920" indent="-179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4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5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6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000" y="5005440"/>
            <a:ext cx="1679400" cy="2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lstStyle>
            <a:lvl1pPr indent="0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9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0600" y="5005440"/>
            <a:ext cx="2279520" cy="2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0600" y="5005440"/>
            <a:ext cx="1679400" cy="2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lstStyle>
            <a:lvl1pPr indent="0" algn="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9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D14EC5C6-03F7-49E9-A12B-D3B4CEC9E6B3}" type="slidenum">
              <a:rPr b="0" lang="en-US" sz="9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9880" y="479520"/>
            <a:ext cx="6361200" cy="6508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lIns="72000" rIns="72000" tIns="36000" bIns="36000" anchor="b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едоуказ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0000" y="1130040"/>
            <a:ext cx="2368440" cy="36939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Выполнила:  </a:t>
            </a:r>
            <a:r>
              <a:rPr b="1" i="1" lang="ru-RU" sz="1900" spc="-1" strike="noStrike">
                <a:solidFill>
                  <a:srgbClr val="000000"/>
                </a:solidFill>
                <a:latin typeface="Cambria"/>
              </a:rPr>
              <a:t>Величко Валерия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3 «В» класс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Научный руководитель: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ambria"/>
              </a:rPr>
              <a:t>Калмыкова Е. В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143160" y="1328760"/>
            <a:ext cx="304344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960480" y="539640"/>
            <a:ext cx="528012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Приемные родители выкармливают лишь птенца Медоуказчик. Птенцы некоторых других видов медоуказчиков выбрасывают своих сводных братьев из гнезда, так же как это делает, например, птенец обыкновенной кукушки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220840" y="1800360"/>
            <a:ext cx="2819520" cy="2700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493360" y="4500720"/>
            <a:ext cx="2708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едоуказчик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чешуегорлый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460600" y="1951200"/>
            <a:ext cx="1979640" cy="22492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4621320" y="2554200"/>
            <a:ext cx="1739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Лирохвостый </a:t>
            </a: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едоуказчик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779400" y="299880"/>
            <a:ext cx="588168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Заметив идущего по лесу человека, птица близко к нему подлетает, громким криком и своеобразными движениями привлекает к себе его внимание и в буквальном смысле слова ведет его за собой. Местные жители, зная, в чем дело, охотно идут за птицей и в конце пути оказываются около пчелиного гнезда. Остается только выбрать из него мед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600120" y="299880"/>
            <a:ext cx="61801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«Медоуказчик,—говорит Шпаррман,--почти не приметен, так совершенно на­поминает обыкновенного серого воробья, хотя немного крупнее и бледнее последнего. Если он открывает человеку место, где находится гнездо пчел, то делает это из эгоистических побуждений: мед и личинки пчел составляют его любимое кушанье, и ему известно, что при разо­рении улья всегда кое-что перепадает на его долю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00360" y="1979640"/>
            <a:ext cx="311292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79640" y="2103480"/>
            <a:ext cx="2820960" cy="1557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2707200" y="4140360"/>
            <a:ext cx="1539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едоуказчик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20720" y="420840"/>
            <a:ext cx="558000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Другая уникальная повадка этих птиц. Речь идет о дружбе, а вернее, веками установившемся сотрудничестве, некая разновидность симбиоза, медоведа с медоедом — барсуком рате-лем и некоторыми другими дикими животными Африки и даже с человеком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00240" y="1979640"/>
            <a:ext cx="4800600" cy="32418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900000" y="479520"/>
            <a:ext cx="552132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mbria"/>
              </a:rPr>
              <a:t>СПАСИБО ЗА ВНИМАНИЕ!</a:t>
            </a:r>
            <a:endParaRPr b="0" lang="en-US" sz="35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677600"/>
            <a:ext cx="6121440" cy="11574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Цель моей работы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79280" y="3060720"/>
            <a:ext cx="5041800" cy="1379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Изучить жизнь медоуказчик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677600"/>
            <a:ext cx="6121440" cy="11574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Задача моей работы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79280" y="3060720"/>
            <a:ext cx="5041800" cy="1379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Изучить литературу о медоуказчике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осмотреть телефильмы о медоуказчике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Найти информацию через Интернет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216000"/>
            <a:ext cx="6480000" cy="90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заповеднике очень интерес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Изображение 137.jpg"/>
          <p:cNvPicPr/>
          <p:nvPr/>
        </p:nvPicPr>
        <p:blipFill>
          <a:blip r:embed="rId1"/>
          <a:stretch/>
        </p:blipFill>
        <p:spPr>
          <a:xfrm>
            <a:off x="1560600" y="1620720"/>
            <a:ext cx="441648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39760"/>
            <a:ext cx="6121440" cy="1139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МЕДОУКА́ЗЧИКИ (Indicatoridae), семейство птиц отряда дятлообразных, включает 12-14 видов, объединяемых в четыре рода. Представители этого семейства по внешнему виду имеют очень мало общего с настоящими дятлами. Это небольшие (длиной 10-20 см), скромно окрашенные птички, в общем серых или буроватых тонов, с недлинным, прямо срезанным хвостом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79280" y="4447800"/>
            <a:ext cx="50418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00360" y="1620720"/>
            <a:ext cx="3600360" cy="26020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399960" y="2554200"/>
            <a:ext cx="13716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Белохвостый бюльбюль-</a:t>
            </a: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едоуказчик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1139760" y="479520"/>
            <a:ext cx="47404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Распространены Медоуказчик главным образом в Африке (9 видов) и частью в Азии — в Гималаях, а также на островах Индонезии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20720" y="162072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1320840" y="4681440"/>
            <a:ext cx="4859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оуказчик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Indicatoridae) - 17 видов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839880" y="299880"/>
            <a:ext cx="5460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Медоуказчики питаются главным образом насекомыми, а также пчелиным воском, который переваривают с помощью специальных кишечных бактери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20720" y="1200240"/>
            <a:ext cx="3457800" cy="36907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5460840" y="3060720"/>
            <a:ext cx="1560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Плоскоклювый горный тукан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900000" y="420840"/>
            <a:ext cx="53406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Медоуказчик не строит своего гнезда и не насиживает яиц, а, подобно кукушке, подкладывают свои яйца в гнезда других птиц (так называемый гнездовой паразитизм)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20720" y="1800360"/>
            <a:ext cx="3600720" cy="23256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1800360" y="4500720"/>
            <a:ext cx="3000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Большой </a:t>
            </a: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едоуказчик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479520" y="308160"/>
            <a:ext cx="624204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ждый вид медоуказчиков имеет своих хозяев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ой, или черногорлый, медоуказчи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(Indicator indicator) подкладывает яйца дуплогнездникам, главным образом своим ближайшим родственникам — бородаткам и дятлам. Другие виды медоуказчиков кладут яйца в открытые гнезда белоглазок, камышовок (или славок), мухоловок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020600" y="2100240"/>
            <a:ext cx="4489560" cy="24004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3966840" y="4680000"/>
            <a:ext cx="1539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Медоуказчики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8:11:57Z</dcterms:created>
  <dc:creator>Home</dc:creator>
  <dc:description/>
  <dc:language>en-US</dc:language>
  <cp:lastModifiedBy>Home</cp:lastModifiedBy>
  <dcterms:modified xsi:type="dcterms:W3CDTF">2010-11-08T18:11:58Z</dcterms:modified>
  <cp:revision>22</cp:revision>
  <dc:subject/>
  <dc:title>Медоуказчик</dc:title>
</cp:coreProperties>
</file>