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C08-04D7-46FA-80D1-D78D9379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D93-612E-47B8-8D2E-9E0F04F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ED5-A6CD-4202-BCD9-13A7A20D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EA3-B809-4F38-9E94-1243C5DF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E241-50BD-460D-BE71-DE03191A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877-ED10-415C-A862-620D417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50C-281D-4D27-9C8A-689D528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DB0-3EBE-40FD-9FDB-60B1DBC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14A7-8B6D-41D0-920E-B9F4BE3D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AC89-D5BF-40D5-BDC7-964D37F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F0A7-14C7-43CA-91A1-0CD7BDF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5A6-8228-4710-80A2-8E36FBC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A0AF-A0FF-43FA-9F19-91E926F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BEDF-5D47-4B3E-AEA6-A03B581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2987-CAEB-42C2-92B2-9EAB77F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8C0-4DAC-4714-B336-E03AE674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4164-E5C5-4C76-8172-E1F99FAD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8FD-DD6D-43E9-B9C4-3A79856B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EF9-54D6-414F-9E0A-CC7DBC2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9BD-EF08-476C-A95E-F4C59035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8B1-031B-4514-B73B-9717699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038-8CA0-4693-BBC1-21FFBFA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A4E-2B45-4D54-8258-732F056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F7E-C2BC-4C8F-9ABF-23FB456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A9A-BF54-4B67-ABFD-0F31C0203B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415-AC58-4B18-885D-C9B5265ECB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58168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749760" y="3141720"/>
            <a:ext cx="5394240" cy="404640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250920" y="2637000"/>
            <a:ext cx="86407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Modern kinds of transport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London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533520" y="304920"/>
            <a:ext cx="82864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You are wellcome to </a:t>
            </a:r>
            <a:endParaRPr b="1" lang="en-US" sz="4400" spc="1" strike="noStrike">
              <a:ln w="25560">
                <a:solidFill>
                  <a:srgbClr val="80008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971640" y="3573360"/>
            <a:ext cx="770580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Romantic"/>
              </a:rPr>
              <a:t>London</a:t>
            </a:r>
            <a:endParaRPr b="0" lang="en-US" sz="96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Romantic"/>
              <a:ea typeface="Roman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8" descr=""/>
          <p:cNvPicPr/>
          <p:nvPr/>
        </p:nvPicPr>
        <p:blipFill>
          <a:blip r:embed="rId1"/>
          <a:stretch/>
        </p:blipFill>
        <p:spPr>
          <a:xfrm>
            <a:off x="1908000" y="5589720"/>
            <a:ext cx="17319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7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1560600" cy="11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"/>
          <p:cNvPicPr/>
          <p:nvPr/>
        </p:nvPicPr>
        <p:blipFill>
          <a:blip r:embed="rId3"/>
          <a:stretch/>
        </p:blipFill>
        <p:spPr>
          <a:xfrm>
            <a:off x="7520040" y="5373720"/>
            <a:ext cx="162396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"/>
          <p:cNvPicPr/>
          <p:nvPr/>
        </p:nvPicPr>
        <p:blipFill>
          <a:blip r:embed="rId4"/>
          <a:stretch/>
        </p:blipFill>
        <p:spPr>
          <a:xfrm>
            <a:off x="7667640" y="1557360"/>
            <a:ext cx="125712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292572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3708360" y="3333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7"/>
          <a:stretch/>
        </p:blipFill>
        <p:spPr>
          <a:xfrm>
            <a:off x="108000" y="148428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8"/>
          <a:stretch/>
        </p:blipFill>
        <p:spPr>
          <a:xfrm>
            <a:off x="5580000" y="333360"/>
            <a:ext cx="152424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230040" y="322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79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9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732720" y="907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667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66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524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97964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9" descr=""/>
          <p:cNvPicPr/>
          <p:nvPr/>
        </p:nvPicPr>
        <p:blipFill>
          <a:blip r:embed="rId9"/>
          <a:stretch/>
        </p:blipFill>
        <p:spPr>
          <a:xfrm>
            <a:off x="108000" y="3284640"/>
            <a:ext cx="1333440" cy="2201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0"/>
          <p:cNvSpPr/>
          <p:nvPr/>
        </p:nvSpPr>
        <p:spPr>
          <a:xfrm>
            <a:off x="10800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108000" y="40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684360" y="2421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1763640" y="1700280"/>
            <a:ext cx="5688000" cy="3563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a plane arrives     g) attention: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a plane departs    h) no par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) an airport bus       i) bed and breakfa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) “the tube”            j) fresh pa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) a black cab          k) London dir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) passport control    l) for bicyclists and pedestr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14836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908000" y="5589720"/>
            <a:ext cx="17319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1560600" cy="1189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7520040" y="5373720"/>
            <a:ext cx="1623960" cy="122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4"/>
          <a:stretch/>
        </p:blipFill>
        <p:spPr>
          <a:xfrm>
            <a:off x="7740720" y="1557360"/>
            <a:ext cx="1257120" cy="1952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292572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6"/>
          <a:stretch/>
        </p:blipFill>
        <p:spPr>
          <a:xfrm>
            <a:off x="3708360" y="3333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7"/>
          <a:stretch/>
        </p:blipFill>
        <p:spPr>
          <a:xfrm>
            <a:off x="108000" y="1484280"/>
            <a:ext cx="105732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8"/>
          <a:stretch/>
        </p:blipFill>
        <p:spPr>
          <a:xfrm>
            <a:off x="5580000" y="333360"/>
            <a:ext cx="1524240" cy="1085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230040" y="322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79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69236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732720" y="907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66764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7667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24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979640" y="623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9" descr=""/>
          <p:cNvPicPr/>
          <p:nvPr/>
        </p:nvPicPr>
        <p:blipFill>
          <a:blip r:embed="rId9"/>
          <a:stretch/>
        </p:blipFill>
        <p:spPr>
          <a:xfrm>
            <a:off x="108000" y="3284640"/>
            <a:ext cx="1333440" cy="2201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0"/>
          <p:cNvSpPr/>
          <p:nvPr/>
        </p:nvSpPr>
        <p:spPr>
          <a:xfrm>
            <a:off x="10800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08000" y="400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684360" y="2421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643040" y="1700280"/>
            <a:ext cx="6048360" cy="3563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) a plane arrives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) attention: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) a plane departs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h) no par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) an airport bus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i) bed and breakfa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) “the tube”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j) fresh pa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) a black cab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k) London dir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) passport control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l) for bicyclists and pedestri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14836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-274680" y="-2030400"/>
            <a:ext cx="9693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Buying ticke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17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a26"/>
                </a:solidFill>
                <a:latin typeface="Tahoma"/>
              </a:rPr>
              <a:t>Questions about trains / bus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ld you tell me the time of the next train / bus to Cardiff, pleas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it an express train / bus, or do I have to change trains / bus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there a buffet ca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platform / stop does it leave from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time does it depar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time does it arri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long is the journe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a26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e5ea26"/>
                </a:solidFill>
                <a:latin typeface="Tahoma"/>
              </a:rPr>
              <a:t>Buying a train tic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'd like a ticket to London, ple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ingle or retur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urn. How much is the fa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t's £150.00 peak time, or if you travel off-peak between 10am and 3pm it's only £65.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'll travel off-peak then thanks. Can I reserve a sea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s, but it's an extra £5.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a26"/>
                </a:solidFill>
                <a:latin typeface="Tahoma"/>
              </a:rPr>
              <a:t>Questions about f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there a flight to London, plea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it a direct flight, or do I have to change plan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Do they serve foo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erminal does it leave from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 there an airport b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I have a window/aisle sea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 I have to check in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es it take off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hat time does it lan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ow long is the fligh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a26"/>
                </a:solidFill>
                <a:latin typeface="Tahoma"/>
              </a:rPr>
              <a:t>Buying a plane tick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'd like a ticket to London, pleas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Single or return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turn. How much is it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's £150.00 business class, or £65.00 budge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udget then thanks. Can I have a window / aisle seat, pleas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Yes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 cours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74969301_tumblr_lejx6567IH1qzh5j8o1_500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0920" y="549360"/>
          <a:ext cx="8713800" cy="5759280"/>
        </p:xfrm>
        <a:graphic>
          <a:graphicData uri="http://schemas.openxmlformats.org/drawingml/2006/table">
            <a:tbl>
              <a:tblPr/>
              <a:tblGrid>
                <a:gridCol w="2089080"/>
                <a:gridCol w="4753080"/>
                <a:gridCol w="1008000"/>
                <a:gridCol w="863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1.  Buckingham pa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a) the seat of British Gover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0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2. The House of Parli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b) many scientists, artists, politicians were buried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3.Westminster Abb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c) it’s height is about 135m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4. London E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d) the biggest diamond in the world “the Star of Africa” is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5. The Tower of Lond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e) here you can visit the exhibition of wax figures of presidents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pop stars, film st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6. Madame Tussaude’s muse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f) the Queen lives here. There are about 775 rooms in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50920" y="549360"/>
          <a:ext cx="8713800" cy="5759280"/>
        </p:xfrm>
        <a:graphic>
          <a:graphicData uri="http://schemas.openxmlformats.org/drawingml/2006/table">
            <a:tbl>
              <a:tblPr/>
              <a:tblGrid>
                <a:gridCol w="2089080"/>
                <a:gridCol w="4753080"/>
                <a:gridCol w="1008000"/>
                <a:gridCol w="863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1.  Buckingham pa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a) the seat of British Gover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04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2. The House of Parli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b) many scientists, artists, politicians were buried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3.Westminster Abb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c) it’s height is about 135m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4. London E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d) the biggest diamond in the world “the Star of Africa” is ther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5. The Tower of Lond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e) here you can visit the exhibition of wax figures of presidents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pop stars, film st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6. Madame Tussaude’s muse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fad30"/>
                          </a:solidFill>
                          <a:latin typeface="Comic Sans MS"/>
                          <a:ea typeface="Times New Roman"/>
                        </a:rPr>
                        <a:t>f) the Queen lives here. There are about 775 rooms in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tch two parts of the sentence and read the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If you are in hur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Look at the sign on the fro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When you get on the b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) You have to keep your ti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) Taxi drivers have to k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) You can use the underg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you must buy a tick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o the end of the journ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to get the most of the places quick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you should take a tax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to know where the bus is go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all the routes around the city perfec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20:23:40Z</dcterms:created>
  <dc:creator>Tahir</dc:creator>
  <dc:description/>
  <dc:language>en-US</dc:language>
  <cp:lastModifiedBy>IrAn</cp:lastModifiedBy>
  <dcterms:modified xsi:type="dcterms:W3CDTF">2012-04-28T18:06:38Z</dcterms:modified>
  <cp:revision>6</cp:revision>
  <dc:subject/>
  <dc:title>Слайд 1</dc:title>
</cp:coreProperties>
</file>