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B39A-0E66-4D5D-8F7D-CD1E6E94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97B7-E71E-4F16-BF5B-0A315266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B9B9-71B4-45CE-99AB-BB654BC7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872F-529A-442D-8049-E9921ABF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3F30-561C-4840-B43A-AB70DB11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D665-43D9-402F-8777-FE38E658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448E-2F95-4074-BF71-BA062760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8540-6ADA-4335-B6BB-6EE6E693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EE2C-CC5F-4942-9799-CB7A4BC7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7A95-0C4B-4571-9884-9AD30C6C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D219-12C0-435D-B2C0-20283112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DF08-DC1B-4AB0-A929-F618B6F0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D2BF-60FD-4FCF-864D-89D3683A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E604-DD1B-4914-A645-61AFB91E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FA1B-D159-460E-A8C6-40451F02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D2C0-9C42-49B8-91DF-D3791E07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9FE7-674C-4933-A4AA-732C4E05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DB1F-805C-4688-BF83-9A8364A0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8A53-3D58-4BCA-A8E9-6BDD2AF7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3C1C-F851-4A7C-BD82-4F6B1C4D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1A87-89DB-4C19-999D-90A09972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9F68-C358-4A08-A123-37442AD1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F752-047B-48B5-9A0F-EB0E12A6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5DB6-F442-4434-A692-5556E60D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D723-B202-4FC7-B824-4ADF3A3E580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4264-C075-41A9-95FC-7856C617415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581688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3749760" y="3141720"/>
            <a:ext cx="5394240" cy="4046400"/>
          </a:xfrm>
          <a:prstGeom prst="rect">
            <a:avLst/>
          </a:prstGeom>
          <a:ln w="0">
            <a:noFill/>
          </a:ln>
        </p:spPr>
      </p:pic>
      <p:sp>
        <p:nvSpPr>
          <p:cNvPr id="90" name="WordArt 6"/>
          <p:cNvSpPr txBox="1"/>
          <p:nvPr/>
        </p:nvSpPr>
        <p:spPr>
          <a:xfrm>
            <a:off x="250920" y="2637000"/>
            <a:ext cx="864072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4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Modern kinds of transport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n London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92" name="WordArt 3"/>
          <p:cNvSpPr txBox="1"/>
          <p:nvPr/>
        </p:nvSpPr>
        <p:spPr>
          <a:xfrm>
            <a:off x="533520" y="304920"/>
            <a:ext cx="8286480" cy="13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80008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You are wellcome to </a:t>
            </a:r>
            <a:endParaRPr b="1" lang="en-US" sz="4400" spc="1" strike="noStrike">
              <a:ln w="25560">
                <a:solidFill>
                  <a:srgbClr val="80008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971640" y="3573360"/>
            <a:ext cx="7705800" cy="287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Romantic"/>
              </a:rPr>
              <a:t>London</a:t>
            </a:r>
            <a:endParaRPr b="0" lang="en-US" sz="9600" spc="1" strike="noStrike">
              <a:ln w="1260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Romantic"/>
              <a:ea typeface="Romant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8" descr=""/>
          <p:cNvPicPr/>
          <p:nvPr/>
        </p:nvPicPr>
        <p:blipFill>
          <a:blip r:embed="rId1"/>
          <a:stretch/>
        </p:blipFill>
        <p:spPr>
          <a:xfrm>
            <a:off x="1908000" y="5589720"/>
            <a:ext cx="173196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7" descr=""/>
          <p:cNvPicPr/>
          <p:nvPr/>
        </p:nvPicPr>
        <p:blipFill>
          <a:blip r:embed="rId2"/>
          <a:stretch/>
        </p:blipFill>
        <p:spPr>
          <a:xfrm>
            <a:off x="5076720" y="5516640"/>
            <a:ext cx="1560600" cy="118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4" descr=""/>
          <p:cNvPicPr/>
          <p:nvPr/>
        </p:nvPicPr>
        <p:blipFill>
          <a:blip r:embed="rId3"/>
          <a:stretch/>
        </p:blipFill>
        <p:spPr>
          <a:xfrm>
            <a:off x="7520040" y="5373720"/>
            <a:ext cx="1623960" cy="1225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6" descr=""/>
          <p:cNvPicPr/>
          <p:nvPr/>
        </p:nvPicPr>
        <p:blipFill>
          <a:blip r:embed="rId4"/>
          <a:stretch/>
        </p:blipFill>
        <p:spPr>
          <a:xfrm>
            <a:off x="7667640" y="1557360"/>
            <a:ext cx="1257120" cy="1952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5"/>
          <a:stretch/>
        </p:blipFill>
        <p:spPr>
          <a:xfrm>
            <a:off x="179280" y="333360"/>
            <a:ext cx="2925720" cy="990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6"/>
          <a:stretch/>
        </p:blipFill>
        <p:spPr>
          <a:xfrm>
            <a:off x="3708360" y="333360"/>
            <a:ext cx="1371600" cy="1247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7"/>
          <a:stretch/>
        </p:blipFill>
        <p:spPr>
          <a:xfrm>
            <a:off x="108000" y="1484280"/>
            <a:ext cx="1057320" cy="1305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8"/>
          <a:stretch/>
        </p:blipFill>
        <p:spPr>
          <a:xfrm>
            <a:off x="5580000" y="333360"/>
            <a:ext cx="1524240" cy="10857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8"/>
          <p:cNvSpPr/>
          <p:nvPr/>
        </p:nvSpPr>
        <p:spPr>
          <a:xfrm>
            <a:off x="230040" y="322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79280" y="9079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692360" y="907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370836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6732720" y="90792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7667640" y="213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766764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752472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1979640" y="623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9" descr=""/>
          <p:cNvPicPr/>
          <p:nvPr/>
        </p:nvPicPr>
        <p:blipFill>
          <a:blip r:embed="rId9"/>
          <a:stretch/>
        </p:blipFill>
        <p:spPr>
          <a:xfrm>
            <a:off x="108000" y="3284640"/>
            <a:ext cx="1333440" cy="22017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0"/>
          <p:cNvSpPr/>
          <p:nvPr/>
        </p:nvSpPr>
        <p:spPr>
          <a:xfrm>
            <a:off x="108000" y="501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108000" y="400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684360" y="242100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1763640" y="1700280"/>
            <a:ext cx="5688000" cy="3563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) a plane arrives     g) attention: childr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) a plane departs    h) no park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) an airport bus       i) bed and breakfas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) “the tube”            j) fresh pai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) a black cab          k) London direc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) passport control    l) for bicyclists and pedestria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5148360" y="623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908000" y="5589720"/>
            <a:ext cx="1731960" cy="1143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5076720" y="5516640"/>
            <a:ext cx="1560600" cy="1189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7520040" y="5373720"/>
            <a:ext cx="1623960" cy="1225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4"/>
          <a:stretch/>
        </p:blipFill>
        <p:spPr>
          <a:xfrm>
            <a:off x="7740720" y="1557360"/>
            <a:ext cx="1257120" cy="1952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5"/>
          <a:stretch/>
        </p:blipFill>
        <p:spPr>
          <a:xfrm>
            <a:off x="179280" y="333360"/>
            <a:ext cx="2925720" cy="990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6"/>
          <a:stretch/>
        </p:blipFill>
        <p:spPr>
          <a:xfrm>
            <a:off x="3708360" y="333360"/>
            <a:ext cx="1371600" cy="1247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7"/>
          <a:stretch/>
        </p:blipFill>
        <p:spPr>
          <a:xfrm>
            <a:off x="108000" y="1484280"/>
            <a:ext cx="1057320" cy="1305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8"/>
          <a:stretch/>
        </p:blipFill>
        <p:spPr>
          <a:xfrm>
            <a:off x="5580000" y="333360"/>
            <a:ext cx="1524240" cy="1085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"/>
          <p:cNvSpPr/>
          <p:nvPr/>
        </p:nvSpPr>
        <p:spPr>
          <a:xfrm>
            <a:off x="230040" y="322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79280" y="9079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1692360" y="907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370836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6732720" y="90792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7667640" y="213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766764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752472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1979640" y="623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19" descr=""/>
          <p:cNvPicPr/>
          <p:nvPr/>
        </p:nvPicPr>
        <p:blipFill>
          <a:blip r:embed="rId9"/>
          <a:stretch/>
        </p:blipFill>
        <p:spPr>
          <a:xfrm>
            <a:off x="108000" y="3284640"/>
            <a:ext cx="1333440" cy="22017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0"/>
          <p:cNvSpPr/>
          <p:nvPr/>
        </p:nvSpPr>
        <p:spPr>
          <a:xfrm>
            <a:off x="108000" y="501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108000" y="400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684360" y="242100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1643040" y="1700280"/>
            <a:ext cx="6048360" cy="3563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) a plane arrives     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g) attention: childr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) a plane departs    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9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h) no park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c) an airport bus       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i) bed and breakfas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d) “the tube”           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j) fresh pai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1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e) a black cab        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1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k) London direc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f) passport control  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l) for bicyclists and pedestria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5148360" y="623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-274680" y="-2030400"/>
            <a:ext cx="96933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Buying ticket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176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5ea26"/>
                </a:solidFill>
                <a:latin typeface="Tahoma"/>
              </a:rPr>
              <a:t>Questions about trains / bus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uld you tell me the time of the next train / bus to Cardiff, pleas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 it an express train / bus, or do I have to change trains / buses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 there a buffet car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platform / stop does it leave from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time does it depart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time does it arriv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long is the journey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ea26"/>
                </a:solidFill>
                <a:latin typeface="Tahoma"/>
              </a:rPr>
              <a:t> </a:t>
            </a:r>
            <a:r>
              <a:rPr b="1" lang="ru-RU" sz="1800" spc="-1" strike="noStrike">
                <a:solidFill>
                  <a:srgbClr val="e5ea26"/>
                </a:solidFill>
                <a:latin typeface="Tahoma"/>
              </a:rPr>
              <a:t>Buying a train tick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'd like a ticket to London, pleas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Single or return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turn. How much is the far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at's £150.00 peak time, or if you travel off-peak between 10am and 3pm it's only £65.0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'll travel off-peak then thanks. Can I reserve a seat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es, but it's an extra £5.0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0" y="907920"/>
            <a:ext cx="40384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5ea26"/>
                </a:solidFill>
                <a:latin typeface="Tahoma"/>
              </a:rPr>
              <a:t>Questions about flyi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s there a flight to London, please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s it a direct flight, or do I have to change planes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Do they serve food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hat terminal does it leave from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s there an airport bus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an I have a window/aisle seat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hat time do I have to check in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hat time does it take off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hat time does it land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ow long is the flight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a26"/>
                </a:solidFill>
                <a:latin typeface="Tahoma"/>
              </a:rPr>
              <a:t>Buying a plane ticke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'd like a ticket to London, pleas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Single or return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turn. How much is it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at's £150.00 business class, or £65.00 budge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udget then thanks. Can I have a window / aisle seat, please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Yes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f course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74969301_tumblr_lejx6567IH1qzh5j8o1_500_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250920" y="549360"/>
          <a:ext cx="8713800" cy="5759280"/>
        </p:xfrm>
        <a:graphic>
          <a:graphicData uri="http://schemas.openxmlformats.org/drawingml/2006/table">
            <a:tbl>
              <a:tblPr/>
              <a:tblGrid>
                <a:gridCol w="2089080"/>
                <a:gridCol w="4753080"/>
                <a:gridCol w="1008000"/>
                <a:gridCol w="86364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1.  Buckingham pal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a) the seat of British Govern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04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2. The House of Parlia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b) many scientists, artists, politicians were buried ther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3.Westminster Abb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c) it’s height is about 135m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4. London Ey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d) the biggest diamond in the world “the Star of Africa” is ther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5. The Tower of Lond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e) here you can visit the exhibition of wax figures of presidents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pop stars, film sta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6. Madame Tussaude’s muse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f) the Queen lives here. There are about 775 rooms in i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250920" y="549360"/>
          <a:ext cx="8713800" cy="5759280"/>
        </p:xfrm>
        <a:graphic>
          <a:graphicData uri="http://schemas.openxmlformats.org/drawingml/2006/table">
            <a:tbl>
              <a:tblPr/>
              <a:tblGrid>
                <a:gridCol w="2089080"/>
                <a:gridCol w="4753080"/>
                <a:gridCol w="1008000"/>
                <a:gridCol w="86364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1.  Buckingham pal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a) the seat of British Govern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04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2. The House of Parlia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b) many scientists, artists, politicians were buried ther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3.Westminster Abb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c) it’s height is about 135m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4. London Ey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d) the biggest diamond in the world “the Star of Africa” is ther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5. The Tower of Lond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e) here you can visit the exhibition of wax figures of presidents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pop stars, film sta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6. Madame Tussaude’s muse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f) the Queen lives here. There are about 775 rooms in i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tch two parts of the sentence and read them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) If you are in hur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) Look at the sign on the fro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) When you get on the b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) You have to keep your tick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) Taxi drivers have to kn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) You can use the undergro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you must buy a ticke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to the end of the journe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to get the most of the places quick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you should take a tax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) to know where the bus is go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) all the routes around the city perfect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1T20:23:40Z</dcterms:created>
  <dc:creator>Tahir</dc:creator>
  <dc:description/>
  <dc:language>en-US</dc:language>
  <cp:lastModifiedBy>IrAn</cp:lastModifiedBy>
  <dcterms:modified xsi:type="dcterms:W3CDTF">2012-04-28T18:06:38Z</dcterms:modified>
  <cp:revision>6</cp:revision>
  <dc:subject/>
  <dc:title>Слайд 1</dc:title>
</cp:coreProperties>
</file>