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BA1-2921-440C-BF96-0A21254C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267-742C-4C16-8DD9-6D5E8F0C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DED-7631-4286-9A5C-BFBEFBA5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B5E-2542-413D-A8EB-4B780CB9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C5A1-8A1F-468F-BDF0-75B8D327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2A1-8018-49DA-B149-ADCEC9B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EC37-2AFF-41E7-9605-5FF57CC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B2A-13BE-4408-A31A-96C689CC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1E5-F1C7-4A7D-8F4C-EA2358F5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E28-8522-420D-AA88-C859881D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47A-AF1A-4960-9AD5-A40FB62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188-05D6-4DF7-AB20-23940D4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68B5-A129-4DDC-A562-0691157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768-6C5C-4DB0-B03C-4F7B95D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883-4560-4E09-9146-327D97D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494E-3F60-4E73-AF49-4529410D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0E5-53CC-4FAE-AD93-B117F402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E5C-1449-4E87-9FF0-97A1C2B5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CA-C1CE-4B97-96DB-CD4372D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805-6A76-486A-B5AF-830EF4B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1B0-422B-4546-A6C2-FEFD1AF7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7E8-86D7-46E8-A2BF-C3F614FB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56A-849D-4068-A0CC-A23A3C4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466-E6B9-49C8-BB79-000CCC3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B17-C0FC-4D79-A8A3-7853411487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4D3-161F-486A-B234-107A42CFF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cosmoswp/cosmos025jpg.ht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llforchildren.ru/pictures/showimg/cosmoswp/cosmos025jpg.ht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tepoint.com/wp-content/uploads/1/files/2010/09/iStock_000002843265Small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vator.tv/images/attachments/091008111431astronaut.gi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10097.vkontakte.ru/u759921/142797880/y_cd3b8467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vr.ru/files/Image/Editiors/tur/lunohod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cutelittlefactory.com%2Fwp-content%2Fuploads%2F2009%2F09%2Fspace-rocket.jpg&amp;iorient=&amp;ih=&amp;icolor=&amp;site=&amp;text=&#1088;&#1072;&#1082;&#1077;&#1090;&#1072;&amp;iw=&amp;wp=&amp;pos=2&amp;recent=&amp;type=&amp;isize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%3A%2F%2Fzateevo.ru%2Fuserfiles%2Fimage%2FWatIsWhat%2Fkometa.jpg&amp;iorient=&amp;ih=&amp;icolor=&amp;site=&amp;text=&#1082;&#1086;&#1084;&#1077;&#1090;&#1072;&amp;iw=&amp;wp=&amp;pos=21&amp;recent=&amp;type=&amp;isize=&amp;rpt=simage&amp;itype=&amp;noj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http%3A%2F%2Fwww.space-screensavers.com%2Fimages%2FSun%2Fbig2.jpg&amp;iorient=&amp;ih=&amp;icolor=&amp;site=&amp;text=&#1089;&#1086;&#1083;&#1085;&#1094;&#1077;&amp;iw=&amp;wp=&amp;pos=9&amp;recent=&amp;type=&amp;isize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yandsearch?img_url=http%3A%2F%2Fimages.astronet.ru%2Fpubd%2F2004%2F08%2F02%2F0001198872%2Fbluemoon_icstars_big.jpg&amp;iorient=&amp;ih=&amp;icolor=&amp;site=&amp;text=&#1083;&#1091;&#1085;&#1072;&amp;iw=&amp;wp=&amp;pos=28&amp;recent=&amp;type=&amp;isize=&amp;rpt=simage&amp;itype=&amp;nojs=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yandex.ru/yandsearch?img_url=http%3A%2F%2Fwww.stihi.ru%2Fpics%2F2010%2F10%2F02%2F7337.jpg&amp;iorient=&amp;ih=&amp;icolor=&amp;site=&amp;text=&#1079;&#1074;&#1077;&#1079;&#1076;&#1086;&#1083;&#1077;&#1090;&amp;iw=&amp;wp=&amp;pos=3&amp;recent=&amp;type=&amp;isize=&amp;rpt=simage&amp;itype=&amp;nojs=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yandex.ru/yandsearch?img_url=http%3A%2F%2Fwww.calend.ru%2Fimg%2Fcontent_events%2Fi3%2F3887.jpg&amp;iorient=&amp;ih=&amp;icolor=&amp;site=&amp;text=&#1084;&#1077;&#1090;&#1077;&#1086;&#1088;&#1080;&#1090;&amp;iw=&amp;wp=&amp;pos=8&amp;recent=&amp;type=&amp;isize=&amp;rpt=simage&amp;itype=&amp;nojs=1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oda.ck.ua%2Fimages%2Fnews%2F2011%2F903.jpg&amp;iorient=&amp;ih=&amp;nojs=1&amp;icolor=&amp;site=&amp;text=&#1090;&#1077;&#1083;&#1077;&#1085;&#1086;&#1082;&amp;iw=&amp;wp=&amp;pos=0&amp;recent=&amp;type=&amp;isize=&amp;rpt=simage&amp;itype=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http%3A%2F%2Fde.trinixy.ru%2Fpics4%2F20110513%2Fpodb%2F7%2Famazing_cat_10.jpg&amp;iorient=&amp;ih=&amp;nojs=1&amp;icolor=&amp;site=&amp;text=&#1083;&#1077;&#1074;&amp;iw=&amp;wp=&amp;pos=3&amp;recent=&amp;type=&amp;isize=&amp;rpt=simage&amp;itype=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img_url=http%3A%2F%2Fcs10028.vk.me%2Fu93350570%2F129716544%2Fs_4f28ad51.jpg&amp;iorient=&amp;ih=&amp;nojs=1&amp;icolor=&amp;site=&amp;text=&#1073;&#1091;&#1082;&#1074;&#1072;%20&#1089;&amp;iw=&amp;wp=&amp;pos=3&amp;recent=&amp;type=&amp;isize=&amp;rpt=simage&amp;itype=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yandex.ru/yandsearch?img_url=http%3A%2F%2Fimg0.liveinternet.ru%2Fimages%2Fattach%2Fc%2F0%2F39%2F897%2F39897952_1235036114_File17.jpg&amp;iorient=&amp;ih=&amp;nojs=1&amp;icolor=&amp;site=&amp;text=&#1082;&#1086;&#1090;&amp;iw=&amp;wp=&amp;pos=7&amp;recent=&amp;type=&amp;isize=&amp;rpt=simage&amp;itype=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yandex.ru/yandsearch?img_url=http%3A%2F%2Fimg-fotki.yandex.ru%2Fget%2F5903%2Fvalenta-mog.8a%2F0_652e4_c869277a_L.jpg&amp;iorient=&amp;ih=&amp;nojs=1&amp;icolor=&amp;site=&amp;text=&#1073;&#1091;&#1082;&#1074;&#1072;%20&#1087;&amp;iw=&amp;wp=&amp;pos=4&amp;recent=&amp;type=&amp;isize=&amp;rpt=simage&amp;itype=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images.yandex.ru/yandsearch?img_url=http%3A%2F%2Fwww.ru.all.biz%2Fimg%2Fru%2Fservice_catalog%2Fsmall%2F77390.jpeg&amp;iorient=&amp;ih=&amp;nojs=1&amp;icolor=&amp;site=&amp;text=&#1075;&#1072;&#1088;&#1072;&#1078;&amp;iw=&amp;wp=&amp;pos=15&amp;recent=&amp;type=&amp;isize=&amp;rpt=simage&amp;itype=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yandex.ru/yandsearch?img_url=http%3A%2F%2Fwww.kto-takoy.ru%2Fwp-content%2Fuploads%2F2010%2F01%2F44964459_831f4cadf7.jpg&amp;iorient=&amp;ih=&amp;nojs=1&amp;icolor=&amp;site=&amp;text=&#1083;&#1072;&#1084;&#1072;&amp;iw=&amp;wp=&amp;pos=0&amp;recent=&amp;type=&amp;isize=&amp;rpt=simage&amp;itype=" TargetMode="External"/><Relationship Id="rId14" Type="http://schemas.openxmlformats.org/officeDocument/2006/relationships/image" Target="../media/image19.jpeg"/><Relationship Id="rId15" Type="http://schemas.openxmlformats.org/officeDocument/2006/relationships/hyperlink" Target="http://images.yandex.ru/yandsearch?img_url=http%3A%2F%2Fdop-in.ru%2FImg%2FDesign%2FAlfavit%2FPrepod%2FLPk.gif&amp;iorient=&amp;ih=&amp;nojs=1&amp;icolor=&amp;site=&amp;text=&#1073;&#1091;&#1082;&#1074;&#1072;%20&#1082;&amp;iw=&amp;wp=&amp;pos=27&amp;recent=&amp;type=&amp;isize=&amp;rpt=simage&amp;itype=" TargetMode="External"/><Relationship Id="rId16" Type="http://schemas.openxmlformats.org/officeDocument/2006/relationships/image" Target="../media/image20.jpeg"/><Relationship Id="rId17" Type="http://schemas.openxmlformats.org/officeDocument/2006/relationships/hyperlink" Target="http://images.yandex.ru/yandsearch?img_url=http%3A%2F%2Fupload.wikimedia.org%2Fwikipedia%2Fcommons%2F4%2F41%2FSiberischer_tiger_de_edit02.jpg&amp;iorient=&amp;ih=&amp;nojs=1&amp;icolor=&amp;site=&amp;text=&#1090;&#1080;&#1075;&#1088;&amp;iw=&amp;wp=&amp;pos=2&amp;recent=&amp;type=&amp;isize=&amp;rpt=simage&amp;itype=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Деловая игра по теме: «Космос»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общить и закрепить знания детей    о космосе, дать представления о месте планеты Земля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закрепление представления о разнообразии космических те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расширение активного словаря по теме «Космос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совершенствование умения охарактеризовывать зву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развитие связной речи, зрительного и слухового внимания, творческого и логического мыш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формирование навыков сотрудничества, умения работать в коллективе, объединенным одной задач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вызывать интерес к здоровому соперни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9680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9680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343400" cy="3251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96800" y="628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419720" cy="3308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990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2895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81680" y="3657600"/>
            <a:ext cx="2362320" cy="200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4572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57200"/>
            <a:ext cx="10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457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96080" y="4572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3124080"/>
            <a:ext cx="1981440" cy="12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0" y="312408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14800" y="31240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486400" y="3124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9"/>
          <a:stretch/>
        </p:blipFill>
        <p:spPr>
          <a:xfrm>
            <a:off x="7467480" y="3124080"/>
            <a:ext cx="1676520" cy="13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800" y="46879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57600" y="468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34120" y="4687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62920" y="4687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6320" y="2097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4080" y="20210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9200" y="202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85680" y="20210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38880" y="202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67096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2048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520480" y="620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7-07T07:42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