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816-E0EB-4653-AD24-DF05DB85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EDF-4B7D-4183-A43C-F7BE7D3A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498-2174-4042-808E-674D9F71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A6F-1354-4AD4-831C-CD522B64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036E-009F-4615-BBD8-8BDC20B5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938-22CF-4FFE-B31D-C796873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3698-D449-4601-9B13-346C331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7380-104F-4744-B65E-BC956B0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1403-E15D-42BC-92F2-3FCFBECC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310A-7DBA-4F7F-AF06-8C0ECAC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180B-F29D-48E4-903B-5F9E871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527-CEFC-4CF9-8F99-8ADBCD5D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4865-72BF-4FD0-A2C4-722219E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55F3-5419-44CE-8FCF-0B733A3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BBD1-5D6E-44F4-A5B8-7BA7F29F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56D-2C19-4A28-9EFF-760AA020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338F-7964-4657-B048-81EB1F99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92F-6A2F-4413-986D-CC32F365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FC5-483B-4772-A9F0-040E864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0EB-1FDB-4F25-A4BE-1485A38D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2E4-8863-4495-B2AB-8C25469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EFC-5A5C-4AFD-9D4B-3F413A9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F25-FA93-4A69-B260-990B39F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47E-5772-45E7-8BF6-E05B0A4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5E88-D125-4B1F-9B0C-1F1F6CC1EA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E56-5B3F-4439-8441-7FBF24801D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cosmoswp/cosmos025jpg.htm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llforchildren.ru/pictures/showimg/cosmoswp/cosmos025jpg.htm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itepoint.com/wp-content/uploads/1/files/2010/09/iStock_000002843265Small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vator.tv/images/attachments/091008111431astronaut.gif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s10097.vkontakte.ru/u759921/142797880/y_cd3b8467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vr.ru/files/Image/Editiors/tur/lunohod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cutelittlefactory.com%2Fwp-content%2Fuploads%2F2009%2F09%2Fspace-rocket.jpg&amp;iorient=&amp;ih=&amp;icolor=&amp;site=&amp;text=&#1088;&#1072;&#1082;&#1077;&#1090;&#1072;&amp;iw=&amp;wp=&amp;pos=2&amp;recent=&amp;type=&amp;isize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img_url=http%3A%2F%2Fzateevo.ru%2Fuserfiles%2Fimage%2FWatIsWhat%2Fkometa.jpg&amp;iorient=&amp;ih=&amp;icolor=&amp;site=&amp;text=&#1082;&#1086;&#1084;&#1077;&#1090;&#1072;&amp;iw=&amp;wp=&amp;pos=21&amp;recent=&amp;type=&amp;isize=&amp;rpt=simage&amp;itype=&amp;noj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http%3A%2F%2Fwww.space-screensavers.com%2Fimages%2FSun%2Fbig2.jpg&amp;iorient=&amp;ih=&amp;icolor=&amp;site=&amp;text=&#1089;&#1086;&#1083;&#1085;&#1094;&#1077;&amp;iw=&amp;wp=&amp;pos=9&amp;recent=&amp;type=&amp;isize=&amp;rpt=simage&amp;itype=&amp;noj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yandsearch?img_url=http%3A%2F%2Fimages.astronet.ru%2Fpubd%2F2004%2F08%2F02%2F0001198872%2Fbluemoon_icstars_big.jpg&amp;iorient=&amp;ih=&amp;icolor=&amp;site=&amp;text=&#1083;&#1091;&#1085;&#1072;&amp;iw=&amp;wp=&amp;pos=28&amp;recent=&amp;type=&amp;isize=&amp;rpt=simage&amp;itype=&amp;nojs=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yandex.ru/yandsearch?img_url=http%3A%2F%2Fwww.stihi.ru%2Fpics%2F2010%2F10%2F02%2F7337.jpg&amp;iorient=&amp;ih=&amp;icolor=&amp;site=&amp;text=&#1079;&#1074;&#1077;&#1079;&#1076;&#1086;&#1083;&#1077;&#1090;&amp;iw=&amp;wp=&amp;pos=3&amp;recent=&amp;type=&amp;isize=&amp;rpt=simage&amp;itype=&amp;nojs=1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yandex.ru/yandsearch?img_url=http%3A%2F%2Fwww.calend.ru%2Fimg%2Fcontent_events%2Fi3%2F3887.jpg&amp;iorient=&amp;ih=&amp;icolor=&amp;site=&amp;text=&#1084;&#1077;&#1090;&#1077;&#1086;&#1088;&#1080;&#1090;&amp;iw=&amp;wp=&amp;pos=8&amp;recent=&amp;type=&amp;isize=&amp;rpt=simage&amp;itype=&amp;nojs=1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oda.ck.ua%2Fimages%2Fnews%2F2011%2F903.jpg&amp;iorient=&amp;ih=&amp;nojs=1&amp;icolor=&amp;site=&amp;text=&#1090;&#1077;&#1083;&#1077;&#1085;&#1086;&#1082;&amp;iw=&amp;wp=&amp;pos=0&amp;recent=&amp;type=&amp;isize=&amp;rpt=simage&amp;itype=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img_url=http%3A%2F%2Fde.trinixy.ru%2Fpics4%2F20110513%2Fpodb%2F7%2Famazing_cat_10.jpg&amp;iorient=&amp;ih=&amp;nojs=1&amp;icolor=&amp;site=&amp;text=&#1083;&#1077;&#1074;&amp;iw=&amp;wp=&amp;pos=3&amp;recent=&amp;type=&amp;isize=&amp;rpt=simage&amp;itype=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yandex.ru/yandsearch?img_url=http%3A%2F%2Fcs10028.vk.me%2Fu93350570%2F129716544%2Fs_4f28ad51.jpg&amp;iorient=&amp;ih=&amp;nojs=1&amp;icolor=&amp;site=&amp;text=&#1073;&#1091;&#1082;&#1074;&#1072;%20&#1089;&amp;iw=&amp;wp=&amp;pos=3&amp;recent=&amp;type=&amp;isize=&amp;rpt=simage&amp;itype=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yandex.ru/yandsearch?img_url=http%3A%2F%2Fimg0.liveinternet.ru%2Fimages%2Fattach%2Fc%2F0%2F39%2F897%2F39897952_1235036114_File17.jpg&amp;iorient=&amp;ih=&amp;nojs=1&amp;icolor=&amp;site=&amp;text=&#1082;&#1086;&#1090;&amp;iw=&amp;wp=&amp;pos=7&amp;recent=&amp;type=&amp;isize=&amp;rpt=simage&amp;itype=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yandex.ru/yandsearch?img_url=http%3A%2F%2Fimg-fotki.yandex.ru%2Fget%2F5903%2Fvalenta-mog.8a%2F0_652e4_c869277a_L.jpg&amp;iorient=&amp;ih=&amp;nojs=1&amp;icolor=&amp;site=&amp;text=&#1073;&#1091;&#1082;&#1074;&#1072;%20&#1087;&amp;iw=&amp;wp=&amp;pos=4&amp;recent=&amp;type=&amp;isize=&amp;rpt=simage&amp;itype=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images.yandex.ru/yandsearch?img_url=http%3A%2F%2Fwww.ru.all.biz%2Fimg%2Fru%2Fservice_catalog%2Fsmall%2F77390.jpeg&amp;iorient=&amp;ih=&amp;nojs=1&amp;icolor=&amp;site=&amp;text=&#1075;&#1072;&#1088;&#1072;&#1078;&amp;iw=&amp;wp=&amp;pos=15&amp;recent=&amp;type=&amp;isize=&amp;rpt=simage&amp;itype=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images.yandex.ru/yandsearch?img_url=http%3A%2F%2Fwww.kto-takoy.ru%2Fwp-content%2Fuploads%2F2010%2F01%2F44964459_831f4cadf7.jpg&amp;iorient=&amp;ih=&amp;nojs=1&amp;icolor=&amp;site=&amp;text=&#1083;&#1072;&#1084;&#1072;&amp;iw=&amp;wp=&amp;pos=0&amp;recent=&amp;type=&amp;isize=&amp;rpt=simage&amp;itype=" TargetMode="External"/><Relationship Id="rId14" Type="http://schemas.openxmlformats.org/officeDocument/2006/relationships/image" Target="../media/image19.jpeg"/><Relationship Id="rId15" Type="http://schemas.openxmlformats.org/officeDocument/2006/relationships/hyperlink" Target="http://images.yandex.ru/yandsearch?img_url=http%3A%2F%2Fdop-in.ru%2FImg%2FDesign%2FAlfavit%2FPrepod%2FLPk.gif&amp;iorient=&amp;ih=&amp;nojs=1&amp;icolor=&amp;site=&amp;text=&#1073;&#1091;&#1082;&#1074;&#1072;%20&#1082;&amp;iw=&amp;wp=&amp;pos=27&amp;recent=&amp;type=&amp;isize=&amp;rpt=simage&amp;itype=" TargetMode="External"/><Relationship Id="rId16" Type="http://schemas.openxmlformats.org/officeDocument/2006/relationships/image" Target="../media/image20.jpeg"/><Relationship Id="rId17" Type="http://schemas.openxmlformats.org/officeDocument/2006/relationships/hyperlink" Target="http://images.yandex.ru/yandsearch?img_url=http%3A%2F%2Fupload.wikimedia.org%2Fwikipedia%2Fcommons%2F4%2F41%2FSiberischer_tiger_de_edit02.jpg&amp;iorient=&amp;ih=&amp;nojs=1&amp;icolor=&amp;site=&amp;text=&#1090;&#1080;&#1075;&#1088;&amp;iw=&amp;wp=&amp;pos=2&amp;recent=&amp;type=&amp;isize=&amp;rpt=simage&amp;itype=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Деловая игра по теме: «Космос»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общить и закрепить знания детей    о космосе, дать представления о месте планеты Земля в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закрепление представления о разнообразии космических те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расширение активного словаря по теме «Космос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совершенствование умения охарактеризовывать зву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развитие связной речи, зрительного и слухового внимания, творческого и логического мыш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формирование навыков сотрудничества, умения работать в коллективе, объединенным одной задач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вызывать интерес к здоровому соперни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9680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59680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343400" cy="3251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596800" y="628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419720" cy="3308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67276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990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9000" y="2895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81680" y="3657600"/>
            <a:ext cx="2362320" cy="200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67276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57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4572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57200"/>
            <a:ext cx="100980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457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96080" y="45720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2280" y="3124080"/>
            <a:ext cx="1981440" cy="12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0" y="312408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14800" y="31240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486400" y="3124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9"/>
          <a:stretch/>
        </p:blipFill>
        <p:spPr>
          <a:xfrm>
            <a:off x="7467480" y="3124080"/>
            <a:ext cx="1676520" cy="1333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800" y="468792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57600" y="468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34120" y="4687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62920" y="4687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6320" y="2097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34080" y="20210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9200" y="2021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85680" y="20210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38880" y="2021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7276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67096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2048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520480" y="620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7-07T07:42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