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7C3C-5889-4879-BFE2-19AA33AD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FB81-A840-4A6E-A56F-DBAF90B6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4D85-5345-4FAA-90CD-BDB34017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65D9-FC1A-4FA1-AAC3-217EFA2A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5199-C964-42B3-BD8D-B0A3535B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7290-0D88-4B4F-9099-BA284739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D792-C2E6-4CD3-847D-EE362633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B6D9-6C37-4603-9F4F-1A338A32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5990-9765-483B-8645-767BC552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FA3B-F4F7-4F4A-BF85-96B917C3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D566-D090-464A-8206-D4CD5789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11D5-ABE5-4681-BB99-EAC9F48E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15DA-ACBD-4294-9DB3-EDDB7CFA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BCD6-9E4D-46A1-898D-4ED512E3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4179-AE61-461C-8347-466626D1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B31C-443B-448D-BE47-55A15C31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993E-6A05-459D-9B07-6E7AD692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9EFDF-9964-4CE7-BCCD-886F5C37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16C38-3E78-424C-A52B-E27D4CB4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D3B26-82D0-493E-AA98-CC82418A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2AC5A-2AC0-4B00-9FB4-A4AFF7D2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CAD5E-8EC2-4B61-8D6F-8E5D63C1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E370-D85B-4E6E-AC56-83B8E9BB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0EF71-4ECE-46BA-8D30-BFFBEC62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947CA-5332-4FF9-8134-B78B0702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F1D6A-93F2-4E58-B8A0-DEEC5563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015AE-0194-4E30-A5EA-474E9823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816E8-337E-4702-9D5D-1A9A6AAA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05E3E-3033-4894-9859-F09C90BA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B3C4F-CA3F-4FCF-B2DB-27679B76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F0D97-C8FD-4504-8E86-3A157D88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B3769-3472-445A-B927-63AD9951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6C8E4-2912-47B7-AD61-BCD4F937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785-540F-41F0-BEF3-AAD72DC2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C8A58-C27F-45AC-A8E6-863F78AA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851EF-9D66-4ECB-BC19-F85BABA0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FF108-7339-449B-8C2B-71F75D8E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333C2-FA66-49B7-9A67-F85CD829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7C34C-730B-4437-A011-AA6C44DF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D6940-1E48-43BB-A819-C87B2D26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9335D-08EE-429B-87D2-0DBEAB90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648DF-4D66-4DFC-B9CD-2486D368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873E5-596E-480A-B00D-F4F64C26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892AC-9BD3-4657-A0BF-01727AE5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7893-721E-4605-A359-CDEA7709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3A344-4141-4747-AC0A-8502AB44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91A2F-4B88-49EA-A186-F7F5A2AF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5787F-C100-41B8-8A00-4E5E10A4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97A99-CEAC-4059-8417-D4B7BF79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DD12B-AD04-4624-92C8-C0FE2C67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E7C1E-F678-44DF-9C27-2D03AA1A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EECFE-3481-4A16-B821-51EBD63E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957B5-AE66-4D24-9F26-69E077DD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92CA6-B24F-4D4C-8FE8-969767B0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CFC87-8363-4CD6-8E54-7B1F32E1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3F01-8321-4030-9564-90BDE1C4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607DE-B728-4807-BA33-A74E16A6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FE0F9-344C-4256-A6CB-00112BAF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98E75-77DE-46ED-87DA-0595B058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471F9-F520-4CFB-8F93-223877DD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E0072-D01F-43F8-90F6-2A6B3269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37653-8C47-436D-8B02-FDFF1B56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67403-5202-4E36-99C9-1D2E2770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EB1D7-4874-4D97-B0D3-63E329BA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25550-CD82-4204-A574-0412F222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5EBBD-C66B-4F88-B241-91347B8F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C43-9338-44D7-BC4F-D6EE5465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5A988-8205-4C45-9DB0-9B44C082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2C82A-3164-4166-A423-A26E79A0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DBA7D-DCB3-47E1-BC65-39C867D5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90FA0-D715-453B-99D0-531B368D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A0156-3174-4F22-8FEB-C3F33BBB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D057A-C8C7-4864-8D6B-7972F554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A8553-4813-464F-91E1-C5891EC1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E6B98-F7C7-4B03-8F08-37FC9953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B63A9-CAC7-4E93-BB36-DBDB8C4F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9B432-DE69-488A-BFAE-9E486BC3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A61A-FFD4-4976-8C8A-17155252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B46D6-22B5-4193-B860-F06D4F4C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6408C-4BD3-4877-AD2E-7BE5D036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FE168-02CD-4831-9393-32984286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C6B13-57C6-4724-B59E-FF6E7AFD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FC9A6-45C4-45C8-8753-51544A26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B1F3-4E98-40FD-94D6-091C9660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6329-163A-4712-8101-23DF309AA741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3743-6313-4DDE-9F6F-A58892B5A1A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C861-C791-4D74-8AE6-DE1C6017F1EC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E04B-9A4A-45CD-887F-C9BF85C1B5CB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5167-4BB5-4A5E-A3BF-49494F57D38F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CF55-0943-4AEA-84FE-7523AB2FD2F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A54D-1E0F-4D9E-97BD-1722EECBB05D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873680" y="337680"/>
            <a:ext cx="3813120" cy="345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ndara"/>
              </a:rPr>
              <a:t>Салат «Грейпфрут с сюрпризом»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6" name="Рисунок 4" descr=""/>
          <p:cNvPicPr/>
          <p:nvPr/>
        </p:nvPicPr>
        <p:blipFill>
          <a:blip r:embed="rId1"/>
          <a:stretch/>
        </p:blipFill>
        <p:spPr>
          <a:xfrm>
            <a:off x="950760" y="1590840"/>
            <a:ext cx="3834000" cy="296856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3"/>
          <p:cNvSpPr/>
          <p:nvPr/>
        </p:nvSpPr>
        <p:spPr>
          <a:xfrm>
            <a:off x="5580000" y="5445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ейный 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ья Тито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00720" y="404280"/>
            <a:ext cx="4186080" cy="251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ndara"/>
              </a:rPr>
              <a:t>С мамой долго мы сидели все картинки разглядели , ничего там не нашёл в магазин скорей пошёл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Рисунок 4" descr=""/>
          <p:cNvPicPr/>
          <p:nvPr/>
        </p:nvPicPr>
        <p:blipFill>
          <a:blip r:embed="rId1"/>
          <a:stretch/>
        </p:blipFill>
        <p:spPr>
          <a:xfrm>
            <a:off x="1274760" y="500040"/>
            <a:ext cx="1870200" cy="354816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3" descr=""/>
          <p:cNvPicPr/>
          <p:nvPr/>
        </p:nvPicPr>
        <p:blipFill>
          <a:blip r:embed="rId2"/>
          <a:stretch/>
        </p:blipFill>
        <p:spPr>
          <a:xfrm>
            <a:off x="6321600" y="3597120"/>
            <a:ext cx="2041200" cy="387036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5"/>
          <p:cNvSpPr/>
          <p:nvPr/>
        </p:nvSpPr>
        <p:spPr>
          <a:xfrm>
            <a:off x="1258920" y="436572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ка фрукты набирал свой салат изобрет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ndara"/>
              </a:rPr>
              <a:t>Фрукты я помыл сначал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3" name="Объект 5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2592360" cy="23432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Прямоугольник 5"/>
          <p:cNvSpPr/>
          <p:nvPr/>
        </p:nvSpPr>
        <p:spPr>
          <a:xfrm>
            <a:off x="3132000" y="3860640"/>
            <a:ext cx="56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Приготовил всё что надо: фрукты, специи, изюм и стаканчик сах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ndara"/>
              </a:rPr>
              <a:t>Нарезал кубиками киви и банан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7" name="Объект 4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2663640" cy="19987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9" name="Объект 4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2975040" cy="223380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5"/>
          <p:cNvSpPr/>
          <p:nvPr/>
        </p:nvSpPr>
        <p:spPr>
          <a:xfrm>
            <a:off x="826920" y="4149720"/>
            <a:ext cx="41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 ними грушу и мякоть из грейпфру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ndara"/>
              </a:rPr>
              <a:t>Для украшения вазочек решил гвоздику взять, я посидел, подумал и стал «ваять»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Объект 6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2527200" cy="1895400"/>
          </a:xfrm>
          <a:prstGeom prst="rect">
            <a:avLst/>
          </a:prstGeom>
          <a:ln w="0">
            <a:noFill/>
          </a:ln>
        </p:spPr>
      </p:pic>
      <p:pic>
        <p:nvPicPr>
          <p:cNvPr id="353" name="Содержимое 4" descr=""/>
          <p:cNvPicPr/>
          <p:nvPr/>
        </p:nvPicPr>
        <p:blipFill>
          <a:blip r:embed="rId2"/>
          <a:stretch/>
        </p:blipFill>
        <p:spPr>
          <a:xfrm>
            <a:off x="6227640" y="4365720"/>
            <a:ext cx="2616480" cy="214452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5"/>
          <p:cNvSpPr/>
          <p:nvPr/>
        </p:nvSpPr>
        <p:spPr>
          <a:xfrm>
            <a:off x="684360" y="4724280"/>
            <a:ext cx="53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Гвоздику стал я в вазочки встав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ndara"/>
              </a:rPr>
              <a:t>Изюм и фрукты я смешал и ложкой всё перемешал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6" name="Объект 11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2376360" cy="17827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179280" y="2679480"/>
            <a:ext cx="583272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8" name="Объект 5" descr=""/>
          <p:cNvPicPr/>
          <p:nvPr/>
        </p:nvPicPr>
        <p:blipFill>
          <a:blip r:embed="rId2"/>
          <a:stretch/>
        </p:blipFill>
        <p:spPr>
          <a:xfrm>
            <a:off x="6300720" y="4149720"/>
            <a:ext cx="2398680" cy="180036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8"/>
          <p:cNvSpPr/>
          <p:nvPr/>
        </p:nvSpPr>
        <p:spPr>
          <a:xfrm>
            <a:off x="755640" y="4653000"/>
            <a:ext cx="525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сыпал сахаром и всё сложил я в вазы. Салат готов! Все очень рад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873680" y="338040"/>
            <a:ext cx="3813120" cy="337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ff"/>
                </a:solidFill>
                <a:latin typeface="Candara"/>
              </a:rPr>
              <a:t>Приятного аппетита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1" name="Рисунок 4" descr=""/>
          <p:cNvPicPr/>
          <p:nvPr/>
        </p:nvPicPr>
        <p:blipFill>
          <a:blip r:embed="rId1"/>
          <a:stretch/>
        </p:blipFill>
        <p:spPr>
          <a:xfrm>
            <a:off x="1011240" y="1322280"/>
            <a:ext cx="315288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th8</dc:creator>
  <dc:description/>
  <dc:language>en-US</dc:language>
  <cp:lastModifiedBy>Seth8</cp:lastModifiedBy>
  <dcterms:modified xsi:type="dcterms:W3CDTF">2015-01-24T21:52:26Z</dcterms:modified>
  <cp:revision>34</cp:revision>
  <dc:subject/>
  <dc:title>Салат «Грейпфрут с сюрпризом»</dc:title>
</cp:coreProperties>
</file>