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FE0-A8AD-4C04-90C7-1C67A3A6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66E-E850-4F33-8EF9-42B37EC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556-F6E9-425B-B705-8BEEFA87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1BC-9A2E-4E6A-967A-EAD832A9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2364-3892-450C-AEF0-7F704294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1598-D8E1-4DA9-9876-F04EC27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5DC3-76B3-46DC-BB9D-6612DB9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3EA6-4EAC-4532-838D-2966C895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229-1457-49BF-8FB9-B4F07D18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C702-44B4-464C-9B80-CF6A9EE1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DA48-2BDD-443D-A5EC-0A9B91E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36D-28B5-436D-8F8F-0805B95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30E-784A-4C9C-B0DE-83DCD7B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936-D02A-4532-B42B-48C954D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9775-D4F8-45DE-BC52-CC1B457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B08-FA22-477E-96CF-94E6B0C4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2E6-C417-481A-B38F-EB37D788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F08-611B-4781-9DEE-FC70040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30F-C50A-4162-AA7D-9D724F02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30-1BFC-4E16-847F-EB08ED0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D3E-B8DE-4239-B8A0-DB42EC0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CD4-AFD2-4EBD-AD21-87338C0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D1E-296A-4388-916F-E921194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CE8-8250-46DD-88FC-9792B7C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854-EA92-47CC-8B87-57F9FD556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F6EC-1555-4B47-A414-9CD3B0889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bcbcb"/>
                </a:solidFill>
                <a:latin typeface="Times New Roman"/>
              </a:rPr>
              <a:t>Природные явления</a:t>
            </a:r>
            <a:endParaRPr b="0" lang="en-US" sz="9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ПРОБУЖДЕНИЕ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ПОЧЕК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онник сибирской целительницы Почки на деревьях - толкование…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ГРОЗА: ДОЖДЬ, МОЛНИЯ, ГРО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When Lightning Strikes (97 pics) - Izismile.com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РАДУГ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Радуги нашей планеты - 7 Июня 2013 - Все о нашей планете земля"/>
          <p:cNvPicPr/>
          <p:nvPr/>
        </p:nvPicPr>
        <p:blipFill>
          <a:blip r:embed="rId1"/>
          <a:srcRect l="0" t="0" r="0" b="30180"/>
          <a:stretch/>
        </p:blipFill>
        <p:spPr>
          <a:xfrm>
            <a:off x="395280" y="1268280"/>
            <a:ext cx="835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РО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drops 2930 wallpaper - Drops, dew - Nature - Wallpaper Collection"/>
          <p:cNvPicPr/>
          <p:nvPr/>
        </p:nvPicPr>
        <p:blipFill>
          <a:blip r:embed="rId1"/>
          <a:stretch/>
        </p:blipFill>
        <p:spPr>
          <a:xfrm>
            <a:off x="611280" y="1125360"/>
            <a:ext cx="8208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СМЕР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1366x768 тучи, смерч, шторм, песчаный вихрь обои на рабочий стол 69658"/>
          <p:cNvPicPr/>
          <p:nvPr/>
        </p:nvPicPr>
        <p:blipFill>
          <a:blip r:embed="rId1"/>
          <a:srcRect l="10824" t="0" r="0" b="0"/>
          <a:stretch/>
        </p:blipFill>
        <p:spPr>
          <a:xfrm>
            <a:off x="1187280" y="1484280"/>
            <a:ext cx="7129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ЛИСТОПА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Скачивание изображения: ветер, листья, осень 267447 / Разрешение: original / Раздел: Пейзажи / HallPic.ru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МЕТЕЛ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пёс - 3.jpg / Разное - хостинг картинок и фото &quot;PicShare.ru&quot;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ИЗМОРОЗ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Фотосток - зима, иней на деревьях. Автор Tamerlanbacil. &quot; Pi…"/>
          <p:cNvPicPr/>
          <p:nvPr/>
        </p:nvPicPr>
        <p:blipFill>
          <a:blip r:embed="rId3"/>
          <a:stretch/>
        </p:blipFill>
        <p:spPr>
          <a:xfrm>
            <a:off x="250920" y="1413000"/>
            <a:ext cx="4165560" cy="5143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Иней, деревья, зима, снег, небо, облака, луна обои, фото, картинки."/>
          <p:cNvPicPr/>
          <p:nvPr/>
        </p:nvPicPr>
        <p:blipFill>
          <a:blip r:embed="rId4"/>
          <a:srcRect l="0" t="6562" r="57317" b="15234"/>
          <a:stretch/>
        </p:blipFill>
        <p:spPr>
          <a:xfrm>
            <a:off x="4643280" y="1484280"/>
            <a:ext cx="4321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ЛЕДОХО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На Вятке начался ледоход - Рамблер-Новости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6:55:12Z</dcterms:created>
  <dc:creator>Татьяна</dc:creator>
  <dc:description/>
  <dc:language>en-US</dc:language>
  <cp:lastModifiedBy>Татьяна</cp:lastModifiedBy>
  <dcterms:modified xsi:type="dcterms:W3CDTF">2014-11-12T17:20:34Z</dcterms:modified>
  <cp:revision>2</cp:revision>
  <dc:subject/>
  <dc:title>Природные явления</dc:title>
</cp:coreProperties>
</file>