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C15-40E2-4283-A235-17D032D3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A2B-EEDD-4CCD-9BA3-07FFD102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2F7-7EA2-40D0-8594-0B10D1CD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650-ADAF-4DE0-A23D-2F762515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534-386B-4FBF-B60D-1FC49523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8AF2-08E4-42C4-83F8-1B16DEF5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7666-2BF9-4F9B-B119-06F1EFF9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929-48A3-4AF2-B342-9F691055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83C1-EB38-401C-8FCD-F3DE1FC1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A6C3-6046-4B58-87B6-E51B303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1B0-EAB0-4302-ACA7-496CBEB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7B9-DC21-4B6D-90F4-746E4EC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0AC5-E895-43DE-B456-869F668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3197-7CBC-479A-B2DC-9CA69004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E08D-A0DB-454E-B694-B1F393F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0C4F-1AA2-4CC8-B080-64024D11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2506-5458-404A-A38D-0BD559E1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FAF-8836-41E2-820D-715B1104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F3C-6595-43BC-98C8-16CEA77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1A7-F99E-4E90-AC43-25903CCB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0DB-D9B5-46FF-967A-E6C6865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B35-9047-43A0-A092-4669361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90A-D33B-47E2-AAFD-F9E7917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D2B-E43F-4A5A-891C-688D968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8B2C-2659-4A12-A3B1-1772F4CC9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498-684F-458F-AF7F-9B878DB90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bcbcb"/>
                </a:solidFill>
                <a:latin typeface="Times New Roman"/>
              </a:rPr>
              <a:t>Природные явления</a:t>
            </a:r>
            <a:endParaRPr b="0" lang="en-US" sz="9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ПРОБУЖДЕНИЕ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ПОЧЕК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онник сибирской целительницы Почки на деревьях - толкование…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ГРОЗА: ДОЖДЬ, МОЛНИЯ, ГРО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When Lightning Strikes (97 pics) - Izismile.com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РАДУГ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Радуги нашей планеты - 7 Июня 2013 - Все о нашей планете земля"/>
          <p:cNvPicPr/>
          <p:nvPr/>
        </p:nvPicPr>
        <p:blipFill>
          <a:blip r:embed="rId1"/>
          <a:srcRect l="0" t="0" r="0" b="30180"/>
          <a:stretch/>
        </p:blipFill>
        <p:spPr>
          <a:xfrm>
            <a:off x="395280" y="1268280"/>
            <a:ext cx="8353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РО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drops 2930 wallpaper - Drops, dew - Nature - Wallpaper Collection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СМЕР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1366x768 тучи, смерч, шторм, песчаный вихрь обои на рабочий стол 69658"/>
          <p:cNvPicPr/>
          <p:nvPr/>
        </p:nvPicPr>
        <p:blipFill>
          <a:blip r:embed="rId1"/>
          <a:srcRect l="10824" t="0" r="0" b="0"/>
          <a:stretch/>
        </p:blipFill>
        <p:spPr>
          <a:xfrm>
            <a:off x="1187280" y="1484280"/>
            <a:ext cx="7129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ЛИСТОПА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Скачивание изображения: ветер, листья, осень 267447 / Разрешение: original / Раздел: Пейзажи / HallPic.ru"/>
          <p:cNvPicPr/>
          <p:nvPr/>
        </p:nvPicPr>
        <p:blipFill>
          <a:blip r:embed="rId1"/>
          <a:stretch/>
        </p:blipFill>
        <p:spPr>
          <a:xfrm>
            <a:off x="1187280" y="1197000"/>
            <a:ext cx="705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МЕТЕЛ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пёс - 3.jpg / Разное - хостинг картинок и фото &quot;PicShare.ru&quot;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ИЗМОРОЗ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Фотосток - зима, иней на деревьях. Автор Tamerlanbacil. &quot; Pi…"/>
          <p:cNvPicPr/>
          <p:nvPr/>
        </p:nvPicPr>
        <p:blipFill>
          <a:blip r:embed="rId3"/>
          <a:stretch/>
        </p:blipFill>
        <p:spPr>
          <a:xfrm>
            <a:off x="250920" y="1413000"/>
            <a:ext cx="4165560" cy="5143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Иней, деревья, зима, снег, небо, облака, луна обои, фото, картинки."/>
          <p:cNvPicPr/>
          <p:nvPr/>
        </p:nvPicPr>
        <p:blipFill>
          <a:blip r:embed="rId4"/>
          <a:srcRect l="0" t="6562" r="57317" b="15234"/>
          <a:stretch/>
        </p:blipFill>
        <p:spPr>
          <a:xfrm>
            <a:off x="4643280" y="1484280"/>
            <a:ext cx="4321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ЛЕДОХО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На Вятке начался ледоход - Рамблер-Новости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6:55:12Z</dcterms:created>
  <dc:creator>Татьяна</dc:creator>
  <dc:description/>
  <dc:language>en-US</dc:language>
  <cp:lastModifiedBy>Татьяна</cp:lastModifiedBy>
  <dcterms:modified xsi:type="dcterms:W3CDTF">2014-11-12T17:20:34Z</dcterms:modified>
  <cp:revision>2</cp:revision>
  <dc:subject/>
  <dc:title>Природные явления</dc:title>
</cp:coreProperties>
</file>