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png" ContentType="image/png"/>
  <Override PartName="/ppt/media/image8.jpeg" ContentType="image/jpeg"/>
  <Override PartName="/ppt/media/image29.jpeg" ContentType="image/jpeg"/>
  <Override PartName="/ppt/media/image6.gif" ContentType="image/gif"/>
  <Override PartName="/ppt/media/image28.jpeg" ContentType="image/jpeg"/>
  <Override PartName="/ppt/media/image34.jpeg" ContentType="image/jpeg"/>
  <Override PartName="/ppt/media/image5.png" ContentType="image/png"/>
  <Override PartName="/ppt/media/image35.png" ContentType="image/png"/>
  <Override PartName="/ppt/media/image7.jpeg" ContentType="image/jpeg"/>
  <Override PartName="/ppt/media/image31.wmf" ContentType="image/x-wmf"/>
  <Override PartName="/ppt/media/image19.jpeg" ContentType="image/jpeg"/>
  <Override PartName="/ppt/media/image11.jpeg" ContentType="image/jpeg"/>
  <Override PartName="/ppt/media/image13.png" ContentType="image/png"/>
  <Override PartName="/ppt/media/image10.gif" ContentType="image/gif"/>
  <Override PartName="/ppt/media/image30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465-D60F-4901-9342-1BB9E941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26A-F639-4301-8079-546086E8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8C6-673C-4C60-8CC0-3C11AE8E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C9C-6083-440B-9384-8D4AEB93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2464-93AF-4343-A633-FC17FD91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F4E0-FEC4-46B8-A41E-3C02320F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D8CD-5A06-4BA3-91E2-30E0751B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27BF-4447-4BC1-AE95-1C70231F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151F-52FC-40A0-A131-31A5394A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D925-A715-4E0A-AD7D-D92383AD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F17F-FDA1-4D62-943C-0C2209D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1A3-9F30-4602-B3C1-B40D7FAC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F3AF-24E3-48FE-A959-3B29CD73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160C-C605-40E0-BB24-4EE4DB74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F12E-39BA-496A-97D6-02BF6824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5049-7ACB-47F6-A3E5-BBED3B96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2AA8-9A02-473C-8985-57324B8A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015-0157-4617-8FFA-DC555C3C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36E-E09A-4083-B351-4E7652C5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242-8DA5-4967-9399-BB2C516C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7F8-DB07-4711-B2FC-335C3066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9E9-0D98-4915-A229-EFDFA5DF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B09-B143-4953-90F1-CDF4FA1E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FD7-0DA6-4146-8F1E-42474E85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FF4-DB60-4488-BD94-6A392C221D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EACE-0A98-40EB-A177-44F0ED29C8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3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900000" y="189000"/>
            <a:ext cx="8064720" cy="6480000"/>
          </a:xfrm>
          <a:prstGeom prst="rect">
            <a:avLst/>
          </a:prstGeom>
          <a:solidFill>
            <a:srgbClr val="f4e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заставка"/>
          <p:cNvPicPr/>
          <p:nvPr/>
        </p:nvPicPr>
        <p:blipFill>
          <a:blip r:embed="rId1"/>
          <a:stretch/>
        </p:blipFill>
        <p:spPr>
          <a:xfrm>
            <a:off x="1258920" y="260280"/>
            <a:ext cx="7058160" cy="6400800"/>
          </a:xfrm>
          <a:prstGeom prst="rect">
            <a:avLst/>
          </a:prstGeom>
          <a:ln w="0">
            <a:noFill/>
          </a:ln>
        </p:spPr>
      </p:pic>
      <p:grpSp>
        <p:nvGrpSpPr>
          <p:cNvPr id="92" name="WordArt 3"/>
          <p:cNvGrpSpPr/>
          <p:nvPr/>
        </p:nvGrpSpPr>
        <p:grpSpPr>
          <a:xfrm>
            <a:off x="639720" y="-6480"/>
            <a:ext cx="8510760" cy="5529240"/>
            <a:chOff x="639720" y="-6480"/>
            <a:chExt cx="8510760" cy="5529240"/>
          </a:xfrm>
        </p:grpSpPr>
        <p:pic>
          <p:nvPicPr>
            <p:cNvPr id="93" name="WordArt 3" descr=""/>
            <p:cNvPicPr/>
            <p:nvPr/>
          </p:nvPicPr>
          <p:blipFill>
            <a:blip r:embed="rId2"/>
            <a:stretch/>
          </p:blipFill>
          <p:spPr>
            <a:xfrm>
              <a:off x="639720" y="-6480"/>
              <a:ext cx="8510760" cy="55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47640" y="0"/>
              <a:ext cx="8496360" cy="55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Важней всего погода в школе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WordArt 4"/>
          <p:cNvSpPr txBox="1"/>
          <p:nvPr/>
        </p:nvSpPr>
        <p:spPr>
          <a:xfrm>
            <a:off x="1332000" y="5084640"/>
            <a:ext cx="7056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ee3be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onotype Corsiva"/>
              </a:rPr>
              <a:t>или изучение микроклимат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ee3be"/>
                  </a:gs>
                  <a:gs pos="100000">
                    <a:srgbClr val="ffcc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ee3be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onotype Corsiva"/>
              </a:rPr>
              <a:t>кабинета биолог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ee3be"/>
                  </a:gs>
                  <a:gs pos="100000">
                    <a:srgbClr val="ffcc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403280" y="5229360"/>
            <a:ext cx="7056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ee3be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onotype Corsiva"/>
              </a:rPr>
              <a:t>Изучение микроклимат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ee3be"/>
                  </a:gs>
                  <a:gs pos="100000">
                    <a:srgbClr val="ffcc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ee3be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onotype Corsiva"/>
              </a:rPr>
              <a:t>кабинета биолог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ee3be"/>
                  </a:gs>
                  <a:gs pos="100000">
                    <a:srgbClr val="ffcc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97" name="pogoda_v_dome.mp3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21965E-006 L 2.77778E-007 -0.75514 E">
                                      <p:cBhvr>
                                        <p:cTn id="3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image922"/>
          <p:cNvPicPr/>
          <p:nvPr/>
        </p:nvPicPr>
        <p:blipFill>
          <a:blip r:embed="rId1"/>
          <a:stretch/>
        </p:blipFill>
        <p:spPr>
          <a:xfrm>
            <a:off x="7164360" y="0"/>
            <a:ext cx="1793880" cy="1593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Impact"/>
              </a:rPr>
              <a:t>Валеологическая оценка естественного освещения кабине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1. Определяем площадь окон, их четыр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,2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*  4 = 16,8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2. Определяем площадь остек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,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остекления равна: 16,8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2,52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14,28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3. Находим световой коэффициен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,28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 82,6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,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овой коэффициент соответствует гигиеническим требованиям. Норма светового коэффициента 0,2 – 0,17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7" descr="prom10_4"/>
          <p:cNvPicPr/>
          <p:nvPr/>
        </p:nvPicPr>
        <p:blipFill>
          <a:blip r:embed="rId1"/>
          <a:stretch/>
        </p:blipFill>
        <p:spPr>
          <a:xfrm>
            <a:off x="468360" y="0"/>
            <a:ext cx="197964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1187280" y="1700280"/>
          <a:ext cx="7410600" cy="2449440"/>
        </p:xfrm>
        <a:graphic>
          <a:graphicData uri="http://schemas.openxmlformats.org/drawingml/2006/table">
            <a:tbl>
              <a:tblPr/>
              <a:tblGrid>
                <a:gridCol w="1368720"/>
                <a:gridCol w="1079280"/>
                <a:gridCol w="1368360"/>
                <a:gridCol w="1368720"/>
                <a:gridCol w="990360"/>
                <a:gridCol w="1235160"/>
              </a:tblGrid>
              <a:tr h="14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Нали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раздель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осве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по ряд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Нали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освещ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до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Используем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осве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Освещ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(люк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Степен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достаточ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М(у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Техни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состоя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минисцен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мпы по 40В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 Л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 Вт/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и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3805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Impact"/>
              </a:rPr>
              <a:t>Валеологическая оценка искусственного освещения кабине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920" y="4365360"/>
            <a:ext cx="7632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ровень освещенности не соответствует гигиеническим нормативам (в учебных кабинетах и лабораториях уровень искусственной освещенности должен быть 150 Лк при использовании ламп накаливания и 300 Лк при люминесцентных лампах). Удельная мощность искусственного освещения при люминесцентных лампах должна быть 21-22 Вт/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Валеологическая оценка организации школьного кабине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1332000" y="1699920"/>
            <a:ext cx="3240000" cy="4250160"/>
            <a:chOff x="1332000" y="1699920"/>
            <a:chExt cx="3240000" cy="4250160"/>
          </a:xfrm>
        </p:grpSpPr>
        <p:pic>
          <p:nvPicPr>
            <p:cNvPr id="185" name="Picture 4" descr="P4020002"/>
            <p:cNvPicPr/>
            <p:nvPr/>
          </p:nvPicPr>
          <p:blipFill>
            <a:blip r:embed="rId1"/>
            <a:stretch/>
          </p:blipFill>
          <p:spPr>
            <a:xfrm>
              <a:off x="1403280" y="1773360"/>
              <a:ext cx="30862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5"/>
            <p:cNvSpPr/>
            <p:nvPr/>
          </p:nvSpPr>
          <p:spPr>
            <a:xfrm rot="5400000">
              <a:off x="2915280" y="18792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 rot="5400000">
              <a:off x="2915280" y="436464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 rot="10800000">
              <a:off x="4500720" y="1699920"/>
              <a:ext cx="71280" cy="42498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 rot="10800000">
              <a:off x="1332000" y="1699920"/>
              <a:ext cx="71280" cy="42498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9"/>
          <p:cNvGrpSpPr/>
          <p:nvPr/>
        </p:nvGrpSpPr>
        <p:grpSpPr>
          <a:xfrm>
            <a:off x="5219280" y="1699920"/>
            <a:ext cx="3170160" cy="4250160"/>
            <a:chOff x="5219280" y="1699920"/>
            <a:chExt cx="3170160" cy="4250160"/>
          </a:xfrm>
        </p:grpSpPr>
        <p:pic>
          <p:nvPicPr>
            <p:cNvPr id="191" name="Picture 10" descr="P4020001"/>
            <p:cNvPicPr/>
            <p:nvPr/>
          </p:nvPicPr>
          <p:blipFill>
            <a:blip r:embed="rId2"/>
            <a:stretch/>
          </p:blipFill>
          <p:spPr>
            <a:xfrm>
              <a:off x="5276880" y="1752480"/>
              <a:ext cx="30859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1"/>
            <p:cNvSpPr/>
            <p:nvPr/>
          </p:nvSpPr>
          <p:spPr>
            <a:xfrm rot="5400000">
              <a:off x="6804360" y="4365000"/>
              <a:ext cx="73080" cy="30970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 rot="5400000">
              <a:off x="6731640" y="18792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3"/>
            <p:cNvSpPr/>
            <p:nvPr/>
          </p:nvSpPr>
          <p:spPr>
            <a:xfrm rot="10800000">
              <a:off x="5219280" y="1699920"/>
              <a:ext cx="71640" cy="42498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4"/>
            <p:cNvSpPr/>
            <p:nvPr/>
          </p:nvSpPr>
          <p:spPr>
            <a:xfrm rot="10800000">
              <a:off x="8317080" y="1699920"/>
              <a:ext cx="71280" cy="42498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5"/>
          <p:cNvSpPr/>
          <p:nvPr/>
        </p:nvSpPr>
        <p:spPr>
          <a:xfrm>
            <a:off x="133200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Impact"/>
              </a:rPr>
              <a:t>&lt; </a:t>
            </a:r>
            <a:r>
              <a:rPr b="0" lang="ru-RU" sz="2000" spc="-1" strike="noStrike">
                <a:solidFill>
                  <a:srgbClr val="cc6600"/>
                </a:solidFill>
                <a:latin typeface="Impact"/>
              </a:rPr>
              <a:t>оценка расстановки мебели в кабинете</a:t>
            </a:r>
            <a:r>
              <a:rPr b="0" lang="en-US" sz="2000" spc="-1" strike="noStrike">
                <a:solidFill>
                  <a:srgbClr val="cc6600"/>
                </a:solidFill>
                <a:latin typeface="Impact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Валеологическая оценка цветового оформления кабине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1546920" y="3860280"/>
            <a:ext cx="2737800" cy="2016720"/>
            <a:chOff x="1546920" y="3860280"/>
            <a:chExt cx="2737800" cy="2016720"/>
          </a:xfrm>
        </p:grpSpPr>
        <p:pic>
          <p:nvPicPr>
            <p:cNvPr id="199" name="Picture 4" descr="P4120010"/>
            <p:cNvPicPr/>
            <p:nvPr/>
          </p:nvPicPr>
          <p:blipFill>
            <a:blip r:embed="rId1"/>
            <a:stretch/>
          </p:blipFill>
          <p:spPr>
            <a:xfrm>
              <a:off x="1612800" y="3886200"/>
              <a:ext cx="2641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5"/>
            <p:cNvSpPr/>
            <p:nvPr/>
          </p:nvSpPr>
          <p:spPr>
            <a:xfrm rot="5400000">
              <a:off x="2916000" y="4508280"/>
              <a:ext cx="71640" cy="2665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 flipH="1" rot="10800000">
              <a:off x="1546560" y="3860280"/>
              <a:ext cx="71640" cy="201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 rot="5400000">
              <a:off x="2916000" y="2563560"/>
              <a:ext cx="71640" cy="2665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 flipH="1" rot="10800000">
              <a:off x="1546560" y="3860280"/>
              <a:ext cx="71640" cy="201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 rot="5400000">
              <a:off x="2916000" y="2563560"/>
              <a:ext cx="71640" cy="2665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 flipH="1" rot="10800000">
              <a:off x="4211640" y="3860280"/>
              <a:ext cx="71280" cy="201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1612800" y="1700280"/>
            <a:ext cx="2671920" cy="2087640"/>
            <a:chOff x="1612800" y="1700280"/>
            <a:chExt cx="2671920" cy="2087640"/>
          </a:xfrm>
        </p:grpSpPr>
        <p:pic>
          <p:nvPicPr>
            <p:cNvPr id="207" name="Picture 12" descr="P4020004"/>
            <p:cNvPicPr/>
            <p:nvPr/>
          </p:nvPicPr>
          <p:blipFill>
            <a:blip r:embed="rId2"/>
            <a:stretch/>
          </p:blipFill>
          <p:spPr>
            <a:xfrm>
              <a:off x="1612800" y="1752480"/>
              <a:ext cx="26416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3"/>
            <p:cNvSpPr/>
            <p:nvPr/>
          </p:nvSpPr>
          <p:spPr>
            <a:xfrm rot="5400000">
              <a:off x="2916000" y="2419200"/>
              <a:ext cx="71640" cy="2665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 rot="5400000">
              <a:off x="2916360" y="402840"/>
              <a:ext cx="71280" cy="2665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 flipH="1" rot="10800000">
              <a:off x="1619280" y="1700280"/>
              <a:ext cx="71280" cy="2016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 flipH="1" rot="10800000">
              <a:off x="4211640" y="1700280"/>
              <a:ext cx="71280" cy="2016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17"/>
          <p:cNvGrpSpPr/>
          <p:nvPr/>
        </p:nvGrpSpPr>
        <p:grpSpPr>
          <a:xfrm>
            <a:off x="5435640" y="1700280"/>
            <a:ext cx="2736720" cy="2089080"/>
            <a:chOff x="5435640" y="1700280"/>
            <a:chExt cx="2736720" cy="2089080"/>
          </a:xfrm>
        </p:grpSpPr>
        <p:pic>
          <p:nvPicPr>
            <p:cNvPr id="213" name="Picture 18" descr="P4020008"/>
            <p:cNvPicPr/>
            <p:nvPr/>
          </p:nvPicPr>
          <p:blipFill>
            <a:blip r:embed="rId3"/>
            <a:stretch/>
          </p:blipFill>
          <p:spPr>
            <a:xfrm>
              <a:off x="5499000" y="1752480"/>
              <a:ext cx="26416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19"/>
            <p:cNvSpPr/>
            <p:nvPr/>
          </p:nvSpPr>
          <p:spPr>
            <a:xfrm rot="5400000">
              <a:off x="6768720" y="439560"/>
              <a:ext cx="71280" cy="2592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Picture 20" descr="P4020008"/>
            <p:cNvPicPr/>
            <p:nvPr/>
          </p:nvPicPr>
          <p:blipFill>
            <a:blip r:embed="rId4"/>
            <a:stretch/>
          </p:blipFill>
          <p:spPr>
            <a:xfrm>
              <a:off x="5499000" y="1782720"/>
              <a:ext cx="260208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21"/>
            <p:cNvSpPr/>
            <p:nvPr/>
          </p:nvSpPr>
          <p:spPr>
            <a:xfrm rot="5400000">
              <a:off x="6768720" y="439560"/>
              <a:ext cx="71280" cy="2592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22"/>
            <p:cNvSpPr/>
            <p:nvPr/>
          </p:nvSpPr>
          <p:spPr>
            <a:xfrm flipH="1" rot="10800000">
              <a:off x="5435640" y="1700280"/>
              <a:ext cx="71280" cy="2016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 flipH="1" rot="10800000">
              <a:off x="8101080" y="1700280"/>
              <a:ext cx="71280" cy="2016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 rot="5400000">
              <a:off x="6767280" y="2384280"/>
              <a:ext cx="7308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25"/>
          <p:cNvGrpSpPr/>
          <p:nvPr/>
        </p:nvGrpSpPr>
        <p:grpSpPr>
          <a:xfrm>
            <a:off x="5435640" y="3860280"/>
            <a:ext cx="2736720" cy="2018160"/>
            <a:chOff x="5435640" y="3860280"/>
            <a:chExt cx="2736720" cy="2018160"/>
          </a:xfrm>
        </p:grpSpPr>
        <p:pic>
          <p:nvPicPr>
            <p:cNvPr id="221" name="Picture 26" descr="P4020013"/>
            <p:cNvPicPr/>
            <p:nvPr/>
          </p:nvPicPr>
          <p:blipFill>
            <a:blip r:embed="rId5"/>
            <a:stretch/>
          </p:blipFill>
          <p:spPr>
            <a:xfrm>
              <a:off x="5499000" y="3886200"/>
              <a:ext cx="2641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27"/>
            <p:cNvSpPr/>
            <p:nvPr/>
          </p:nvSpPr>
          <p:spPr>
            <a:xfrm rot="5400000">
              <a:off x="6767280" y="2528640"/>
              <a:ext cx="7308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28"/>
            <p:cNvSpPr/>
            <p:nvPr/>
          </p:nvSpPr>
          <p:spPr>
            <a:xfrm rot="5400000">
              <a:off x="6767280" y="4473360"/>
              <a:ext cx="7308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 flipH="1" rot="10800000">
              <a:off x="5435640" y="3860280"/>
              <a:ext cx="71280" cy="201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 flipH="1" rot="10800000">
              <a:off x="8101080" y="3860280"/>
              <a:ext cx="71280" cy="201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0" descr="24767640_M_Plane_sm"/>
          <p:cNvPicPr/>
          <p:nvPr/>
        </p:nvPicPr>
        <p:blipFill>
          <a:blip r:embed="rId1"/>
          <a:stretch/>
        </p:blipFill>
        <p:spPr>
          <a:xfrm>
            <a:off x="755640" y="189000"/>
            <a:ext cx="144144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1332000" y="907920"/>
          <a:ext cx="7272360" cy="5578560"/>
        </p:xfrm>
        <a:graphic>
          <a:graphicData uri="http://schemas.openxmlformats.org/drawingml/2006/table">
            <a:tbl>
              <a:tblPr/>
              <a:tblGrid>
                <a:gridCol w="1461960"/>
                <a:gridCol w="2878200"/>
                <a:gridCol w="2932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Эле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интерь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solidFill>
                      <a:srgbClr val="f7e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Гигиенические рекоменд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solidFill>
                      <a:srgbClr val="f7e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Полученные 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2808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solidFill>
                      <a:srgbClr val="f7e9c5"/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ка ст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дкие, матовые, допускающие уборку влажным способ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и, не допускающие влажную убор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ст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о-серый, светло-голубой, светло-зеленый, светло-розовый, бежевый. Отражающая способность 50-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жевы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ражающая способность 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ытие п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щелей (деревянный), паркет или линолеум на утепленной осно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олеум на утепленной основе, зеленовато-коричневого отт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го цвета (коэффициент отражения 70-8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ри и оконные ра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на белого цвета, двери – цвета натурального дере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ые тона, сочетающиеся с интерьером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юзи кремового ц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ы, столы, шк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натурального дерева или светло-зеле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натурального дер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906d5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Рекомендации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620120" cy="439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ee3b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иваться, чтобы температурный режим был в пределах нормы в течение всего учебного года, независимо от метеоусловий на у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иваться уменьшения бактериальной флоры, для чего наладить нормальный вентиляционный режим в классах, особенно в период зимних эпидем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иваться, чтобы освещенность была в пределах нормы, о перегоревших лампах информировать завхоза, самим следить за экономией электроэнерг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комендовать при последующем ремонте кабинета использовать краску, а не обои для отделки сте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гитировать весь школьный коллектив вести здоровый образ жизни, повышать культуру поведения школьников, быть отзывчивее друг к друг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ю об экологии помещения, некоторые результаты наших исследований доводить до сведения детского и пе­дагогического коллективов, администрации через доклады на школьной конферен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4" descr="голова"/>
          <p:cNvPicPr/>
          <p:nvPr/>
        </p:nvPicPr>
        <p:blipFill>
          <a:blip r:embed="rId1"/>
          <a:stretch/>
        </p:blipFill>
        <p:spPr>
          <a:xfrm>
            <a:off x="971640" y="1125360"/>
            <a:ext cx="7740720" cy="563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 flipH="1">
            <a:off x="610920" y="0"/>
            <a:ext cx="1873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заставка"/>
          <p:cNvPicPr/>
          <p:nvPr/>
        </p:nvPicPr>
        <p:blipFill>
          <a:blip r:embed="rId1"/>
          <a:stretch/>
        </p:blipFill>
        <p:spPr>
          <a:xfrm>
            <a:off x="826920" y="189000"/>
            <a:ext cx="1584360" cy="14526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Авторы проек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58920" y="501336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полнили: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Вельмакина Татьяна, Егоров Денис, Чигаева Юля, Балаев Андр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Ирина Викторовна Тавторк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18"/>
          <p:cNvGrpSpPr/>
          <p:nvPr/>
        </p:nvGrpSpPr>
        <p:grpSpPr>
          <a:xfrm>
            <a:off x="4932360" y="1700280"/>
            <a:ext cx="3743280" cy="2763720"/>
            <a:chOff x="4932360" y="1700280"/>
            <a:chExt cx="3743280" cy="2763720"/>
          </a:xfrm>
        </p:grpSpPr>
        <p:pic>
          <p:nvPicPr>
            <p:cNvPr id="236" name="Picture 5" descr="DSC00597"/>
            <p:cNvPicPr/>
            <p:nvPr/>
          </p:nvPicPr>
          <p:blipFill>
            <a:blip r:embed="rId2"/>
            <a:stretch/>
          </p:blipFill>
          <p:spPr>
            <a:xfrm>
              <a:off x="5003640" y="1700280"/>
              <a:ext cx="3672000" cy="27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7"/>
            <p:cNvSpPr/>
            <p:nvPr/>
          </p:nvSpPr>
          <p:spPr>
            <a:xfrm flipH="1" rot="10800000">
              <a:off x="4932360" y="1700280"/>
              <a:ext cx="7128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 flipH="1" rot="10800000">
              <a:off x="8604360" y="1700280"/>
              <a:ext cx="7128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 flipH="1" rot="16200000">
              <a:off x="6754680" y="2543040"/>
              <a:ext cx="982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 flipH="1" rot="16200000">
              <a:off x="6754680" y="-122040"/>
              <a:ext cx="982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17"/>
          <p:cNvGrpSpPr/>
          <p:nvPr/>
        </p:nvGrpSpPr>
        <p:grpSpPr>
          <a:xfrm>
            <a:off x="1042200" y="1700280"/>
            <a:ext cx="3745800" cy="2752560"/>
            <a:chOff x="1042200" y="1700280"/>
            <a:chExt cx="3745800" cy="2752560"/>
          </a:xfrm>
        </p:grpSpPr>
        <p:pic>
          <p:nvPicPr>
            <p:cNvPr id="242" name="Picture 11" descr="P1010017"/>
            <p:cNvPicPr/>
            <p:nvPr/>
          </p:nvPicPr>
          <p:blipFill>
            <a:blip r:embed="rId3"/>
            <a:stretch/>
          </p:blipFill>
          <p:spPr>
            <a:xfrm>
              <a:off x="1116000" y="1700280"/>
              <a:ext cx="3670200" cy="27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12"/>
            <p:cNvSpPr/>
            <p:nvPr/>
          </p:nvSpPr>
          <p:spPr>
            <a:xfrm flipH="1" rot="16200000">
              <a:off x="2916360" y="2565360"/>
              <a:ext cx="71280" cy="3672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 flipH="1" rot="16200000">
              <a:off x="2865240" y="-122040"/>
              <a:ext cx="982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 flipH="1" rot="10800000">
              <a:off x="4715280" y="1700280"/>
              <a:ext cx="7164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5"/>
            <p:cNvSpPr/>
            <p:nvPr/>
          </p:nvSpPr>
          <p:spPr>
            <a:xfrm flipH="1" rot="10800000">
              <a:off x="1041480" y="1700280"/>
              <a:ext cx="7164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Rectangle 16"/>
          <p:cNvSpPr/>
          <p:nvPr/>
        </p:nvSpPr>
        <p:spPr>
          <a:xfrm>
            <a:off x="900000" y="6236640"/>
            <a:ext cx="7939080" cy="368280"/>
          </a:xfrm>
          <a:prstGeom prst="rect">
            <a:avLst/>
          </a:prstGeom>
          <a:solidFill>
            <a:srgbClr val="f4e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www.school41-saransk.narod.ru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;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 e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mail:mou41@mail.ru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;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 tel : (8342)76-24-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9" descr="Безымянный"/>
          <p:cNvPicPr/>
          <p:nvPr/>
        </p:nvPicPr>
        <p:blipFill>
          <a:blip r:embed="rId4"/>
          <a:stretch/>
        </p:blipFill>
        <p:spPr>
          <a:xfrm>
            <a:off x="7164360" y="981000"/>
            <a:ext cx="16207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Цель исследования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42920" y="1700280"/>
            <a:ext cx="7632720" cy="4220280"/>
          </a:xfrm>
          <a:prstGeom prst="rect">
            <a:avLst/>
          </a:prstGeom>
          <a:solidFill>
            <a:srgbClr val="ffffff"/>
          </a:solidFill>
          <a:ln w="76320">
            <a:solidFill>
              <a:srgbClr val="fee3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ределить основные показатели микроклимата кабинета биологии,       их соответствие нормам, дать рекомендации по улучшению положения, составить валеологический паспорт кабине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голова"/>
          <p:cNvPicPr/>
          <p:nvPr/>
        </p:nvPicPr>
        <p:blipFill>
          <a:blip r:embed="rId1"/>
          <a:stretch/>
        </p:blipFill>
        <p:spPr>
          <a:xfrm>
            <a:off x="1042920" y="1197000"/>
            <a:ext cx="76694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Объект исследования</a:t>
            </a:r>
            <a:br>
              <a:rPr sz="4000"/>
            </a:br>
            <a:r>
              <a:rPr b="0" lang="ru-RU" sz="2400" spc="-1" strike="noStrike">
                <a:solidFill>
                  <a:srgbClr val="8f6d58"/>
                </a:solidFill>
                <a:latin typeface="Arial Black"/>
              </a:rPr>
              <a:t>кабинет биологии МОУ «Средняя общеобразовательная школа №41»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092240" y="2205000"/>
            <a:ext cx="3744720" cy="3384720"/>
            <a:chOff x="1092240" y="2205000"/>
            <a:chExt cx="3744720" cy="3384720"/>
          </a:xfrm>
        </p:grpSpPr>
        <p:pic>
          <p:nvPicPr>
            <p:cNvPr id="103" name="Picture 4" descr="Саранская городская школа №41"/>
            <p:cNvPicPr/>
            <p:nvPr/>
          </p:nvPicPr>
          <p:blipFill>
            <a:blip r:embed="rId1"/>
            <a:stretch/>
          </p:blipFill>
          <p:spPr>
            <a:xfrm>
              <a:off x="1116000" y="2276640"/>
              <a:ext cx="36720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5"/>
            <p:cNvSpPr/>
            <p:nvPr/>
          </p:nvSpPr>
          <p:spPr>
            <a:xfrm rot="5400000">
              <a:off x="2928600" y="3681360"/>
              <a:ext cx="71640" cy="374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 rot="5400000">
              <a:off x="2927880" y="369000"/>
              <a:ext cx="73080" cy="374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 rot="10800000">
              <a:off x="4765680" y="2205000"/>
              <a:ext cx="71280" cy="338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 rot="10800000">
              <a:off x="1092240" y="2205000"/>
              <a:ext cx="71280" cy="338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5292360" y="2190600"/>
            <a:ext cx="3315240" cy="3488040"/>
            <a:chOff x="5292360" y="2190600"/>
            <a:chExt cx="3315240" cy="3488040"/>
          </a:xfrm>
        </p:grpSpPr>
        <p:pic>
          <p:nvPicPr>
            <p:cNvPr id="109" name="Picture 10" descr="Рисунок1"/>
            <p:cNvPicPr/>
            <p:nvPr/>
          </p:nvPicPr>
          <p:blipFill>
            <a:blip r:embed="rId2"/>
            <a:stretch/>
          </p:blipFill>
          <p:spPr>
            <a:xfrm>
              <a:off x="5292720" y="2205000"/>
              <a:ext cx="331488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1"/>
            <p:cNvSpPr/>
            <p:nvPr/>
          </p:nvSpPr>
          <p:spPr>
            <a:xfrm rot="10800000">
              <a:off x="5292720" y="2205000"/>
              <a:ext cx="71280" cy="338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 rot="10800000">
              <a:off x="8532360" y="2205000"/>
              <a:ext cx="71640" cy="338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 rot="5400000">
              <a:off x="6903720" y="3978360"/>
              <a:ext cx="88920" cy="3311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 rot="5400000">
              <a:off x="6905160" y="577440"/>
              <a:ext cx="86040" cy="3311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WordArt 17"/>
          <p:cNvSpPr txBox="1"/>
          <p:nvPr/>
        </p:nvSpPr>
        <p:spPr>
          <a:xfrm>
            <a:off x="2050920" y="558972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бро пожаловать!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book37"/>
          <p:cNvPicPr/>
          <p:nvPr/>
        </p:nvPicPr>
        <p:blipFill>
          <a:blip r:embed="rId1"/>
          <a:stretch/>
        </p:blipFill>
        <p:spPr>
          <a:xfrm>
            <a:off x="7524720" y="260280"/>
            <a:ext cx="1440000" cy="1120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Предмет исследован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19640" y="2781360"/>
            <a:ext cx="3492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f6d58"/>
                </a:solidFill>
                <a:latin typeface="Arial Black"/>
              </a:rPr>
              <a:t>Микроклим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f6d58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8f6d58"/>
                </a:solidFill>
                <a:latin typeface="Arial Black"/>
              </a:rPr>
              <a:t>школь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f6d58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8f6d58"/>
                </a:solidFill>
                <a:latin typeface="Arial Black"/>
              </a:rPr>
              <a:t>кабин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332000" y="2349000"/>
            <a:ext cx="3816000" cy="3240720"/>
            <a:chOff x="1332000" y="2349000"/>
            <a:chExt cx="3816000" cy="3240720"/>
          </a:xfrm>
        </p:grpSpPr>
        <p:pic>
          <p:nvPicPr>
            <p:cNvPr id="119" name="Picture 5" descr="P4120010"/>
            <p:cNvPicPr/>
            <p:nvPr/>
          </p:nvPicPr>
          <p:blipFill>
            <a:blip r:embed="rId2"/>
            <a:stretch/>
          </p:blipFill>
          <p:spPr>
            <a:xfrm>
              <a:off x="1403280" y="2349360"/>
              <a:ext cx="3733920" cy="32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6"/>
            <p:cNvSpPr/>
            <p:nvPr/>
          </p:nvSpPr>
          <p:spPr>
            <a:xfrm rot="5400000">
              <a:off x="3238920" y="513000"/>
              <a:ext cx="73080" cy="37450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 rot="5400000">
              <a:off x="3238920" y="3680640"/>
              <a:ext cx="73080" cy="37450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 rot="10800000">
              <a:off x="1332000" y="2349000"/>
              <a:ext cx="71280" cy="3240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 rot="10800000">
              <a:off x="5076360" y="2349000"/>
              <a:ext cx="71640" cy="3240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Направления исследован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10400" cy="4114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ee3b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ение особенностей влияния воздушной среды на здоровье человека и валеологическая оценка кабинета: соответствие санитарно-гигиеническим нормам температуры и влажности, режима вентиляции и чистоты воздуха, организации естественного и искусственного осве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ценка мебели и ее расстановки в классном кабине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еологическая оценка интерьера школьного помещения с учетом рекомендаций по цветооздоровлению окружающей сре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голова"/>
          <p:cNvPicPr/>
          <p:nvPr/>
        </p:nvPicPr>
        <p:blipFill>
          <a:blip r:embed="rId1"/>
          <a:stretch/>
        </p:blipFill>
        <p:spPr>
          <a:xfrm>
            <a:off x="1042920" y="1197000"/>
            <a:ext cx="76694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Impact"/>
              </a:rPr>
              <a:t>Валеологическая оценка температуры и влажности воздуха кабине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8876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Средняя температура воздуха составила +19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тносительная влажность - 63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22"/>
          <p:cNvGrpSpPr/>
          <p:nvPr/>
        </p:nvGrpSpPr>
        <p:grpSpPr>
          <a:xfrm>
            <a:off x="5218920" y="1916280"/>
            <a:ext cx="3240720" cy="4392000"/>
            <a:chOff x="5218920" y="1916280"/>
            <a:chExt cx="3240720" cy="4392000"/>
          </a:xfrm>
        </p:grpSpPr>
        <p:pic>
          <p:nvPicPr>
            <p:cNvPr id="130" name="Picture 17" descr="P4140002"/>
            <p:cNvPicPr/>
            <p:nvPr/>
          </p:nvPicPr>
          <p:blipFill>
            <a:blip r:embed="rId1"/>
            <a:stretch/>
          </p:blipFill>
          <p:spPr>
            <a:xfrm>
              <a:off x="5292720" y="1991520"/>
              <a:ext cx="3086280" cy="42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18"/>
            <p:cNvSpPr/>
            <p:nvPr/>
          </p:nvSpPr>
          <p:spPr>
            <a:xfrm flipH="1" rot="16200000">
              <a:off x="6801840" y="406080"/>
              <a:ext cx="75240" cy="3095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9"/>
            <p:cNvSpPr/>
            <p:nvPr/>
          </p:nvSpPr>
          <p:spPr>
            <a:xfrm flipH="1" rot="16200000">
              <a:off x="6801840" y="4722840"/>
              <a:ext cx="75240" cy="3095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20"/>
            <p:cNvSpPr/>
            <p:nvPr/>
          </p:nvSpPr>
          <p:spPr>
            <a:xfrm flipH="1" rot="10800000">
              <a:off x="5218560" y="1916280"/>
              <a:ext cx="71640" cy="4392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 flipH="1" rot="10800000">
              <a:off x="8388360" y="1916280"/>
              <a:ext cx="71280" cy="4392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 Box 23"/>
          <p:cNvSpPr/>
          <p:nvPr/>
        </p:nvSpPr>
        <p:spPr>
          <a:xfrm>
            <a:off x="5364000" y="6021360"/>
            <a:ext cx="30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5" descr="d-17_bol"/>
          <p:cNvPicPr/>
          <p:nvPr/>
        </p:nvPicPr>
        <p:blipFill>
          <a:blip r:embed="rId2"/>
          <a:srcRect l="4896" t="5004" r="6102" b="6102"/>
          <a:stretch/>
        </p:blipFill>
        <p:spPr>
          <a:xfrm flipH="1" rot="2448600">
            <a:off x="1115280" y="1340640"/>
            <a:ext cx="129708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0" descr="top_right"/>
          <p:cNvPicPr/>
          <p:nvPr/>
        </p:nvPicPr>
        <p:blipFill>
          <a:blip r:embed="rId1"/>
          <a:stretch/>
        </p:blipFill>
        <p:spPr>
          <a:xfrm>
            <a:off x="7812000" y="260280"/>
            <a:ext cx="1013040" cy="1297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Валеологическая оценка вентиляции воздуха кабине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5219280" y="1752480"/>
            <a:ext cx="3169080" cy="4125960"/>
            <a:chOff x="5219280" y="1752480"/>
            <a:chExt cx="3169080" cy="4125960"/>
          </a:xfrm>
        </p:grpSpPr>
        <p:pic>
          <p:nvPicPr>
            <p:cNvPr id="140" name="Picture 4" descr="P3100030"/>
            <p:cNvPicPr/>
            <p:nvPr/>
          </p:nvPicPr>
          <p:blipFill>
            <a:blip r:embed="rId2"/>
            <a:stretch/>
          </p:blipFill>
          <p:spPr>
            <a:xfrm>
              <a:off x="5276880" y="1752480"/>
              <a:ext cx="30859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 rot="10800000">
              <a:off x="5219280" y="1773000"/>
              <a:ext cx="71640" cy="4103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 rot="10800000">
              <a:off x="8317080" y="1773000"/>
              <a:ext cx="71280" cy="4103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 rot="5400000">
              <a:off x="6731640" y="26100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 rot="5400000">
              <a:off x="6731640" y="429300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9"/>
          <p:cNvGrpSpPr/>
          <p:nvPr/>
        </p:nvGrpSpPr>
        <p:grpSpPr>
          <a:xfrm>
            <a:off x="1331640" y="1752480"/>
            <a:ext cx="3169080" cy="4125960"/>
            <a:chOff x="1331640" y="1752480"/>
            <a:chExt cx="3169080" cy="4125960"/>
          </a:xfrm>
        </p:grpSpPr>
        <p:pic>
          <p:nvPicPr>
            <p:cNvPr id="146" name="Picture 10" descr="P3100031"/>
            <p:cNvPicPr/>
            <p:nvPr/>
          </p:nvPicPr>
          <p:blipFill>
            <a:blip r:embed="rId3"/>
            <a:stretch/>
          </p:blipFill>
          <p:spPr>
            <a:xfrm>
              <a:off x="1390680" y="1752480"/>
              <a:ext cx="30859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11"/>
            <p:cNvSpPr/>
            <p:nvPr/>
          </p:nvSpPr>
          <p:spPr>
            <a:xfrm rot="10800000">
              <a:off x="1332000" y="1773000"/>
              <a:ext cx="71280" cy="4103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 rot="10800000">
              <a:off x="4427640" y="1773000"/>
              <a:ext cx="71280" cy="4103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 rot="5400000">
              <a:off x="2843640" y="4293360"/>
              <a:ext cx="73080" cy="30970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 rot="5400000">
              <a:off x="2915280" y="26100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 rot="5400000">
              <a:off x="2915280" y="26100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 rot="5400000">
              <a:off x="2915280" y="26100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7"/>
          <p:cNvSpPr/>
          <p:nvPr/>
        </p:nvSpPr>
        <p:spPr>
          <a:xfrm>
            <a:off x="1547640" y="6154560"/>
            <a:ext cx="669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1258920" y="59500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 Unicode MS"/>
              </a:rPr>
              <a:t>&lt; </a:t>
            </a:r>
            <a:r>
              <a:rPr b="1" lang="ru-RU" sz="2400" spc="-1" strike="noStrike">
                <a:solidFill>
                  <a:srgbClr val="cc6600"/>
                </a:solidFill>
                <a:latin typeface="Arial Unicode MS"/>
              </a:rPr>
              <a:t>измерение высоты и ширины форточек окон</a:t>
            </a:r>
            <a:r>
              <a:rPr b="1" lang="en-US" sz="2400" spc="-1" strike="noStrike">
                <a:solidFill>
                  <a:srgbClr val="cc6600"/>
                </a:solidFill>
                <a:latin typeface="Arial Unicode MS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9" descr="636e658be684"/>
          <p:cNvPicPr/>
          <p:nvPr/>
        </p:nvPicPr>
        <p:blipFill>
          <a:blip r:embed="rId1"/>
          <a:stretch/>
        </p:blipFill>
        <p:spPr>
          <a:xfrm rot="19164600">
            <a:off x="6659280" y="5084280"/>
            <a:ext cx="2190600" cy="1457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Валеологическая оценка чистоты воздуха кабине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4932360" y="2349360"/>
            <a:ext cx="3743280" cy="2952720"/>
            <a:chOff x="4932360" y="2349360"/>
            <a:chExt cx="3743280" cy="2952720"/>
          </a:xfrm>
        </p:grpSpPr>
        <p:pic>
          <p:nvPicPr>
            <p:cNvPr id="158" name="Picture 4" descr="P3100033"/>
            <p:cNvPicPr/>
            <p:nvPr/>
          </p:nvPicPr>
          <p:blipFill>
            <a:blip r:embed="rId2"/>
            <a:stretch/>
          </p:blipFill>
          <p:spPr>
            <a:xfrm>
              <a:off x="4932360" y="2421000"/>
              <a:ext cx="3733920" cy="28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5"/>
            <p:cNvSpPr/>
            <p:nvPr/>
          </p:nvSpPr>
          <p:spPr>
            <a:xfrm rot="10800000">
              <a:off x="4932360" y="2420640"/>
              <a:ext cx="71280" cy="2808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 rot="10800000">
              <a:off x="8604360" y="2420640"/>
              <a:ext cx="71280" cy="2808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"/>
            <p:cNvSpPr/>
            <p:nvPr/>
          </p:nvSpPr>
          <p:spPr>
            <a:xfrm rot="5400000">
              <a:off x="6767280" y="514080"/>
              <a:ext cx="730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 rot="5400000">
              <a:off x="6767280" y="514080"/>
              <a:ext cx="730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 rot="5400000">
              <a:off x="6767280" y="514080"/>
              <a:ext cx="730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 rot="5400000">
              <a:off x="6767640" y="3394080"/>
              <a:ext cx="7272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1"/>
          <p:cNvGrpSpPr/>
          <p:nvPr/>
        </p:nvGrpSpPr>
        <p:grpSpPr>
          <a:xfrm>
            <a:off x="1042560" y="2349360"/>
            <a:ext cx="3745080" cy="2952720"/>
            <a:chOff x="1042560" y="2349360"/>
            <a:chExt cx="3745080" cy="2952720"/>
          </a:xfrm>
        </p:grpSpPr>
        <p:pic>
          <p:nvPicPr>
            <p:cNvPr id="166" name="Picture 12" descr="P3100032"/>
            <p:cNvPicPr/>
            <p:nvPr/>
          </p:nvPicPr>
          <p:blipFill>
            <a:blip r:embed="rId3"/>
            <a:stretch/>
          </p:blipFill>
          <p:spPr>
            <a:xfrm>
              <a:off x="1042920" y="2421000"/>
              <a:ext cx="3733920" cy="28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13"/>
            <p:cNvSpPr/>
            <p:nvPr/>
          </p:nvSpPr>
          <p:spPr>
            <a:xfrm rot="10800000">
              <a:off x="1042560" y="2420640"/>
              <a:ext cx="71640" cy="2808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 rot="10800000">
              <a:off x="4716000" y="2420640"/>
              <a:ext cx="71640" cy="2808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 rot="5400000">
              <a:off x="2877840" y="514080"/>
              <a:ext cx="730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6"/>
            <p:cNvSpPr/>
            <p:nvPr/>
          </p:nvSpPr>
          <p:spPr>
            <a:xfrm rot="5400000">
              <a:off x="2878200" y="3394080"/>
              <a:ext cx="7272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1692360" y="5445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&lt;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одсчет количества пылин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ogoda_v_dome.mp3" descr=""/>
          <p:cNvPicPr/>
          <p:nvPr/>
        </p:nvPicPr>
        <p:blipFill>
          <a:blip r:embed="rId4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63" descr="small039"/>
          <p:cNvPicPr/>
          <p:nvPr/>
        </p:nvPicPr>
        <p:blipFill>
          <a:blip r:embed="rId1"/>
          <a:srcRect l="3908" t="5323" r="4060" b="5438"/>
          <a:stretch/>
        </p:blipFill>
        <p:spPr>
          <a:xfrm>
            <a:off x="7093080" y="333360"/>
            <a:ext cx="1655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116000" y="1989000"/>
          <a:ext cx="7632720" cy="4033800"/>
        </p:xfrm>
        <a:graphic>
          <a:graphicData uri="http://schemas.openxmlformats.org/drawingml/2006/table">
            <a:tbl>
              <a:tblPr/>
              <a:tblGrid>
                <a:gridCol w="1525680"/>
                <a:gridCol w="1527120"/>
                <a:gridCol w="1527120"/>
                <a:gridCol w="1527120"/>
                <a:gridCol w="15256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cc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Количество пыли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cc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cc6600"/>
                      </a:solidFill>
                    </a:lnR>
                    <a:lnT w="28080">
                      <a:solidFill>
                        <a:srgbClr val="cc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до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треть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пере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посл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.03.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ыленность кабинета возрастает в течение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cc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03.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03.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.03.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03.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66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Rectangle 361"/>
          <p:cNvSpPr/>
          <p:nvPr/>
        </p:nvSpPr>
        <p:spPr>
          <a:xfrm>
            <a:off x="971640" y="476280"/>
            <a:ext cx="667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Impact"/>
              </a:rPr>
              <a:t>Запыленность воздуха в кабинете биоло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4:10:49Z</dcterms:created>
  <dc:creator>Ирина</dc:creator>
  <dc:description/>
  <dc:language>en-US</dc:language>
  <cp:lastModifiedBy>Ирина</cp:lastModifiedBy>
  <dcterms:modified xsi:type="dcterms:W3CDTF">2015-01-25T09:37:46Z</dcterms:modified>
  <cp:revision>20</cp:revision>
  <dc:subject/>
  <dc:title>Тема: Взаимодействие генов</dc:title>
</cp:coreProperties>
</file>