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838-D969-4B73-B329-CADE1B36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3A6-BF14-4C29-B1FD-2ABEE3E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759-9C63-4670-ADE2-35BBCE1B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58C-E094-4459-B113-E0A56CD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5C871-D53C-4F08-B383-BFBDED23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8DDB7-AB7C-4E40-B85C-08D0C24C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93CBE-0C41-49CB-AA64-DCD4257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99EF8-2AC2-4E36-9EDA-672FE490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7849-F956-4C2B-A2AA-66FED1A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DECE7-CDDB-4D31-B755-53929A5C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5A39F-443E-4649-B713-0745747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2D2-0627-4BA9-9448-65C82D7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42EE-385E-45DC-809E-B1FE1CD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B96E-9AB0-43C4-8BDE-3283379E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47DBF-56CC-4836-884F-1F7554D2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8D477-47EE-4523-B9C4-2A840DD5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2B3A4-A38B-4A6B-AE8E-826B80E3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ADD-3A15-4236-B3A1-E872F82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825-DE44-4D69-8BDF-A00711BC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428-0661-4BE3-9C68-5761556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D72-E02B-45A5-A4D0-6ED3E00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C79-6E75-4B4D-B235-B7FC3F2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733-FC3D-44CC-B66D-8F42BFE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153-CE4D-47A0-AB90-235195B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F988-58FF-44F6-B188-4A63BEC92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D0F-42C4-4959-A44A-250E72A67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052640"/>
            <a:ext cx="8209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НООБРАЗИЕ ОБЛА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ЕРИСТЫЕ ОБЛ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Перистые облака - Картинка 4526/13"/>
          <p:cNvPicPr/>
          <p:nvPr/>
        </p:nvPicPr>
        <p:blipFill>
          <a:blip r:embed="rId4"/>
          <a:stretch/>
        </p:blipFill>
        <p:spPr>
          <a:xfrm>
            <a:off x="4716360" y="1700280"/>
            <a:ext cx="4248360" cy="480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0" y="1268280"/>
            <a:ext cx="4632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УЧЕВЫЕ ОБЛ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heap cloud with vertical development"/>
          <p:cNvPicPr/>
          <p:nvPr/>
        </p:nvPicPr>
        <p:blipFill>
          <a:blip r:embed="rId3"/>
          <a:stretch/>
        </p:blipFill>
        <p:spPr>
          <a:xfrm>
            <a:off x="468360" y="1628640"/>
            <a:ext cx="8207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ЛОИСТЫЕ ОБЛ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Фотографии - Облака"/>
          <p:cNvPicPr/>
          <p:nvPr/>
        </p:nvPicPr>
        <p:blipFill>
          <a:blip r:embed="rId3"/>
          <a:stretch/>
        </p:blipFill>
        <p:spPr>
          <a:xfrm>
            <a:off x="468360" y="1557360"/>
            <a:ext cx="820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РОЗОВЫЕ ТУ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Грозовые облака &quot; NNMUZ.COM - Сайт в Tas-iX"/>
          <p:cNvPicPr/>
          <p:nvPr/>
        </p:nvPicPr>
        <p:blipFill>
          <a:blip r:embed="rId2"/>
          <a:stretch/>
        </p:blipFill>
        <p:spPr>
          <a:xfrm>
            <a:off x="468360" y="148428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УМ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autumn fog - Wallpapers AD"/>
          <p:cNvPicPr/>
          <p:nvPr/>
        </p:nvPicPr>
        <p:blipFill>
          <a:blip r:embed="rId2"/>
          <a:stretch/>
        </p:blipFill>
        <p:spPr>
          <a:xfrm>
            <a:off x="611280" y="1413000"/>
            <a:ext cx="78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6:14:07Z</dcterms:created>
  <dc:creator>Татьяна</dc:creator>
  <dc:description/>
  <dc:language>en-US</dc:language>
  <cp:lastModifiedBy>Татьяна</cp:lastModifiedBy>
  <dcterms:modified xsi:type="dcterms:W3CDTF">2014-11-17T16:26:23Z</dcterms:modified>
  <cp:revision>3</cp:revision>
  <dc:subject/>
  <dc:title> </dc:title>
</cp:coreProperties>
</file>