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9F5-CD77-4FCE-8D7F-38E8132C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79A-0C96-4914-85EE-6CF749E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B13-5F8D-49C5-8C91-F25D8D50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025-ADC8-46D4-83A6-C1E2146F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FCF4C-BB1F-4726-AE10-72603E3D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CA77-E83A-451C-8E88-57F0F97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C529A-8407-4BD5-B0EB-0E1B50B5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B988-CEA1-4E4B-9E7A-E7ECD70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9F2E-C1C8-47A2-B932-EAC5541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FE803-A696-44A8-8F16-83FA7AC2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3F603-897C-4710-9A3C-EC28BF6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3FE-A20D-4533-A101-9036017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10CEC-A9DA-4DF8-9B5E-35F1AC18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D1FD-7C68-4124-BE82-2813C8C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7C3AA-64B6-4689-9305-5AF3A9B9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1FF40-9993-46EA-9E54-2C62CCC9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3E39-3825-4EDB-BAE9-0BFB297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F4A-60D4-442E-A72A-06E1AC5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07A-21C4-418C-A7F5-1D62056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B39-71B3-45CD-A221-4555110F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C37-515F-4CF9-AB8C-6EF21071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510-5596-44F6-B96C-0C62DEB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4B5-E22C-4F45-8E73-A87A09B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558-B2D0-40A4-B724-0AA8D10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4F63-B921-4E18-9210-7C946EA12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BF6E-75A3-41C7-8FA6-1C7781162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052640"/>
            <a:ext cx="8209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ЗНООБРАЗИЕ ОБЛА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ЕРИСТ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Перистые облака - Картинка 4526/13"/>
          <p:cNvPicPr/>
          <p:nvPr/>
        </p:nvPicPr>
        <p:blipFill>
          <a:blip r:embed="rId4"/>
          <a:stretch/>
        </p:blipFill>
        <p:spPr>
          <a:xfrm>
            <a:off x="4716360" y="1700280"/>
            <a:ext cx="4248360" cy="480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0" y="1268280"/>
            <a:ext cx="4632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УЧЕВ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heap cloud with vertical development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ЛОИСТЫЕ ОБЛ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Фотографии - Облака"/>
          <p:cNvPicPr/>
          <p:nvPr/>
        </p:nvPicPr>
        <p:blipFill>
          <a:blip r:embed="rId3"/>
          <a:stretch/>
        </p:blipFill>
        <p:spPr>
          <a:xfrm>
            <a:off x="468360" y="1557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РОЗОВЫЕ ТУ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Грозовые облака &quot; NNMUZ.COM - Сайт в Tas-iX"/>
          <p:cNvPicPr/>
          <p:nvPr/>
        </p:nvPicPr>
        <p:blipFill>
          <a:blip r:embed="rId2"/>
          <a:stretch/>
        </p:blipFill>
        <p:spPr>
          <a:xfrm>
            <a:off x="468360" y="148428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УМ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autumn fog - Wallpapers AD"/>
          <p:cNvPicPr/>
          <p:nvPr/>
        </p:nvPicPr>
        <p:blipFill>
          <a:blip r:embed="rId2"/>
          <a:stretch/>
        </p:blipFill>
        <p:spPr>
          <a:xfrm>
            <a:off x="611280" y="1413000"/>
            <a:ext cx="78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6:14:07Z</dcterms:created>
  <dc:creator>Татьяна</dc:creator>
  <dc:description/>
  <dc:language>en-US</dc:language>
  <cp:lastModifiedBy>Татьяна</cp:lastModifiedBy>
  <dcterms:modified xsi:type="dcterms:W3CDTF">2014-11-17T16:26:23Z</dcterms:modified>
  <cp:revision>3</cp:revision>
  <dc:subject/>
  <dc:title> </dc:title>
</cp:coreProperties>
</file>