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gif" ContentType="image/gif"/>
  <Override PartName="/ppt/media/image10.gif" ContentType="image/gif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A1C-8DC7-4C22-B5E5-2C81CE38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62D-99FE-4AEF-BC80-2CA22262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3DD-13B6-49CC-8A72-ADCEAE1E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A49-ACB7-474F-8394-8EECB1FD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5CDB-D7E6-41C4-89A4-C9D2B83B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3B0F-F5A6-405B-A90C-27FE56C7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B8DE-05C7-43B3-B70A-7A3C5209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9C26-1ECE-4995-BD22-750C95EC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1812-B1EF-4E9B-8A29-A8B39D6B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407F-AF55-4E3D-A24D-EE624505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A033-D5DD-4219-B69B-DDB432CE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104-5C5D-4142-AA0A-2F5A2795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2B76-FB68-46AA-A105-CB2B9D71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3AA0-A45E-482D-BCEE-31988A8D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B334-CB8E-484E-AD80-AC6680D3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A0AE-125A-4C66-9308-DF6D95D5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64E0-327E-4CAA-BC49-A2DF5FEB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9F9-CB75-4EE7-AD11-38D248D6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E63-94DA-4093-9F0F-9D52D9DD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4C9-48EE-4A93-BD0B-80D9AF6C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A45-036B-4816-AFFF-1657B1C3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660-D6B3-4C27-8AEE-9B8B2A5C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CC7-FEB4-4681-95CC-B4DD74F9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B89-190C-4045-B4FD-FBBFF25F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8213-D7E9-4ADF-B8C4-C37412B32B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043D-DC9F-41DA-8B85-FD4E4AD17A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5F6D-AFF9-4133-A5C2-FE000041C2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114300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Родительское собрание</a:t>
            </a:r>
            <a:br>
              <a:rPr sz="4400"/>
            </a:b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«Адаптация пятиклассников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турмуйте каждую проблему с энтузиазмом..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если бы от этого зависела ваша жизн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29C-1A3A-462A-B2A8-E546B26BF5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Рекомендации для родителей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близорукости, искривления позвоночника, тренировка мелких мышц кистей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е введение в рацион ребенка витаминных препаратов, фруктов и овощей. Организация правильного питан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та родителей о закаливании ребенка, максимальное развитие двигательной активности, создание в доме спортивного уголка, приобретение спортивного инвентаря: скакалки, гантели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самостоятельности и ответственности ребенка как глав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й сохранения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military_private_bootcamp_pullups_md_wht"/>
          <p:cNvPicPr/>
          <p:nvPr/>
        </p:nvPicPr>
        <p:blipFill>
          <a:blip r:embed="rId1"/>
          <a:stretch/>
        </p:blipFill>
        <p:spPr>
          <a:xfrm>
            <a:off x="7991640" y="0"/>
            <a:ext cx="115236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military_training_pushups_md_wht"/>
          <p:cNvPicPr/>
          <p:nvPr/>
        </p:nvPicPr>
        <p:blipFill>
          <a:blip r:embed="rId2"/>
          <a:stretch/>
        </p:blipFill>
        <p:spPr>
          <a:xfrm>
            <a:off x="7086600" y="5410080"/>
            <a:ext cx="2057400" cy="1644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military_private_jumping_jacks_md_wht"/>
          <p:cNvPicPr/>
          <p:nvPr/>
        </p:nvPicPr>
        <p:blipFill>
          <a:blip r:embed="rId3"/>
          <a:stretch/>
        </p:blipFill>
        <p:spPr>
          <a:xfrm>
            <a:off x="-228600" y="2971800"/>
            <a:ext cx="1219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D580-517B-49FE-9B60-4852A79D69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сихологические проблемы пятиклассников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овышение уровня тревожности семьи, связанной с обучением ребенка в пятом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повышение уровня тревожности самого ребенка, зависимость степени адаптации ребенка к новым условиям от тех требований, которые предъявляет ребенку семья, его ближайшее окру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зависимость степени адаптации ребенка от его внутреннего состояния, характера, его успеваемости в начальной шко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степень учебной и социальной мотивации пятиклассника, его желание вступать в учебные и внеучебные контак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171840" y="3657600"/>
            <a:ext cx="2514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31-1"/>
          <p:cNvPicPr/>
          <p:nvPr/>
        </p:nvPicPr>
        <p:blipFill>
          <a:blip r:embed="rId1"/>
          <a:stretch/>
        </p:blipFill>
        <p:spPr>
          <a:xfrm>
            <a:off x="6572160" y="4514760"/>
            <a:ext cx="2571840" cy="23432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609480" y="4648320"/>
            <a:ext cx="609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состояние его физического здоровья, связанное с возрастными изменениями в организме и психологическим климатом в классном коллект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влияние самооценки ребенка на адаптацию к школе (чем ниже самооценка, тем больше трудностей у ребенка в школ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5941-595E-4FFF-97A2-3850C8A2EA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:\в печать\0a19115cdb755dac7afe4d0b507b4ea8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385740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бенок  наследует от своих далеких и близких предков прежде всего человеческую психику. Но, душа ребенка подобна «чистой доск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 родители, оставляем в этой душе след своего воспитания.  Выбор стиля жизни, поведения, поступков каждый человек делает сам.  А  вина  и заслуга детей в огромной степени ложится на головы и совесть родител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BAFF-5703-4D2E-8613-78D4E38857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 для родител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условное принятие реб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смотря на те неудачи, с которыми он уже столкнулся или может столкну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явление родителями интереса к школе, клас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м учится ребенок, к каждому прожитому им школьному дн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его одноклассниками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ь общения ребят после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пугивания, критики в адрес ребенка, особенно в присутствии других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т темперамента ребенка в период адапт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школьному обуч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ребен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сти в учебной работ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рганизация обоснованного контроля его учеб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ральное стимулирование достижений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Правила от Симона Соловейчик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вут играть – иди, не зовут – спроси разрешения играть вместе, это не сты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ь внимателен везде, где нужно проявить внима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отметок не плачь, будь си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чителем из-за отметок не спорь и на учителя за отметки не обижай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йся все делать вовремя и думай о хороших результатах, они обязательно у тебя буд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йся быть аккура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аще говори: давай дружить, давай играть, давай вместе пойдем до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ни! Ты не лучше всех, ты не хуже всех!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– неповторимый для самого себя, родителей, учителей, друз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1B07-95B0-4850-8E99-F68AE97219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8E92-34D0-4864-B75F-FA71E6CE4FA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H:\в печать\0a191a10fc495c619a23cd9d77c2507f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0" y="38862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7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Переходный возраст — это как будто гусеница становится куколкой, а потом из этой окукленной гусеницы вылетает прекрасный и совершенный мотыл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ходный возраст и есть куколка, в которой совершается таинство превращения. Все предшествующие стадии развития данного организма служили подготовкой к этой последней ступени — зрелост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нек Матейчек «Родители и де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9C93-4C28-4802-87DB-B0E5FD0A2F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:\в печать\cc622daa488d953d6415f0d5a1a4cb83.jpeg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6840" y="4952520"/>
            <a:ext cx="81154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ереход детей из начальной школы в пятый класс – стресс не только для самих школьников, но и для их родителей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48C9-4036-44D7-9BD5-F71096B637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28240"/>
            <a:ext cx="80773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отро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анний подростковый возраст, 10—11 лет) с психикой ребенка происходят важные изменения: растет интерес к общению со сверстниками, появляется стремление утвердить в кругу друзей свою самостоятельность, независимость, личностную знач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Users\оксана\Desktop\5кл классное руководство\Фото 5 кл\04102011514.JPG"/>
          <p:cNvPicPr/>
          <p:nvPr/>
        </p:nvPicPr>
        <p:blipFill>
          <a:blip r:embed="rId1"/>
          <a:stretch/>
        </p:blipFill>
        <p:spPr>
          <a:xfrm>
            <a:off x="1600200" y="238752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46CB-6AB0-4C86-ADBA-3CC8975DA6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4786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адоксальная ситуация!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ш пятиклассник по интеллекту и амбициям уже подросток, а по эмоциональным качествам и социальному поведению — все еще ребенок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H:\лепет2.jpg"/>
          <p:cNvPicPr/>
          <p:nvPr/>
        </p:nvPicPr>
        <p:blipFill>
          <a:blip r:embed="rId1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93FA-9E07-47D1-BE02-9730A663D3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ервые впечатления от обучения детей в пятом классе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:\Users\оксана\Desktop\5кл классное руководство\Фото 5 кл\P1040071.JPG"/>
          <p:cNvPicPr/>
          <p:nvPr/>
        </p:nvPicPr>
        <p:blipFill>
          <a:blip r:embed="rId1"/>
          <a:stretch/>
        </p:blipFill>
        <p:spPr>
          <a:xfrm>
            <a:off x="1066680" y="1600200"/>
            <a:ext cx="7608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CC8A-F324-42FF-B2FB-3278CBBF82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Анкета для родител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трудные моменты в  учебной деятельности не всегда заметны педагогам и классному руководите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учебные предметы даются вашему ребенку лег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аким учебным предметам подготовка домашнего задания вызывает у него затруд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чем это, по вашему мнению, связа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помощь нужна вашему ребенку со стороны учителя по предмету, классного руковод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бы вы хотели посоветовать учителю-предметнику в организации общения с вашим ребенком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29-1"/>
          <p:cNvPicPr/>
          <p:nvPr/>
        </p:nvPicPr>
        <p:blipFill>
          <a:blip r:embed="rId1"/>
          <a:stretch/>
        </p:blipFill>
        <p:spPr>
          <a:xfrm>
            <a:off x="7924680" y="0"/>
            <a:ext cx="12193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F44A-C12F-40A7-8B17-32C2BE5E05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Возможные причины недостаточной адаптации в 5-м класс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ые требования со стороны учителей-предметников, необходимость все их учитывать и выполня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й поток информации, незнакомые термины, сл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одиночества из-за отсутствия первой учительницы, ощущение отсутствия или недостаточности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тороны класс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30-1"/>
          <p:cNvPicPr/>
          <p:nvPr/>
        </p:nvPicPr>
        <p:blipFill>
          <a:blip r:embed="rId1"/>
          <a:stretch/>
        </p:blipFill>
        <p:spPr>
          <a:xfrm>
            <a:off x="6286680" y="4952880"/>
            <a:ext cx="2857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C509-C40B-4130-916B-4352F59A0C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Физиологические проблемы пятиклассник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режима дня ребенка в сравнении с начальной школ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еличение физической и умственной нагруз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строе физиологическое взросление многих детей, гормональные изменения в организм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я в питании ребенка, связанные с его большей самостояте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BE9C-F401-48AD-AC23-77499035C2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:\в печать\images_1101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3337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ации для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смены учебной деятельности ребенка дома, создание условий для двигательной активности детей между выполнением домашни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родителей за правильной позой во время домашних занятий, соблюдение светового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5T20:44:0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