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gif" ContentType="image/gif"/>
  <Override PartName="/ppt/media/image10.gif" ContentType="image/gif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99CB-3C59-415A-BA03-0E8EF4DC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2393-505E-4B36-912D-7B1571F7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8D71-CC10-4A05-98FA-5AEDD8C9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6333-8427-4D0C-8F63-99F4E3A0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CC53-EBEA-491F-A916-AE84F803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C2AE-E7E5-4E13-9321-89BE120E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5B65-7293-4F53-8EC7-FDB3CB6D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ECE4-7142-4D7B-8009-AC2D7070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A950-F31D-4E3D-AE86-7989B6DF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4676-A893-4E81-86A3-851B64B1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5230-D56D-4271-AED0-B97C71FF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A39-E352-46E2-AD4C-52773333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8CFF-055A-4394-A693-F3AFFD59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6666-259E-4725-A337-E8883F50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B1D5-546F-4E0B-9A67-CB6D5FCE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B932-2808-44A6-A8E0-E3720A82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E548-50C9-4822-A1E2-99A3EF83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BC4-0BA5-4EBB-A706-A4EC8991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5DC1-D2F7-4861-9F17-6606C883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5BD-BC84-4193-A450-A4C64502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A01-D83D-4E3B-A56E-430FEF1E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520-2174-4796-9527-2839F6B9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F697-7958-49DD-883A-D00B522F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9610-625B-43E0-9B70-69A0B4F4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E438-73FA-4BAC-B95D-2807D35F3F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91AC-CB62-4BB9-A44D-1F83B4234C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B687-33E2-4F9E-A8C9-D84C6897910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520" y="114300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Родительское собрание</a:t>
            </a:r>
            <a:br>
              <a:rPr sz="4400"/>
            </a:b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«Адаптация пятиклассников»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турмуйте каждую проблему с энтузиазмом..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если бы от этого зависела ваша жизн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.Кью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1F12-9426-4FC3-8D0A-77C92BC4C47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Рекомендации для родителей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упреждение близорукости, искривления позвоночника, тренировка мелких мышц кистей р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ное введение в рацион ребенка витаминных препаратов, фруктов и овощей. Организация правильного питания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ота родителей о закаливании ребенка, максимальное развитие двигательной активности, создание в доме спортивного уголка, приобретение спортивного инвентаря: скакалки, гантели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самостоятельности и ответственности ребенка как глав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й сохранения здор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military_private_bootcamp_pullups_md_wht"/>
          <p:cNvPicPr/>
          <p:nvPr/>
        </p:nvPicPr>
        <p:blipFill>
          <a:blip r:embed="rId1"/>
          <a:stretch/>
        </p:blipFill>
        <p:spPr>
          <a:xfrm>
            <a:off x="7991640" y="0"/>
            <a:ext cx="1152360" cy="2016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military_training_pushups_md_wht"/>
          <p:cNvPicPr/>
          <p:nvPr/>
        </p:nvPicPr>
        <p:blipFill>
          <a:blip r:embed="rId2"/>
          <a:stretch/>
        </p:blipFill>
        <p:spPr>
          <a:xfrm>
            <a:off x="7086600" y="5410080"/>
            <a:ext cx="2057400" cy="1644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military_private_jumping_jacks_md_wht"/>
          <p:cNvPicPr/>
          <p:nvPr/>
        </p:nvPicPr>
        <p:blipFill>
          <a:blip r:embed="rId3"/>
          <a:stretch/>
        </p:blipFill>
        <p:spPr>
          <a:xfrm>
            <a:off x="-228600" y="2971800"/>
            <a:ext cx="12193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6BFF-6F18-4D2F-8172-A5F8833193F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сихологические проблемы пятиклассников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повышение уровня тревожности семьи, связанной с обучением ребенка в пятом клас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повышение уровня тревожности самого ребенка, зависимость степени адаптации ребенка к новым условиям от тех требований, которые предъявляет ребенку семья, его ближайшее окру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зависимость степени адаптации ребенка от его внутреннего состояния, характера, его успеваемости в начальной шко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степень учебной и социальной мотивации пятиклассника, его желание вступать в учебные и внеучебные контак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171840" y="3657600"/>
            <a:ext cx="2514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31-1"/>
          <p:cNvPicPr/>
          <p:nvPr/>
        </p:nvPicPr>
        <p:blipFill>
          <a:blip r:embed="rId1"/>
          <a:stretch/>
        </p:blipFill>
        <p:spPr>
          <a:xfrm>
            <a:off x="6572160" y="4514760"/>
            <a:ext cx="2571840" cy="23432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7"/>
          <p:cNvSpPr/>
          <p:nvPr/>
        </p:nvSpPr>
        <p:spPr>
          <a:xfrm>
            <a:off x="609480" y="4648320"/>
            <a:ext cx="6096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состояние его физического здоровья, связанное с возрастными изменениями в организме и психологическим климатом в классном коллектив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влияние самооценки ребенка на адаптацию к школе (чем ниже самооценка, тем больше трудностей у ребенка в школ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6B6F-72F2-4DE3-A16E-9D5FAE11907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H:\в печать\0a19115cdb755dac7afe4d0b507b4ea8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57200" y="385740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бенок  наследует от своих далеких и близких предков прежде всего человеческую психику. Но, душа ребенка подобна «чистой доск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ы родители, оставляем в этой душе след своего воспитания.  Выбор стиля жизни, поведения, поступков каждый человек делает сам.  А  вина  и заслуга детей в огромной степени ложится на головы и совесть родителе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FEAD-641C-4DCB-8CD4-F7BF56228BA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Рекомендации для родителе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зусловное принятие ребен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есмотря на те неудачи, с которыми он уже столкнулся или может столкну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явление родителями интереса к школе, класс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ом учится ребенок, к каждому прожитому им школьному дн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мство с его одноклассниками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можность общения ребят после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допустимость физических мер воздейс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апугивания, критики в адрес ребенка, особенно в присутствии других люд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т темперамента ребенка в период адапт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школьному обуче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ставление ребенк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ости в учебной работ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рганизация обоснованного контроля его учебн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ощрение ребенка, и не только за учебные успех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Моральное стимулирование достижений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Правила от Симона Соловейчик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088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вут играть – иди, не зовут – спроси разрешения играть вместе, это не стыд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й честно, не подводи своих товарищ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ь внимателен везде, где нужно проявить внима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-за отметок не плачь, будь си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чителем из-за отметок не спорь и на учителя за отметки не обижай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айся все делать вовремя и думай о хороших результатах, они обязательно у тебя буд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айся быть аккурат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аще говори: давай дружить, давай играть, давай вместе пойдем до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ни! Ты не лучше всех, ты не хуже всех!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ы – неповторимый для самого себя, родителей, учителей, друз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1210-9A8F-42A4-B7C0-CB2AD3B1854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7605-3012-49BF-9555-4478E33092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H:\в печать\0a191a10fc495c619a23cd9d77c2507f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0" y="388620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7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Переходный возраст — это как будто гусеница становится куколкой, а потом из этой окукленной гусеницы вылетает прекрасный и совершенный мотыл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ереходный возраст и есть куколка, в которой совершается таинство превращения. Все предшествующие стадии развития данного организма служили подготовкой к этой последней ступени — зрелости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>
              <a:lnSpc>
                <a:spcPct val="7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нек Матейчек «Родители и дет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8C9B-91E4-447C-8A61-AC872CD97DF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:\в печать\cc622daa488d953d6415f0d5a1a4cb83.jpeg"/>
          <p:cNvPicPr/>
          <p:nvPr/>
        </p:nvPicPr>
        <p:blipFill>
          <a:blip r:embed="rId1"/>
          <a:stretch/>
        </p:blipFill>
        <p:spPr>
          <a:xfrm>
            <a:off x="0" y="0"/>
            <a:ext cx="90964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6840" y="4952520"/>
            <a:ext cx="81154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ереход детей из начальной школы в пятый класс – стресс не только для самих школьников, но и для их родителей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36F9-1244-4DC4-A780-931C37F4E5E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228240"/>
            <a:ext cx="807732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чале отро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ранний подростковый возраст, 10—11 лет) с психикой ребенка происходят важные изменения: растет интерес к общению со сверстниками, появляется стремление утвердить в кругу друзей свою самостоятельность, независимость, личностную значим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C:\Users\оксана\Desktop\5кл классное руководство\Фото 5 кл\04102011514.JPG"/>
          <p:cNvPicPr/>
          <p:nvPr/>
        </p:nvPicPr>
        <p:blipFill>
          <a:blip r:embed="rId1"/>
          <a:stretch/>
        </p:blipFill>
        <p:spPr>
          <a:xfrm>
            <a:off x="1600200" y="2387520"/>
            <a:ext cx="60958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B244-0A24-4A9B-A72C-F5FEE0368C7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0"/>
            <a:ext cx="4786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адоксальная ситуация!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ш пятиклассник по интеллекту и амбициям уже подросток, а по эмоциональным качествам и социальному поведению — все еще ребенок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H:\лепет2.jpg"/>
          <p:cNvPicPr/>
          <p:nvPr/>
        </p:nvPicPr>
        <p:blipFill>
          <a:blip r:embed="rId1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1C1F-F247-4BF2-A067-7C5A923D74F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ервые впечатления от обучения детей в пятом классе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C:\Users\оксана\Desktop\5кл классное руководство\Фото 5 кл\P1040071.JPG"/>
          <p:cNvPicPr/>
          <p:nvPr/>
        </p:nvPicPr>
        <p:blipFill>
          <a:blip r:embed="rId1"/>
          <a:stretch/>
        </p:blipFill>
        <p:spPr>
          <a:xfrm>
            <a:off x="1066680" y="1600200"/>
            <a:ext cx="7608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34E6-ED43-4B9D-82FA-56B5B4B7852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Анкета для родителе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трудные моменты в  учебной деятельности не всегда заметны педагогам и классному руководител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учебные предметы даются вашему ребенку легк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аким учебным предметам подготовка домашнего задания вызывает у него затруд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чем это, по вашему мнению, связа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ая помощь нужна вашему ребенку со стороны учителя по предмету, классного руководи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бы вы хотели посоветовать учителю-предметнику в организации общения с вашим ребенком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29-1"/>
          <p:cNvPicPr/>
          <p:nvPr/>
        </p:nvPicPr>
        <p:blipFill>
          <a:blip r:embed="rId1"/>
          <a:stretch/>
        </p:blipFill>
        <p:spPr>
          <a:xfrm>
            <a:off x="7924680" y="0"/>
            <a:ext cx="121932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579C-A514-47E1-AB76-B614E8E0C30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Возможные причины недостаточной адаптации в 5-м классе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ые требования со стороны учителей-предметников, необходимость все их учитывать и выполня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ой поток информации, незнакомые термины, сло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вство одиночества из-за отсутствия первой учительницы, ощущение отсутствия или недостаточности вни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 стороны класс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30-1"/>
          <p:cNvPicPr/>
          <p:nvPr/>
        </p:nvPicPr>
        <p:blipFill>
          <a:blip r:embed="rId1"/>
          <a:stretch/>
        </p:blipFill>
        <p:spPr>
          <a:xfrm>
            <a:off x="6286680" y="4952880"/>
            <a:ext cx="2857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FCE1-E659-4714-84AA-8E0C0C89FA5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Физиологические проблемы пятиклассников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е режима дня ребенка в сравнении с начальной школ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величение физической и умственной нагруз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строе физиологическое взросление многих детей, гормональные изменения в организм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я в питании ребенка, связанные с его большей самостоятель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844C-4F3D-4EFB-B10C-DAA7492006A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:\в печать\images_1101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53337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комендации для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сть смены учебной деятельности ребенка дома, создание условий для двигательной активности детей между выполнением домашних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родителей за правильной позой во время домашних занятий, соблюдение светового ре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1-25T20:44:0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