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94A-1C68-4400-9E19-1E01EBA5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919-47B4-4E50-8DC7-E5C3168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766-7627-40E3-B4D0-F39ADD3F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0EE-4E7D-47BA-B410-F8D03F7A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8660-83D7-485E-90E2-7C5733A3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EA8C-1B08-43F1-B6E4-2152DE22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E63F-DD95-4F56-856A-1AD8AD3F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BB07-928F-4AC4-8F5B-42A46C04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5ED3-09F4-4454-A28E-28BF62FF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78CB-68A9-472E-933A-43723764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1169-3E2D-4E78-A38B-F6A800B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DCF-AF6B-4EB7-80F5-F9D5D93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3E9B-1330-40C5-9C79-5AC9968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3D3-523F-420C-ABD5-6DFFCA5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FD4-62AF-4659-B91E-30E7CE21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130-CD15-41D1-B942-2B28EC4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6349-B811-4858-8E9C-1CC64407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4814-967E-4062-A58A-9A46D2A9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993F-6E6F-432E-AD61-6EBF2A5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1D68-64A7-4DC3-95AB-418DE3A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58DF-50C7-47A3-A881-DBCE35C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6694-1197-4630-92E9-1E0642FA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130-FD43-47C7-AE37-55FCF836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D903-94E2-40F9-85B5-20B107D5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5FEA-8774-4B7C-B3F8-B28C81BB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421F-61BF-452B-85F1-A50D2C3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5289-16A2-4A5D-A910-5991F647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FD2D-2BCE-47C3-90F0-4B0D425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B355-0066-4FE9-BE8D-0C993292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FEAD-3441-4E8A-A9D3-05A479E8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19B1-0919-4A01-B53B-67773596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499F-1D0F-41C5-9ECF-E259E57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521C-C831-4D83-84F9-33CC74B5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CE8-F489-4E8F-AC80-0EDD4059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8577-E7D1-430D-9F60-AC63E011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E30D-C8E3-4DFC-AFF1-D843A23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EB85-E092-42D2-A064-FA9EC8E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D0B3-13D2-4FDD-8506-4A96450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860E-8B30-4CF4-A0F7-3A1F7353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6B02-0B94-417C-9848-0CE34FB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774BB-54CF-4523-A4AF-5575FF8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C4B3-3DE7-4E17-97FC-272FC931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9CC4-4E97-4304-8254-448C9706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F17-11FD-4B47-A396-C3E4F39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A59-643A-4BDC-967A-C1FE5038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707-7E2A-4DB3-8516-CB7E76F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F87-09E3-42C2-A190-FD31A29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3E4-2A4B-4D0D-A8BE-65A707B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"/>
          <p:cNvGrpSpPr/>
          <p:nvPr/>
        </p:nvGrpSpPr>
        <p:grpSpPr>
          <a:xfrm>
            <a:off x="0" y="0"/>
            <a:ext cx="8762760" cy="5943240"/>
            <a:chOff x="0" y="0"/>
            <a:chExt cx="8762760" cy="5943240"/>
          </a:xfrm>
        </p:grpSpPr>
        <p:sp>
          <p:nvSpPr>
            <p:cNvPr id="7" name="Rectangle 3"/>
            <p:cNvSpPr/>
            <p:nvPr/>
          </p:nvSpPr>
          <p:spPr>
            <a:xfrm>
              <a:off x="0" y="0"/>
              <a:ext cx="1752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4"/>
            <p:cNvGrpSpPr/>
            <p:nvPr/>
          </p:nvGrpSpPr>
          <p:grpSpPr>
            <a:xfrm>
              <a:off x="0" y="3505320"/>
              <a:ext cx="8762760" cy="2437920"/>
              <a:chOff x="0" y="3505320"/>
              <a:chExt cx="8762760" cy="2437920"/>
            </a:xfrm>
          </p:grpSpPr>
          <p:sp>
            <p:nvSpPr>
              <p:cNvPr id="9" name="Rectangle 5"/>
              <p:cNvSpPr/>
              <p:nvPr/>
            </p:nvSpPr>
            <p:spPr>
              <a:xfrm>
                <a:off x="990720" y="3505320"/>
                <a:ext cx="7772040" cy="24379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6"/>
              <p:cNvSpPr/>
              <p:nvPr/>
            </p:nvSpPr>
            <p:spPr>
              <a:xfrm>
                <a:off x="1038240" y="3733920"/>
                <a:ext cx="7648200" cy="21380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7"/>
              <p:cNvSpPr/>
              <p:nvPr/>
            </p:nvSpPr>
            <p:spPr>
              <a:xfrm>
                <a:off x="0" y="4876560"/>
                <a:ext cx="990360" cy="360"/>
              </a:xfrm>
              <a:prstGeom prst="line">
                <a:avLst/>
              </a:prstGeom>
              <a:ln w="5080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8"/>
            <p:cNvGrpSpPr/>
            <p:nvPr/>
          </p:nvGrpSpPr>
          <p:grpSpPr>
            <a:xfrm>
              <a:off x="634680" y="533520"/>
              <a:ext cx="8077320" cy="304560"/>
              <a:chOff x="634680" y="533520"/>
              <a:chExt cx="8077320" cy="304560"/>
            </a:xfrm>
          </p:grpSpPr>
          <p:sp>
            <p:nvSpPr>
              <p:cNvPr id="13" name="Rectangle 9"/>
              <p:cNvSpPr/>
              <p:nvPr/>
            </p:nvSpPr>
            <p:spPr>
              <a:xfrm>
                <a:off x="6273720" y="533520"/>
                <a:ext cx="2437920" cy="3045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634680" y="685800"/>
                <a:ext cx="8077320" cy="360"/>
              </a:xfrm>
              <a:prstGeom prst="line">
                <a:avLst/>
              </a:prstGeom>
              <a:ln w="444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9040" cy="220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912960" y="62514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33544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326707-339A-4080-A6EC-BC34D67234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437D83-57FD-43D6-8D9B-8E01B1970E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body"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D56F96-9777-4F52-9CE8-0021515EF4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52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dt" idx="10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8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7B9EF9-93F2-4B30-A954-25E09BA0CB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040" cy="199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300" spc="-1" strike="noStrike">
                <a:solidFill>
                  <a:srgbClr val="330033"/>
                </a:solidFill>
                <a:latin typeface="Times New Roman"/>
              </a:rPr>
              <a:t>Исследовательская работа «Моё здоровье»</a:t>
            </a:r>
            <a:br>
              <a:rPr sz="5300"/>
            </a:br>
            <a:r>
              <a:rPr b="0" lang="ru-RU" sz="5300" spc="-1" strike="noStrike">
                <a:solidFill>
                  <a:srgbClr val="330033"/>
                </a:solidFill>
                <a:latin typeface="Times New Roman"/>
              </a:rPr>
              <a:t>ТЕМА: «Сколько весит наш портфель?»</a:t>
            </a:r>
            <a:endParaRPr b="0" lang="ru-RU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32440" y="3789000"/>
            <a:ext cx="740628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 3-В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СОШ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удина Ольга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первоклассники с нетерпением ожидали дня, когда родители принесут из магазина новенький портфель, и спешили поскорее заполнить его чистыми тетрадками, ручками и карандашами. Первое время ученик относился к портфелю бережно, с гордостью пронося его мимо малышей, но вскоре предмет зависти превращался в обычную сумку для переноски тяжестей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F:\школьные картинки\школьн к.jpg"/>
          <p:cNvPicPr/>
          <p:nvPr/>
        </p:nvPicPr>
        <p:blipFill>
          <a:blip r:embed="rId1"/>
          <a:stretch/>
        </p:blipFill>
        <p:spPr>
          <a:xfrm>
            <a:off x="5067360" y="1603440"/>
            <a:ext cx="3428640" cy="452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8000"/>
          </a:bodyPr>
          <a:p>
            <a:pPr marL="344880" indent="-3448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о с портфелем школьной сумкой был ранец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нец  - [нем. Ranzen].Сумка для ношения при себе вещей, надеваемая посредством помочей на спину (у школьников — для книг и учебных принадлежностей, в армии — как часть походного снаряжения)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F:\школьные картинки\портфель1.jpg"/>
          <p:cNvPicPr/>
          <p:nvPr/>
        </p:nvPicPr>
        <p:blipFill>
          <a:blip r:embed="rId1"/>
          <a:stretch/>
        </p:blipFill>
        <p:spPr>
          <a:xfrm>
            <a:off x="4876920" y="1989000"/>
            <a:ext cx="3809520" cy="375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еклассники (с 7 по 11 класс) во второй половине 80–х  обзавелись «дипломатами» - жесткими  узкими чемоданчиками черного или коричневого цвет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F:\школьные картинки\д1.jpg"/>
          <p:cNvPicPr/>
          <p:nvPr/>
        </p:nvPicPr>
        <p:blipFill>
          <a:blip r:embed="rId1"/>
          <a:stretch/>
        </p:blipFill>
        <p:spPr>
          <a:xfrm>
            <a:off x="4876920" y="1836720"/>
            <a:ext cx="3809520" cy="4057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ат (Кейс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— это узкая, коробкообразная сумка с ручкой на конце. Используется в основном для переноски бумаг и других документов.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F:\школьные картинки\д2.gif"/>
          <p:cNvPicPr/>
          <p:nvPr/>
        </p:nvPicPr>
        <p:blipFill>
          <a:blip r:embed="rId1"/>
          <a:stretch/>
        </p:blipFill>
        <p:spPr>
          <a:xfrm>
            <a:off x="4876920" y="1892160"/>
            <a:ext cx="3809520" cy="394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мену дипломатам в конце 80–х – в 90–х годах в моду вошли сумки, дамские или спортивные (у юношей). Младшие школьники по-прежнему носили ранцы и портфел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F:\школьные картинки\шс1.jpg"/>
          <p:cNvPicPr/>
          <p:nvPr/>
        </p:nvPicPr>
        <p:blipFill>
          <a:blip r:embed="rId1"/>
          <a:stretch/>
        </p:blipFill>
        <p:spPr>
          <a:xfrm>
            <a:off x="4876920" y="1960560"/>
            <a:ext cx="380952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ы врач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ы в один голос утверждают: носить школьные принадлежности лучше в рюкзаке или ранце. Сумка и портфель  формируют у ребенка неправильную осанку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бираем ранец </a:t>
            </a: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как правильно его выбрать? Ведь магазины и рынки предлагают так много разных вариантов!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купке следует обращать внимание не на красоту и яркость, а, прежде всего на  качества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ец должен быть из прочного, лёгкого, удобного для очистки материала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F:\школьные картинки\порт8.jpg"/>
          <p:cNvPicPr/>
          <p:nvPr/>
        </p:nvPicPr>
        <p:blipFill>
          <a:blip r:embed="rId1"/>
          <a:stretch/>
        </p:blipFill>
        <p:spPr>
          <a:xfrm>
            <a:off x="4876920" y="2436840"/>
            <a:ext cx="38095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Ш ЭКСПЕРИМЕНТ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анкето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ровели анкетирование учеников 3 «В»класс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нкетировании приняли участие 25 человек 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 анкетирования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и все ребята участвуют в выборе ранца при покупк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пают его в магазин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а изготовитель – Россия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4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Изучение веса портфеля учащихся </a:t>
            </a: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3 класса</a:t>
            </a:r>
            <a:br>
              <a:rPr sz="42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роизвели взвешивание школьных ранцев для установления реального веса переносимых нами тяжестей. Полученные данные внесли в таблицу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БОР ТЕМЫ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сь с ребятами в классе и школе, мы заметили, что портфели у нас самые разные: рюкзаки, ранцы, сумки. Некоторые ребята не знают, как называется их портфель. Мы решили провести своё исследование и узнать, какие портфели приобрели ученики нашей школы в этом учебном году и правильный  ли выбор они сделал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м исследовании мы рассмотрим такие вопросы: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яжёлый ранец влияет на осанку ребёнка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должен весить ранец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выбрать ранец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 веса тела (кг)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:\DCIM\103PHOTO\SAM_0677.JPG"/>
          <p:cNvPicPr/>
          <p:nvPr/>
        </p:nvPicPr>
        <p:blipFill>
          <a:blip r:embed="rId1"/>
          <a:stretch/>
        </p:blipFill>
        <p:spPr>
          <a:xfrm rot="5400000">
            <a:off x="-44280" y="2044440"/>
            <a:ext cx="4357440" cy="3268080"/>
          </a:xfrm>
          <a:prstGeom prst="rect">
            <a:avLst/>
          </a:prstGeom>
          <a:ln w="9525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правильного веса ранца необходимо произвести взвешивание и узнать свой вес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рмула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правильного веса ранца мы воспользовались следующей формулой: вес ученика в кг умножаем на 10 и делим на 100, получаем вес, который может переносить школьни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с пустого ранца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вес «правильного» ранца далеко не соответствует его реальному весу, мы решили проверить, может быть, причина излишней нагрузки в том, что сам ранец слишком тяжёл и взвесили все ранцы без школьных принадлежностей. Результаты приводим в таблице 2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увидели, что у 13 учеников вес ранца не соответствует норме, т.е. превышает условный вес 0,5 кг. Только у 8 учеников вес ранца соответствует гигиеническим норма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, ранцы учеников имея превышающий вес, влияют на конечный вес ранца с учебными принадлежностям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с учебных пособий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 причина тяжёлого веса не только в ранца, но и в учебных пособиях? Для этого мы записали все учебные пособия и взвесили их. Результаты даны в таблице 3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книги соответствуют гигиеническим нормам – 300г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аблюдав за весом  ранца в течение недели, мы выяснили, что самым тяжёлым он бывает в среду и четверг: 4 и 4,5 кг. Это зависит от количества учебных дисциплин в данные дн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комендации ученикам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осите лишнего в ранцах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нец ежедневно и не забывайте выложить из него ненужные учебник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комендации родителям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вас: не покупайте тяжелые ранцы! Врачи рекомендуют средний вес пустого ранца для ученика начальной школы – 300 г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ваших детей от тяжелых нагрузок портится осанк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и дети быстрее устают, таская за своей спиной тяжеловес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луйста, позаботьтесь о ваших детях и об их здоровье!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ила для поддержания правильной осанки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крепления осанки мы используем на уроках различные физминутки и специальные упражнения на уроках физкультуры и внеурочных занятиях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пражнения для формирования правильной осанки.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0000"/>
          </a:bodyPr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«Великан». Встать на цыпочки, поднять руки вверх и вытянуть туловище вверх. Вытягиваться все выше и выше, не сводя глаз с кончиков пальцев. Идти вперед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«Военный на параде». Вытянуть руки по швам, прижать их к телу и идти, как военный на параде: вытягивая носок вперед и ставя ногу на всю ступню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«Ворота». Стать друг к другу, касаясь спинами. Поднять вверх обруч. Маленькими шажками разойтись в противоположные стороны, не отрывая глаз от обруча, и потянуться. Затем такими же маленькими шажками вернуться в и. п. и положить обруч на плечи. Голова при этом оказывается как бы в рамке обруч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«Любопытный». Лечь на пол, живот и ноги плотно прижать к полу, руки соединить за спиной в замок. Выгнув грудь, посмотреть вперед, по сторонам, назад. Следить, чтобы двигалась только голова, руки при этом прижимать к тел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«Сядьте по-турецки». Сесть на пол, скрестив ноги. Положить обе руки на колени и выпрямить спину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ИССЛЕДОВАНИЯ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, соответствует ли выбор портфеля и его вес возрасту учащихся и дать рекомендации по приобретению портфелей на следующий учебный год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щие выводы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а гипотеза, относительно влияния веса ранца на здоровье ученика, полностью подтвердилась. Вес ранца действительно влияет на осанку школьника, а соответственно и на здоровье всего организма в целом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удем продолжать отслеживать вес ранца в течении года и принимать меры для снижения веса наших портфелей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м активно применять упражнения, способствующие укреплению осанк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ть, как влияют тяжелые ранцы на растущий организм ребёнка, к каким последствиям это приводит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, что тяжёлый портфель вредит здоровью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ить свои способы решения проблемы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,ПРЕДМЕТ И БАЗА ИССЛЕДОВАНИЯ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анка школьника – основа здоровь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и 3 «В» класса  МОУСОШ №4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ПОТЕЗА ИССЛЕДОВАНИЯ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ы предполагаем, что тяжелый ранец вредит здоровью.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бор информации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я по данной теме мы использовали различные источники информации, такие как, интернет, материалы, собранные в   нашей школ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 ИССЛЕДОВАНИЯ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5000"/>
          </a:bodyPr>
          <a:p>
            <a:pPr marL="302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школьного портфеля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ой по улице бежит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летом в комнате лежит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только осень настает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я он за руку берет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нова в дождик и в метель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 мной шагает мой портфел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Берестов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тория портфеля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4000"/>
          </a:bodyPr>
          <a:p>
            <a:pPr marL="348480" indent="-3484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портфел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шло к нам из французского языка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e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чает «носить»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uil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лист». Это слово многозначное. Основное его значение – четырехугольная сумка с застежкой, обычно кожаная, для ношения деловых бумаг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80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школьный портфел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F:\школьные картинки\первый ш п..jpg"/>
          <p:cNvPicPr/>
          <p:nvPr/>
        </p:nvPicPr>
        <p:blipFill>
          <a:blip r:embed="rId1"/>
          <a:stretch/>
        </p:blipFill>
        <p:spPr>
          <a:xfrm>
            <a:off x="4646520" y="2621880"/>
            <a:ext cx="4038120" cy="3057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il</Template>
  <TotalTime>64</TotalTime>
  <Application>LibreOffice/7.4.7.2$Linux_X86_64 LibreOffice_project/40$Build-2</Application>
  <AppVersion>15.0000</AppVersion>
  <Words>1093</Words>
  <Paragraphs>9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5-01-23T20:15:0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0</vt:r8>
  </property>
</Properties>
</file>