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47E-4CF5-42F1-8E3D-13574423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64B-FF20-48A1-819E-F6788C3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878-2D40-4216-9031-C3407192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3E1-37B6-4ABC-830A-E1C094FE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1CF-BAAB-40C7-9859-13F78D97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48D-B44C-4AB5-9672-E9E4956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2412-0FB0-4706-8977-E30BC7D2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6DAD-36EF-4052-9E45-BF8DCA85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3ED8-0B7C-4F1C-B782-FF20821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8EDB-1898-4153-9E2D-F24B759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58E8-77BB-49FE-B23F-E758DC5A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61E-972B-454C-AC10-992EA97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12C8-4FD5-4B51-917D-ED4F7AD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D89-1AC5-4C37-A021-83D02B6A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44F6-6750-4DAB-B452-01F1BF12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317E-BB27-4CC7-AA73-C56922AD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1F0C-4A73-4D76-B0D6-6599A6C9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B84B-DD3D-491D-A340-15C5CEE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2FF4-6FB5-4D46-BDCF-C6C3E50D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207A-5696-4C3F-9F42-BF2A558B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8F93-38E1-43C5-9AD6-F0C3435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2BB7-FF33-4E02-9AD9-5A79E20F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06A-516E-4376-A222-EA2D2BF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30EF-C2A6-47B1-8EA2-B3E97408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7A58-7B26-42BD-9FB8-42EA6BB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FAF8-88A5-4876-B95B-124FEF0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BE6C-149B-4907-AD8F-37D9BA2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FE3F-4D7C-451A-AE3C-EEA4D6F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BF07-D38D-497A-8BDC-B6CF584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5D28-EBB1-4521-A40B-F5B31D1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C458-9FA0-4656-9368-6DAA46B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EAF0-5E74-4FF6-A089-35694B1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91CB-BE00-4C91-8D9A-3EB55F7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02B-691E-49E7-98C1-EA31656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1D2A-BEC2-41EA-8725-18C16C6A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9CE1-00A5-4524-9E89-C71E588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6EC0-D3EA-4B1F-982B-AA7C274C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552B-A17D-4BC7-AFBF-F1DA99F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4235-E360-41A8-962D-78740F1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3D2F-D557-4EAD-A4BD-AC43E30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262B-0B60-43BA-824E-C089A7F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97F9-AA20-45BC-93AD-8AB5755C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768E-201C-4D2F-BE5F-F0E76BD8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E9C-631A-4ECE-9201-5614BB1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5FA-3333-4D90-9F6F-48977F9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D36-1FF4-46CE-9BA6-D4EEFF66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804-8D38-4E51-B213-F23BD98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C23-C412-490D-A233-E0CC092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"/>
          <p:cNvGrpSpPr/>
          <p:nvPr/>
        </p:nvGrpSpPr>
        <p:grpSpPr>
          <a:xfrm>
            <a:off x="0" y="0"/>
            <a:ext cx="8762760" cy="5943240"/>
            <a:chOff x="0" y="0"/>
            <a:chExt cx="8762760" cy="5943240"/>
          </a:xfrm>
        </p:grpSpPr>
        <p:sp>
          <p:nvSpPr>
            <p:cNvPr id="7" name="Rectangle 3"/>
            <p:cNvSpPr/>
            <p:nvPr/>
          </p:nvSpPr>
          <p:spPr>
            <a:xfrm>
              <a:off x="0" y="0"/>
              <a:ext cx="1752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4"/>
            <p:cNvGrpSpPr/>
            <p:nvPr/>
          </p:nvGrpSpPr>
          <p:grpSpPr>
            <a:xfrm>
              <a:off x="0" y="3505320"/>
              <a:ext cx="8762760" cy="2437920"/>
              <a:chOff x="0" y="3505320"/>
              <a:chExt cx="8762760" cy="2437920"/>
            </a:xfrm>
          </p:grpSpPr>
          <p:sp>
            <p:nvSpPr>
              <p:cNvPr id="9" name="Rectangle 5"/>
              <p:cNvSpPr/>
              <p:nvPr/>
            </p:nvSpPr>
            <p:spPr>
              <a:xfrm>
                <a:off x="990720" y="3505320"/>
                <a:ext cx="7772040" cy="2437920"/>
              </a:xfrm>
              <a:prstGeom prst="rect">
                <a:avLst/>
              </a:prstGeom>
              <a:solidFill>
                <a:schemeClr val="bg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6"/>
              <p:cNvSpPr/>
              <p:nvPr/>
            </p:nvSpPr>
            <p:spPr>
              <a:xfrm>
                <a:off x="1038240" y="3733920"/>
                <a:ext cx="7648200" cy="21380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7"/>
              <p:cNvSpPr/>
              <p:nvPr/>
            </p:nvSpPr>
            <p:spPr>
              <a:xfrm>
                <a:off x="0" y="4876560"/>
                <a:ext cx="990360" cy="360"/>
              </a:xfrm>
              <a:prstGeom prst="line">
                <a:avLst/>
              </a:prstGeom>
              <a:ln w="5080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Group 8"/>
            <p:cNvGrpSpPr/>
            <p:nvPr/>
          </p:nvGrpSpPr>
          <p:grpSpPr>
            <a:xfrm>
              <a:off x="634680" y="533520"/>
              <a:ext cx="8077320" cy="304560"/>
              <a:chOff x="634680" y="533520"/>
              <a:chExt cx="8077320" cy="304560"/>
            </a:xfrm>
          </p:grpSpPr>
          <p:sp>
            <p:nvSpPr>
              <p:cNvPr id="13" name="Rectangle 9"/>
              <p:cNvSpPr/>
              <p:nvPr/>
            </p:nvSpPr>
            <p:spPr>
              <a:xfrm>
                <a:off x="6273720" y="533520"/>
                <a:ext cx="2437920" cy="3045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0"/>
              <p:cNvSpPr/>
              <p:nvPr/>
            </p:nvSpPr>
            <p:spPr>
              <a:xfrm>
                <a:off x="634680" y="685800"/>
                <a:ext cx="8077320" cy="360"/>
              </a:xfrm>
              <a:prstGeom prst="line">
                <a:avLst/>
              </a:prstGeom>
              <a:ln w="444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9040" cy="220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912960" y="62514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3544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8B942-C0F8-4148-A5DA-041F2A0364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9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705410-39F9-4CAD-A6B4-90B2D29A17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5EE049-151F-4CE9-B1E8-EAE701F92D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8686800" cy="4876560"/>
            <a:chOff x="0" y="0"/>
            <a:chExt cx="8686800" cy="4876560"/>
          </a:xfrm>
        </p:grpSpPr>
        <p:sp>
          <p:nvSpPr>
            <p:cNvPr id="152" name="Rectangle 3"/>
            <p:cNvSpPr/>
            <p:nvPr/>
          </p:nvSpPr>
          <p:spPr>
            <a:xfrm>
              <a:off x="0" y="0"/>
              <a:ext cx="609120" cy="487656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4"/>
            <p:cNvGrpSpPr/>
            <p:nvPr/>
          </p:nvGrpSpPr>
          <p:grpSpPr>
            <a:xfrm>
              <a:off x="380880" y="1417680"/>
              <a:ext cx="8305920" cy="182160"/>
              <a:chOff x="380880" y="1417680"/>
              <a:chExt cx="8305920" cy="18216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6858000" y="1417680"/>
                <a:ext cx="1828440" cy="18216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380880" y="1493640"/>
                <a:ext cx="8305920" cy="360"/>
              </a:xfrm>
              <a:prstGeom prst="line">
                <a:avLst/>
              </a:prstGeom>
              <a:ln w="1905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Line 12"/>
          <p:cNvSpPr/>
          <p:nvPr/>
        </p:nvSpPr>
        <p:spPr>
          <a:xfrm>
            <a:off x="0" y="4876560"/>
            <a:ext cx="609480" cy="360"/>
          </a:xfrm>
          <a:prstGeom prst="line">
            <a:avLst/>
          </a:prstGeom>
          <a:ln w="4445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b2b2b2"/>
              </a:buClr>
              <a:buSzPct val="55000"/>
              <a:buFont typeface="Wingdings" charset="2"/>
              <a:buChar char="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cccc99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dt" idx="10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8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AA709D-CB7F-4490-A0D9-48FA5D52DC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040" cy="199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300" spc="-1" strike="noStrike">
                <a:solidFill>
                  <a:srgbClr val="330033"/>
                </a:solidFill>
                <a:latin typeface="Times New Roman"/>
              </a:rPr>
              <a:t>Исследовательская работа «Моё здоровье»</a:t>
            </a:r>
            <a:br>
              <a:rPr sz="5300"/>
            </a:br>
            <a:r>
              <a:rPr b="0" lang="ru-RU" sz="5300" spc="-1" strike="noStrike">
                <a:solidFill>
                  <a:srgbClr val="330033"/>
                </a:solidFill>
                <a:latin typeface="Times New Roman"/>
              </a:rPr>
              <a:t>ТЕМА: «Сколько весит наш портфель?»</a:t>
            </a:r>
            <a:endParaRPr b="0" lang="ru-RU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32440" y="3789000"/>
            <a:ext cx="740628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еся 3-В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СОШ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удина Ольга Леонид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первоклассники с нетерпением ожидали дня, когда родители принесут из магазина новенький портфель, и спешили поскорее заполнить его чистыми тетрадками, ручками и карандашами. Первое время ученик относился к портфелю бережно, с гордостью пронося его мимо малышей, но вскоре предмет зависти превращался в обычную сумку для переноски тяжестей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F:\школьные картинки\школьн к.jpg"/>
          <p:cNvPicPr/>
          <p:nvPr/>
        </p:nvPicPr>
        <p:blipFill>
          <a:blip r:embed="rId1"/>
          <a:stretch/>
        </p:blipFill>
        <p:spPr>
          <a:xfrm>
            <a:off x="5067360" y="1603440"/>
            <a:ext cx="3428640" cy="452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8000"/>
          </a:bodyPr>
          <a:p>
            <a:pPr marL="344880" indent="-3448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 с портфелем школьной сумкой был ранец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нец  - [нем. Ranzen].Сумка для ношения при себе вещей, надеваемая посредством помочей на спину (у школьников — для книг и учебных принадлежностей, в армии — как часть походного снаряжения)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F:\школьные картинки\портфель1.jpg"/>
          <p:cNvPicPr/>
          <p:nvPr/>
        </p:nvPicPr>
        <p:blipFill>
          <a:blip r:embed="rId1"/>
          <a:stretch/>
        </p:blipFill>
        <p:spPr>
          <a:xfrm>
            <a:off x="4876920" y="1989000"/>
            <a:ext cx="3809520" cy="375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еклассники (с 7 по 11 класс) во второй половине 80–х  обзавелись «дипломатами» - жесткими  узкими чемоданчиками черного или коричневого цвет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F:\школьные картинки\д1.jpg"/>
          <p:cNvPicPr/>
          <p:nvPr/>
        </p:nvPicPr>
        <p:blipFill>
          <a:blip r:embed="rId1"/>
          <a:stretch/>
        </p:blipFill>
        <p:spPr>
          <a:xfrm>
            <a:off x="4876920" y="1836720"/>
            <a:ext cx="3809520" cy="405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ат (Кейс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это узкая, коробкообразная сумка с ручкой на конце. Используется в основном для переноски бумаг и других документов. 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F:\школьные картинки\д2.gif"/>
          <p:cNvPicPr/>
          <p:nvPr/>
        </p:nvPicPr>
        <p:blipFill>
          <a:blip r:embed="rId1"/>
          <a:stretch/>
        </p:blipFill>
        <p:spPr>
          <a:xfrm>
            <a:off x="4876920" y="1892160"/>
            <a:ext cx="3809520" cy="394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мену дипломатам в конце 80–х – в 90–х годах в моду вошли сумки, дамские или спортивные (у юношей). Младшие школьники по-прежнему носили ранцы и портфел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F:\школьные картинки\шс1.jpg"/>
          <p:cNvPicPr/>
          <p:nvPr/>
        </p:nvPicPr>
        <p:blipFill>
          <a:blip r:embed="rId1"/>
          <a:stretch/>
        </p:blipFill>
        <p:spPr>
          <a:xfrm>
            <a:off x="4876920" y="1960560"/>
            <a:ext cx="380952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ы врача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в один голос утверждают: носить школьные принадлежности лучше в рюкзаке или ранце. Сумка и портфель  формируют у ребенка неправильную осанку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бираем ранец </a:t>
            </a:r>
            <a:br>
              <a:rPr sz="4200"/>
            </a:b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как правильно его выбрать? Ведь магазины и рынки предлагают так много разных вариантов!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купке следует обращать внимание не на красоту и яркость, а, прежде всего на  качеств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ец должен быть из прочного, лёгкого, удобного для очистки материал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F:\школьные картинки\порт8.jpg"/>
          <p:cNvPicPr/>
          <p:nvPr/>
        </p:nvPicPr>
        <p:blipFill>
          <a:blip r:embed="rId1"/>
          <a:stretch/>
        </p:blipFill>
        <p:spPr>
          <a:xfrm>
            <a:off x="4876920" y="2436840"/>
            <a:ext cx="380952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 ЭКСПЕРИМЕНТ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анкето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овели анкетирование учеников 3 «В»класс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нкетировании приняли участие 25 человек 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анкетировани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чески все ребята участвуют в выборе ранца при покупк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пают его в магазин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а изготовитель – Росси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4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Изучение веса портфеля учащихся </a:t>
            </a:r>
            <a:br>
              <a:rPr sz="3600"/>
            </a:b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3 класса</a:t>
            </a:r>
            <a:br>
              <a:rPr sz="42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оизвели взвешивание школьных ранцев для установления реального веса переносимых нами тяжестей. Полученные данные внесли в таблицу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БОР ТЕМ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сь с ребятами в классе и школе, мы заметили, что портфели у нас самые разные: рюкзаки, ранцы, сумки. Некоторые ребята не знают, как называется их портфель. Мы решили провести своё исследование и узнать, какие портфели приобрели ученики нашей школы в этом учебном году и правильный  ли выбор они сделал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исследовании мы рассмотрим такие вопросы: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яжёлый ранец влияет на осанку ребёнка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должен весить ранец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выбрать ранец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ение веса тела (кг)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:\DCIM\103PHOTO\SAM_0677.JPG"/>
          <p:cNvPicPr/>
          <p:nvPr/>
        </p:nvPicPr>
        <p:blipFill>
          <a:blip r:embed="rId1"/>
          <a:stretch/>
        </p:blipFill>
        <p:spPr>
          <a:xfrm rot="5400000">
            <a:off x="-44280" y="2044440"/>
            <a:ext cx="4357440" cy="3268080"/>
          </a:xfrm>
          <a:prstGeom prst="rect">
            <a:avLst/>
          </a:prstGeom>
          <a:ln w="9525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правильного веса ранца необходимо произвести взвешивание и узнать свой вес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ормула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правильного веса ранца мы воспользовались следующей формулой: вес ученика в кг умножаем на 10 и делим на 100, получаем вес, который может переносить школьни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с пустого ранца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вес «правильного» ранца далеко не соответствует его реальному весу, мы решили проверить, может быть, причина излишней нагрузки в том, что сам ранец слишком тяжёл и взвесили все ранцы без школьных принадлежностей. Результаты приводим в таблице 2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увидели, что у 13 учеников вес ранца не соответствует норме, т.е. превышает условный вес 0,5 кг. Только у 8 учеников вес ранца соответствует гигиеническим норма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ранцы учеников имея превышающий вес, влияют на конечный вес ранца с учебными принадлежностям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с учебных пособий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 причина тяжёлого веса не только в ранца, но и в учебных пособиях? Для этого мы записали все учебные пособия и взвесили их. Результаты даны в таблице 3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книги соответствуют гигиеническим нормам – 300г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аблюдав за весом  ранца в течение недели, мы выяснили, что самым тяжёлым он бывает в среду и четверг: 4 и 4,5 кг. Это зависит от количества учебных дисциплин в данные дн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комендации ученикам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осите лишнего в ранцах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нец ежедневно и не забывайте выложить из него ненужные учебник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комендации родителям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вас: не покупайте тяжелые ранцы! Врачи рекомендуют средний вес пустого ранца для ученика начальной школы – 300 г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ваших детей от тяжелых нагрузок портится осанк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и дети быстрее устают, таская за своей спиной тяжеловес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луйста, позаботьтесь о ваших детях и об их здоровье!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ила для поддержания правильной осанки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крепления осанки мы используем на уроках различные физминутки и специальные упражнения на уроках физкультуры и внеурочных занятиях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ражнения для формирования правильной осанки. 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0000"/>
          </a:bodyPr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«Великан». Встать на цыпочки, поднять руки вверх и вытянуть туловище вверх. Вытягиваться все выше и выше, не сводя глаз с кончиков пальцев. Идти вперед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Военный на параде». Вытянуть руки по швам, прижать их к телу и идти, как военный на параде: вытягивая носок вперед и ставя ногу на всю ступню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«Ворота». Стать друг к другу, касаясь спинами. Поднять вверх обруч. Маленькими шажками разойтись в противоположные стороны, не отрывая глаз от обруча, и потянуться. Затем такими же маленькими шажками вернуться в и. п. и положить обруч на плечи. Голова при этом оказывается как бы в рамке обруч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«Любопытный». Лечь на пол, живот и ноги плотно прижать к полу, руки соединить за спиной в замок. Выгнув грудь, посмотреть вперед, по сторонам, назад. Следить, чтобы двигалась только голова, руки при этом прижимать к телу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«Сядьте по-турецки». Сесть на пол, скрестив ноги. Положить обе руки на колени и выпрямить спину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, соответствует ли выбор портфеля и его вес возрасту учащихся и дать рекомендации по приобретению портфелей на следующий учебный год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щие выводы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а гипотеза, относительно влияния веса ранца на здоровье ученика, полностью подтвердилась. Вес ранца действительно влияет на осанку школьника, а соответственно и на здоровье всего организма в целом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удем продолжать отслеживать вес ранца в течении года и принимать меры для снижения веса наших портфелей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активно применять упражнения, способствующие укреплению осанк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ть, как влияют тяжелые ранцы на растущий организм ребёнка, к каким последствиям это приводит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, что тяжёлый портфель вредит здоровью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ить свои способы решения проблемы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,ПРЕДМЕТ И БАЗА ИССЛЕДОВАНИ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анка школьника – основа здоровь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ники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3 «В» класса  МОУСОШ №4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ИПОТЕЗА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 предполагаем, что тяжелый ранец вредит здоровью. 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бор информации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я по данной теме мы использовали различные источники информации, такие как, интернет, материалы, собранные в   нашей школ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ИССЛЕДОВАНИЯ: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5000"/>
          </a:bodyPr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школьного портфел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ой по улице бежит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летом в комнате лежит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только осень настает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я он за руку берет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нова в дождик и в метель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мной шагает мой портфел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Берестов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рия портфеля</a:t>
            </a: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4000"/>
          </a:bodyPr>
          <a:p>
            <a:pPr marL="348480" indent="-34848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9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портфел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шло к нам из французского языка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e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ает «носить»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uil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лист». Это слово многозначное. Основное его значение – четырехугольная сумка с застежкой, обычно кожаная, для ношения деловых бумаг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80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школьный портфел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F:\школьные картинки\первый ш п..jpg"/>
          <p:cNvPicPr/>
          <p:nvPr/>
        </p:nvPicPr>
        <p:blipFill>
          <a:blip r:embed="rId1"/>
          <a:stretch/>
        </p:blipFill>
        <p:spPr>
          <a:xfrm>
            <a:off x="4646520" y="2621880"/>
            <a:ext cx="4038120" cy="3057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лои">
  <a:themeElements>
    <a:clrScheme name="Слои 6">
      <a:dk1>
        <a:srgbClr val="000000"/>
      </a:dk1>
      <a:lt1>
        <a:srgbClr val="ffffe1"/>
      </a:lt1>
      <a:dk2>
        <a:srgbClr val="330033"/>
      </a:dk2>
      <a:lt2>
        <a:srgbClr val="330033"/>
      </a:lt2>
      <a:accent1>
        <a:srgbClr val="cccc99"/>
      </a:accent1>
      <a:accent2>
        <a:srgbClr val="ff0000"/>
      </a:accent2>
      <a:accent3>
        <a:srgbClr val="ffffee"/>
      </a:accent3>
      <a:accent4>
        <a:srgbClr val="000000"/>
      </a:accent4>
      <a:accent5>
        <a:srgbClr val="e2e2ca"/>
      </a:accent5>
      <a:accent6>
        <a:srgbClr val="e70000"/>
      </a:accent6>
      <a:hlink>
        <a:srgbClr val="990033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il</Template>
  <TotalTime>64</TotalTime>
  <Application>LibreOffice/7.4.7.2$Linux_X86_64 LibreOffice_project/40$Build-2</Application>
  <AppVersion>15.0000</AppVersion>
  <Words>1093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5-01-23T20:15:0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0</vt:r8>
  </property>
</Properties>
</file>