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E65-8BDB-4DEE-A3A2-2417C215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7D3-50B4-49EA-823E-F4EDFB3B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B70-8A8C-405F-916F-B5321BB2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CA7-C535-45E1-80F6-7ADA584E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7FB-7AFF-4AD1-B4F7-F90EE6A4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731-CD10-4E68-9083-C7C38F3E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4CA-7C50-40C5-A08C-39C6B839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6433-E092-45C1-B202-EE65D086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9722-E7AC-4257-9E7F-3A992528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96A-047D-486B-B29D-AE3C2C4E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1C2-CAE2-4527-B4D3-C6FB456B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D35-37EC-43F3-A87A-54740D22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E56C-1668-4ACC-9EDD-DE90578169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1;&#1072;&#1090;&#1080;&#1085;&#1089;&#1082;&#1080;&#1081;_&#1103;&#1079;&#1099;&#1082;" TargetMode="External"/><Relationship Id="rId2" Type="http://schemas.openxmlformats.org/officeDocument/2006/relationships/hyperlink" Target="https://ru.wikipedia.org/wiki/&#1051;&#1072;&#1090;&#1080;&#1085;&#1089;&#1082;&#1080;&#1081;_&#1103;&#1079;&#1099;&#1082;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2;&#1077;&#1085;&#1077;&#1083;&#1072;&#1081;_&#1040;&#1083;&#1077;&#1082;&#1089;&#1072;&#1085;&#1076;&#1088;&#1080;&#1081;&#1089;&#1082;&#1080;&#1081;" TargetMode="External"/><Relationship Id="rId2" Type="http://schemas.openxmlformats.org/officeDocument/2006/relationships/hyperlink" Target="https://ru.wikipedia.org/wiki/&#1057;&#1072;&#1073;&#1080;&#1090;_&#1080;&#1073;&#1085;_&#1050;&#1086;&#1088;&#1088;&#1072;" TargetMode="External"/><Relationship Id="rId3" Type="http://schemas.openxmlformats.org/officeDocument/2006/relationships/hyperlink" Target="https://ru.wikipedia.org/wiki/&#1040;&#1085;-&#1053;&#1072;&#1089;&#1072;&#1074;&#1080;" TargetMode="External"/><Relationship Id="rId4" Type="http://schemas.openxmlformats.org/officeDocument/2006/relationships/hyperlink" Target="https://ru.wikipedia.org/wiki/&#1040;&#1083;-&#1052;&#1072;&#1075;&#1088;&#1080;&#1073;&#1080;" TargetMode="External"/><Relationship Id="rId5" Type="http://schemas.openxmlformats.org/officeDocument/2006/relationships/hyperlink" Target="https://ru.wikipedia.org/wiki/&#1040;&#1089;-&#1057;&#1080;&#1076;&#1078;&#1080;&#1079;&#1080;" TargetMode="External"/><Relationship Id="rId6" Type="http://schemas.openxmlformats.org/officeDocument/2006/relationships/hyperlink" Target="https://ru.wikipedia.org/wiki/&#1040;&#1089;-&#1057;&#1072;&#1083;&#1072;&#1088;" TargetMode="External"/><Relationship Id="rId7" Type="http://schemas.openxmlformats.org/officeDocument/2006/relationships/hyperlink" Target="https://ru.wikipedia.org/wiki/&#1044;&#1078;&#1072;&#1073;&#1080;&#1088;_&#1080;&#1073;&#1085;_&#1040;&#1092;&#1083;&#1072;&#1093;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орема Менел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76520" y="1599840"/>
            <a:ext cx="57909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полнила Фролова Анна 10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&amp;Pcy;&amp;ocy;&amp;dcy;&amp;gcy;&amp;ocy;&amp;tcy;&amp;ocy;&amp;vcy;&amp;kcy;&amp;acy; &amp;shcy;&amp;kcy;&amp;ocy;&amp;lcy;&amp;softcy;&amp;ncy;&amp;icy;&amp;kcy;&amp;ocy;&amp;vcy; &amp;kcy; &amp;IEcy;&amp;Gcy;&amp;Ecy; &amp;icy; &amp;Gcy;&amp;Icy;&amp;Acy; &amp;vcy; &amp;ucy;&amp;chcy;&amp;iecy;&amp;bcy;&amp;ncy;&amp;ocy;&amp;mcy; &amp;tscy;&amp;iecy;&amp;ncy;&amp;tcy;&amp;rcy;&amp;iecy; &quot;&amp;Rcy;&amp;iecy;&amp;zcy;&amp;ocy;&amp;lcy;&amp;softcy;&amp;vcy;&amp;iecy;&amp;ncy;&amp;tcy;&amp;acy;&quot; (&amp;Scy;&amp;pcy;&amp;rcy;&amp;acy;&amp;vcy;&amp;ocy;&amp;chcy;&amp;ncy;&amp;icy;&amp;kcy; &amp;pcy;&amp;ocy; &amp;mcy;&amp;acy;&amp;tcy;&amp;iecy;&amp;mcy;&amp;acy;&amp;tcy;&amp;icy;&amp;kcy;&amp;iecy; - &amp;Pcy;&amp;lcy;&amp;acy;&amp;ncy;&amp;icy;&amp;mcy;&amp;iecy;&amp;tcy;&amp;rcy;&amp;icy;&amp;yacy; - &amp;Tcy;&amp;iecy;&amp;ocy;&amp;rcy;&amp;iecy;&amp;mcy;&amp;acy; &amp;Mcy;&amp;iecy;&amp;ncy;&amp;iecy;&amp;lcy;&amp;acy;&amp;yacy;)"/>
          <p:cNvPicPr/>
          <p:nvPr/>
        </p:nvPicPr>
        <p:blipFill>
          <a:blip r:embed="rId1"/>
          <a:stretch/>
        </p:blipFill>
        <p:spPr>
          <a:xfrm>
            <a:off x="1981080" y="2514600"/>
            <a:ext cx="5181840" cy="290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200921-011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200921-012"/>
          <p:cNvPicPr/>
          <p:nvPr/>
        </p:nvPicPr>
        <p:blipFill>
          <a:blip r:embed="rId1"/>
          <a:stretch/>
        </p:blipFill>
        <p:spPr>
          <a:xfrm>
            <a:off x="533520" y="457200"/>
            <a:ext cx="81532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 Менел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 о трансверсал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ема о полно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етырёхсторонни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классическая теорем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ффинной геометр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ффи́нная геометр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ff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родственный) 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дел геометрии, в котором изучаются свойства фигур, инвариантные относительн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аффинных преобразова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ффи́нное преобраз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ла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affini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соприкасающийся, близкий, смежный) —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ображение плоскости или пространства в себя, при котором прямые переходят в прям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 теорема доказывается в третьей книге «Сферики»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Менелая Александрийског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ок. 100 г. н. э.). Менелай сначала доказывает теорему для плоского случая, а потом центральным проектированием переносит её на сферу. Возможно, что плоский случай теоремы рассматривался ранее в несохранившихся «Поризмах» Евкл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ерическая теорема Менелая была основным средством, с помощью которого решались разнообразные прикладные задачи позднеантичной и средневековой астрономии и геодезии. Ей посвящён ряд сочинений под названием «Книга о фигуре секущих», составленных такими математиками средневекового Востока, как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абит ибн Кор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н-Насав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л-Магриб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ас-Сиджиз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ас-Сала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Джабир ибн Афл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сир ад-Дин ат-Тус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льянский математик Джованни Чева в 1678 году предложил доказательство теоремы Менелая и родственной ей теоремы Чевы для плоского случая, основанное на рассмотрении центра тяжести системы из трёх точечных гру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tolemaeus_um_100"/>
          <p:cNvPicPr/>
          <p:nvPr/>
        </p:nvPicPr>
        <p:blipFill>
          <a:blip r:embed="rId1"/>
          <a:stretch/>
        </p:blipFill>
        <p:spPr>
          <a:xfrm>
            <a:off x="380880" y="1143000"/>
            <a:ext cx="3327480" cy="403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&amp;CHcy;&amp;iecy;&amp;vcy;&amp;acy; &amp;Dcy;&amp;zhcy;&amp;ocy;&amp;vcy;&amp;acy;&amp;ncy;&amp;ncy;&amp;icy; &amp;Zcy;&amp;ncy;&amp;acy;&amp;mcy;&amp;iecy;&amp;ncy;&amp;icy;&amp;tcy;&amp;ycy;&amp;iecy;, &amp;vcy;&amp;iecy;&amp;lcy;&amp;icy;&amp;kcy;&amp;icy;&amp;iecy;, &amp;gcy;&amp;iecy;&amp;ncy;&amp;icy;&amp;acy;&amp;lcy;&amp;softcy;&amp;ncy;&amp;ycy;&amp;iecy; &amp;lcy;&amp;yucy;&amp;dcy;&amp;icy;. &amp;Scy;&amp;acy;&amp;mcy;&amp;ocy;&amp;iecy; &amp;icy;&amp;ncy;…"/>
          <p:cNvPicPr/>
          <p:nvPr/>
        </p:nvPicPr>
        <p:blipFill>
          <a:blip r:embed="rId2"/>
          <a:stretch/>
        </p:blipFill>
        <p:spPr>
          <a:xfrm>
            <a:off x="4952880" y="1066680"/>
            <a:ext cx="3722760" cy="41911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5870520" y="540936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жованни Че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85200" y="5409360"/>
            <a:ext cx="33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нела́й Александри́й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ормулиров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formules_4724"/>
          <p:cNvPicPr/>
          <p:nvPr/>
        </p:nvPicPr>
        <p:blipFill>
          <a:blip r:embed="rId1"/>
          <a:stretch/>
        </p:blipFill>
        <p:spPr>
          <a:xfrm>
            <a:off x="5105520" y="990720"/>
            <a:ext cx="3657600" cy="212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&amp;Ucy;&amp;rcy;&amp;ocy;&amp;kcy;&amp;acy;: &amp;Tcy;&amp;iecy;&amp;ocy;&amp;rcy;&amp;iecy;&amp;mcy;&amp;acy; &amp;Mcy;&amp;iecy;&amp;ncy;&amp;iecy;&amp;lcy;&amp;acy;&amp;yacy;. &amp;Tcy;&amp;icy;&amp;pcy; &amp;ucy;&amp;rcy;&amp;ocy;&amp;kcy;&amp;acy;"/>
          <p:cNvPicPr/>
          <p:nvPr/>
        </p:nvPicPr>
        <p:blipFill>
          <a:blip r:embed="rId2"/>
          <a:stretch/>
        </p:blipFill>
        <p:spPr>
          <a:xfrm>
            <a:off x="609480" y="3200400"/>
            <a:ext cx="7620120" cy="3081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Teorema menelaya.gif"/>
          <p:cNvPicPr/>
          <p:nvPr/>
        </p:nvPicPr>
        <p:blipFill>
          <a:blip r:embed="rId3"/>
          <a:stretch/>
        </p:blipFill>
        <p:spPr>
          <a:xfrm>
            <a:off x="380880" y="990720"/>
            <a:ext cx="3810240" cy="207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едствия из теоремы Менел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игонометрический эквивален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ферической геометрии теорема Менелая приобретает вид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еометрии Лобачевского теорема Менелая приобретает вид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formules_4725"/>
          <p:cNvPicPr/>
          <p:nvPr/>
        </p:nvPicPr>
        <p:blipFill>
          <a:blip r:embed="rId1"/>
          <a:stretch/>
        </p:blipFill>
        <p:spPr>
          <a:xfrm>
            <a:off x="1219320" y="1905120"/>
            <a:ext cx="670536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formules_4726"/>
          <p:cNvPicPr/>
          <p:nvPr/>
        </p:nvPicPr>
        <p:blipFill>
          <a:blip r:embed="rId2"/>
          <a:stretch/>
        </p:blipFill>
        <p:spPr>
          <a:xfrm>
            <a:off x="2057400" y="3657600"/>
            <a:ext cx="5791320" cy="892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formules_4727"/>
          <p:cNvPicPr/>
          <p:nvPr/>
        </p:nvPicPr>
        <p:blipFill>
          <a:blip r:embed="rId3"/>
          <a:stretch/>
        </p:blipFill>
        <p:spPr>
          <a:xfrm>
            <a:off x="2209680" y="5562720"/>
            <a:ext cx="5410440" cy="91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&amp;Kcy;&amp;ocy;&amp;ncy;&amp;scy;&amp;pcy;&amp;iecy;&amp;kcy;&amp;tcy; &amp;icy; &amp;pcy;&amp;rcy;&amp;iecy;&amp;zcy;&amp;iecy;&amp;ncy;&amp;tcy;&amp;acy;&amp;tscy;&amp;icy;&amp;yacy; &amp;kcy; &amp;ucy;&amp;rcy;&amp;ocy;&amp;kcy;&amp;ucy; &amp;mcy;&amp;acy;&amp;tcy;&amp;iecy;&amp;mcy;&amp;acy;&amp;tcy;&amp;icy;&amp;kcy;&amp;icy; &quot;&amp;Tcy;&amp;iecy;&amp;ocy;&amp;rcy;&amp;iecy;&amp;mcy;&amp;acy; &amp;Mcy;&amp;iecy;&amp;ncy;&amp;iecy;&amp;lcy;&amp;acy;&amp;yacy;&quot; …"/>
          <p:cNvPicPr/>
          <p:nvPr/>
        </p:nvPicPr>
        <p:blipFill>
          <a:blip r:embed="rId1"/>
          <a:stretch/>
        </p:blipFill>
        <p:spPr>
          <a:xfrm>
            <a:off x="380880" y="343080"/>
            <a:ext cx="8458200" cy="6351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200921-009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00921-010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й</cp:lastModifiedBy>
  <dcterms:modified xsi:type="dcterms:W3CDTF">2014-09-24T06:04:47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