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672B-92A2-4436-B0BE-7076B221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66A6-E9D9-4FB6-BBC1-11F704F4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342E-9D7E-404D-90B2-FE80B490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925D-FB1D-43D8-B576-9B17F552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3B42-0DDB-4141-94B7-98823C58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2C8-2C4E-46C6-8FCA-79BC61BA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118-38D0-4BDD-B279-5DCF208E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ECA-3ECF-4762-9551-B0200921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1476-7CD6-44AE-A336-785941AF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879C-4133-4B7A-BADD-F7C8AEA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8A70-42A4-4142-84C7-4DD8742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2A37-3395-4C2F-A955-7C26608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CB58-4089-4961-BD7E-A57BBC3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D60-7578-4694-9945-41FF96D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AE1-972B-449A-93FD-C99C5BD3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4824-A0E7-4C51-A69D-80D55317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E9CE-1510-4A39-A9BB-F94D118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B1CD-A4BC-4555-A174-1412BB8C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7DEC-31D0-4B9A-BB7E-8617F047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611F-A9FE-4E0D-8C3E-EAF0FAA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2D12-0C4A-41E1-A8D2-70B68077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5EB4-45BA-47B0-BBD1-4794AF2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19B7-AB71-4128-B8DA-AC6DD77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F1AA-7407-49DC-9B34-AECE38A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FDF-A82F-4144-B948-C137194BAC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CD3A-1D74-40D0-8676-C51BEE029F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384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ире между частями бессоюзного сложного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цепина Галина Николаев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БОУ «Даниловская СОШ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Тире между частями бессоюзного сложного предложения ставится в следующих случаях: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. 1-ая часть указывает на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врем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или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условие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того, о чём говорится во второй ча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Настанет утро – двинемся в пу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Назвался груздем – полезай в куз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держание одного предложения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противопоставляетс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содержанию второго.(= а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1740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Чин следовал ему – он службу вдруг оставил.(= а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Лето припасает – зима поедает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= а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держание одного предложения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сопоставляется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с содержанием другого.(= словно, будто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олвит слово – соловей поё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Берёза в лесу без вершины – хозяйка без мужа в дому.(= словно, будто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-ое предложение заключает в себе </a:t>
            </a: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вывод, следствие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из 1-ог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лнце дымное встаёт – будет день горяч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удешь книги читать – будешь всё зн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рка восприятия те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ъясните причину постановки ти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Дрова все вышли – топить неч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В кино хотел сходить – времени не оказалос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Дождь кончился – мы отправились на экскурс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Скажешь слово – добавят деся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Труд человека кормит – лень порт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На кордоне горел свет – нас ждал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8:11:11Z</dcterms:created>
  <dc:creator>Admin</dc:creator>
  <dc:description/>
  <dc:language>en-US</dc:language>
  <cp:lastModifiedBy>User</cp:lastModifiedBy>
  <dcterms:modified xsi:type="dcterms:W3CDTF">2015-01-25T06:50:08Z</dcterms:modified>
  <cp:revision>7</cp:revision>
  <dc:subject/>
  <dc:title>Тире между частями бессоюзного сложного предложения ставится в следующих случаях</dc:title>
</cp:coreProperties>
</file>