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AE65B-0C4C-4F90-89E2-B13ECE6A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7169-DC84-4591-8208-81ED3D49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CABDD-AF41-481D-A8CE-974C29F6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6434-C1F1-49A5-95AC-1A3CC4C1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2E56-12DB-4FD5-8A2F-651BFC51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77C7-BFBB-4E55-8EB2-F9AFC479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1BFD-10BD-4E82-A355-5DBF665F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15FD-7DEF-4B22-865C-F8DC8963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C0A7-C661-4994-BD0F-7079012F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4F6D-6457-4B08-B0F5-C026B288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0BA4-D6E3-4BAE-A745-3609E24E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6B3D-4BFE-4463-B2B3-F3061BD2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586F-2B31-4C5C-A252-94FD2BC6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FF70-B425-4139-AF19-2B967C7B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9AB2-E3E5-48CD-9BA6-2444B926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E5AD-920A-48A8-8E8C-2726A30F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D38B-48B4-412B-A5DF-2D5C5244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D6B06-D6E0-495B-9EA2-D7F71C5F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FBE7-1475-4F4F-AF59-851C820D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468B9-75CA-4DDA-A735-557B2ACB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25419-4FA2-4005-9B36-6012D20D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63737-AFB9-46AF-B658-CA8F3365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62C99-BB5F-403D-86B9-BA3DF70A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C994-1E21-4F71-A7CD-1433531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95AC-14DE-4191-BDCC-79D7409029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63A1-82DD-42CD-B77A-D381C17875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384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ире между частями бессоюзного сложного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цепина Галина Николаевн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итель русского языка и литератур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БОУ «Даниловская СОШ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777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Тире между частями бессоюзного сложного предложения ставится в следующих случаях: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. 1-ая часть указывает на </a:t>
            </a: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врем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или </a:t>
            </a: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условие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того, о чём говорится во второй ча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2565000"/>
            <a:ext cx="821844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Настанет утро – двинемся в пу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Назвался груздем – полезай в куз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одержание одного предложения </a:t>
            </a: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противопоставляетс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содержанию второго.(= а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17400"/>
            <a:ext cx="82296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Чин следовал ему – он службу вдруг оставил.(= а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Лето припасает – зима поедает.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= а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одержание одного предложения </a:t>
            </a: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сопоставляетс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с содержанием другого.(= словно, будто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Молвит слово – соловей поё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Берёза в лесу без вершины – хозяйка без мужа в дому.(= словно, будто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-ое предложение заключает в себе </a:t>
            </a: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вывод, следствие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из 1-ог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4788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лнце дымное встаёт – будет день горяч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удешь книги читать – будешь всё зн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верка восприятия те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ъясните причину постановки тир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Дрова все вышли – топить нече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В кино хотел сходить – времени не оказалос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Дождь кончился – мы отправились на экскурси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Скажешь слово – добавят деся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Труд человека кормит – лень порти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. На кордоне горел свет – нас ждал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8:11:11Z</dcterms:created>
  <dc:creator>Admin</dc:creator>
  <dc:description/>
  <dc:language>en-US</dc:language>
  <cp:lastModifiedBy>User</cp:lastModifiedBy>
  <dcterms:modified xsi:type="dcterms:W3CDTF">2015-01-25T06:50:08Z</dcterms:modified>
  <cp:revision>7</cp:revision>
  <dc:subject/>
  <dc:title>Тире между частями бессоюзного сложного предложения ставится в следующих случаях</dc:title>
</cp:coreProperties>
</file>