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622-1DDA-41D2-A5B0-62E0394A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F12D-BCED-4616-9508-6E80353D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88E-8BED-48AF-A374-2F013752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7A8-44BA-4B60-8D36-5944B8C7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9EAF-3945-40E5-9DA0-F3FC37EE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22C1-DA7A-4FE6-BFCB-67E0A9DF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89D9-0E89-45B8-B137-D5E6E14D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EBCA-7014-4A3A-846F-D71450B5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310E-379B-4D4A-A27D-AACA9BA9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C082-6655-4EED-B8A3-1EA17C8A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E7A0-4935-42CF-991B-9690E293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CD7-EABF-4EEA-BEC2-DFBF5E9F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68C1-0CB0-415A-9F76-876B9367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3CBA-956F-493A-A78E-E6FFDD76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D2E8-C3C7-4FA2-BEB5-41A45700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06A1-D6CC-46EB-A38B-28A08484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D7E0-773D-46CA-95FF-3BA66A84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2D9-76DE-473D-A6DE-CADDD65F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BF7-DCDE-4221-95EA-9AFA7403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ED5-F2DD-49F8-9592-D374F391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F5E8-AE33-48FE-9FD3-B7713BAF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88D-4862-4FBA-AAC4-E541B17A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652-9153-46BB-8998-D798696E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260-A06B-4829-A50F-13558458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DD7A-A69B-470A-AE9F-26D7DF81D6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E58F-9F13-4E30-9B5D-21D2F7B0C2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21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ире между частями бессоюзного сложного предлож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рок закрепления т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рупповые зад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6765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Задание группе №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ъясните постановку тире в пословица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С лодырем поведёшься – горя наберёшь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Труд человека кормит – лень портит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Не помучишься – не научишьс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ние группе №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ъясните постановку тире в пословица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Сделал дело – гуляй смел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Боязливому по ухо – смелому по колено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Волков бояться – в лес не ходи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ние группе №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. Есть терпение – будет и умение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. Забот полон рот – перекусить нечего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. Дурака учить – мёртвого лечить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Сочинение- миниатюра «Сегодняшнее утро»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язательно включите бессоюзное сложное предложение. Объясните знаки препинания в бессоюзном сложном предложе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овторение изученного. Подготовка к ГИА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Итак, тире ставится между частями БСП. А когда ещё ставится тире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Ещё тире ставитс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4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Между подлежащим и сказуемым при нулевой связк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) если подлежащее и сказуемое выражены именем существительным  или числительным в именительном падеж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) неопределённой формой глагол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) один – неопределённой формой глагола, другой – именем существительным в именительном падеж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При пропуске какого-то члена предложения. (Пример предыдущего предложени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После однородных членов перед обобщающим слов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В предложениях с прямой речь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роверьте правильность выполнения работы</a:t>
            </a: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. Родина – мать, умей за неё постоя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2. Жить – Родине служи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3. Леса, луга, поля – всё оживает весн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4. Многие птицы: грачи, скворцы, жаворонки, журавли – вернутся весной в родные кра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5.  «Ничто не истощает и не разрушает человека так, как продолжительное физическое бездействие»,- заявил в своё время Аристоте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25T06:56:5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