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76BF-ECBE-4651-B2B9-50895A24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0158-FA65-45FE-8B43-79EE1214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CA65-0E0F-4BFF-AED6-032220EB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F7F5-1A30-40FB-A500-D14A6C87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4DE1-17B0-425A-836A-0542D826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BA4A-2F96-44C1-85B1-CDE4B856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F2B8-013A-46F9-8816-5BEC316A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C0EB-8998-49B8-BD5C-22C7BD1D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0032-416E-4E54-B32A-F8463884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D4AF-C0BC-42DD-88EE-B0922161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1E77-C952-4B04-AE2D-484BB3DE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FA44-B58C-4B11-8476-1E34B934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B7E6-E96C-4A15-91E3-68A941ED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0C29-24A7-4805-B0D2-3AFF0C4B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4B2E-8418-4FDD-89A5-478574DC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731F-842E-4596-9841-A7C73369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D40F-C750-4A33-8BFE-952152A8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FC12-54D7-434F-A7A3-3B39F29E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7FE6-6567-4241-975C-B53CA5A6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A9F3-C1AE-4813-A43E-883585D7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7F17-EC6E-4134-8418-8EC95543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DC15-BD0E-4C89-90AC-1559F2BD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9C28-EBD8-4DF8-AD14-02539BE5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8B72-27FC-4746-B488-82B0237E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23D6-C685-4A5D-A350-4D2E7B57D8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51A1-CBFA-450C-B1C3-17EB2E4D95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21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ире между частями бессоюзного сложного предлож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рок закрепления те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Групповые зад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6765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Задание группе №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ъясните постановку тире в пословицах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С лодырем поведёшься – горя наберёшьс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Труд человека кормит – лень портит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Не помучишься – не научишьс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дание группе №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ъясните постановку тире в пословицах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Сделал дело – гуляй смел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Боязливому по ухо – смелому по колено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Волков бояться – в лес не ходит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ние группе №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. Есть терпение – будет и умение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2. Забот полон рот – перекусить нечего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3. Дурака учить – мёртвого лечить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Сочинение- миниатюра «Сегодняшнее утро»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язательно включите бессоюзное сложное предложение. Объясните знаки препинания в бессоюзном сложном предложен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овторение изученного. Подготовка к ГИА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Итак, тире ставится между частями БСП. А когда ещё ставится тире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Ещё тире ставитс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40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Между подлежащим и сказуемым при нулевой связк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) если подлежащее и сказуемое выражены именем существительным  или числительным в именительном падеж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) неопределённой формой глагол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) один – неопределённой формой глагола, другой – именем существительным в именительном падеж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При пропуске какого-то члена предложения. (Пример предыдущего предложения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После однородных членов перед обобщающим слов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В предложениях с прямой речь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Проверьте правильность выполнения работы</a:t>
            </a:r>
            <a:r>
              <a:rPr b="0" i="1" lang="en-US" sz="4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. Родина – мать, умей за неё постоя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2. Жить – Родине служи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3. Леса, луга, поля – всё оживает весно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4. Многие птицы: грачи, скворцы, жаворонки, журавли – вернутся весной в родные кра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5.  «Ничто не истощает и не разрушает человека так, как продолжительное физическое бездействие»,- заявил в своё время Аристотел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1-25T06:56:5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