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DAA-2E60-44EC-A2B2-E97B604A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195-E730-453D-B76C-ACEE648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75A-203A-496F-84D7-1130EB4F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B21-3C2E-4136-9A6C-F994B270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FD69-6284-4453-AF4A-F491311C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C942-2CDB-4519-B65F-1D844578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499D-181A-42B0-A54E-013127CD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EA2D-73F7-40E2-BB28-A430ED95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28E-B999-4009-8BC1-6F835E9C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B9C1-AEA3-46E1-A6B7-81F4C9FD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6B0A-EC59-4636-B6C0-CD52C5AF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97C-8AF9-404B-AAAC-9A9BA92B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C72B-9FDF-464E-866A-F2DB4F9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444A-981E-4C82-9BAF-29D10DF5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358-46EB-4DC7-85AD-288C05D7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6CB5-8BB6-47DD-BC8F-177E408A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8BAA-016E-48CC-BC8E-0B26DC88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5D4D-746A-47CD-B191-D210A9DB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CC08-C880-44D8-80E7-FD23C30F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A843-2B88-4093-B193-0F7FE52A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8ED7-65D3-410B-9C7E-EA030320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1BBC-05BE-4951-BC98-199C9F2C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854-2730-4B10-A238-62258F04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5DA3-D1C2-4EEE-830A-62A064EA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7D5B-9D3A-4622-838E-CCE8491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75CA-99D9-4782-BBF9-42169006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D09A-4CE4-4A80-AEF6-97EF1ED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6CA9-065D-4BAF-A779-ADA7B51C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4C7C4-C922-47F8-9DE8-F73C2508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A2E3-E432-4FC6-A081-BCA44596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4F15D-DC64-4949-86CC-8B827027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6B8D-683C-4F74-A75E-B6954222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7FE9-2AE9-4338-8230-78CFB268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98D-C742-4DAB-8BC9-24FCC583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D64F-8D49-4040-A281-C3139A17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E4B7-FB94-4330-B5E7-B7A5E4AF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80CC-3810-44C0-A215-96843259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E1DB-B12B-49EE-9605-23D4239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CE2DD-6F09-45F6-AE37-01517C7D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EBDC-7C25-4FF9-8C56-E5A36A3E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2E0B-3E12-44A9-9195-1AB7D835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9FF96-0B2E-4B87-91E9-3975AE31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6D85-ED32-46A5-9FDB-7FD9B058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FAB-A520-4C62-A42B-7D54E80B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BF0-979E-40B1-9731-B73467B6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665-8984-48F4-9685-CA3C9DA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64C-8108-43FF-AF72-E9F7713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CB6-3E9F-48A8-B6CC-D866A37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4A9E-663E-4A0F-9EE6-22693F1D609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DCF-BB7F-42D0-AA9C-2B2451B3451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BD9-B3F3-4F5D-BC78-134B518DB76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BC81-F08C-4575-A23E-4A96B23B541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395280" y="333360"/>
            <a:ext cx="2643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lue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611280" y="40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лубой</a:t>
            </a:r>
            <a:endParaRPr b="0" lang="en-US" sz="1800" spc="1" strike="noStrike">
              <a:ln w="0">
                <a:noFill/>
              </a:ln>
              <a:solidFill>
                <a:srgbClr val="00b0f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6000840" y="357120"/>
            <a:ext cx="273528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gree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WordArt 7"/>
          <p:cNvSpPr txBox="1"/>
          <p:nvPr/>
        </p:nvSpPr>
        <p:spPr>
          <a:xfrm>
            <a:off x="6186600" y="428760"/>
            <a:ext cx="263340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леный</a:t>
            </a:r>
            <a:endParaRPr b="0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0"/>
          <p:cNvSpPr txBox="1"/>
          <p:nvPr/>
        </p:nvSpPr>
        <p:spPr>
          <a:xfrm>
            <a:off x="395280" y="1305000"/>
            <a:ext cx="3024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r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755640" y="1359000"/>
            <a:ext cx="23749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ы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WordArt 12"/>
          <p:cNvSpPr txBox="1"/>
          <p:nvPr/>
        </p:nvSpPr>
        <p:spPr>
          <a:xfrm>
            <a:off x="4716360" y="981000"/>
            <a:ext cx="26514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row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WordArt 13"/>
          <p:cNvSpPr txBox="1"/>
          <p:nvPr/>
        </p:nvSpPr>
        <p:spPr>
          <a:xfrm>
            <a:off x="4356000" y="1197000"/>
            <a:ext cx="3011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21a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ричневый</a:t>
            </a:r>
            <a:endParaRPr b="1" lang="en-US" sz="1800" spc="1" strike="noStrike">
              <a:ln w="0">
                <a:noFill/>
              </a:ln>
              <a:solidFill>
                <a:srgbClr val="821a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WordArt 16"/>
          <p:cNvSpPr txBox="1"/>
          <p:nvPr/>
        </p:nvSpPr>
        <p:spPr>
          <a:xfrm>
            <a:off x="5003640" y="2073240"/>
            <a:ext cx="26640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pink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3" name="WordArt 17" descr=""/>
          <p:cNvPicPr/>
          <p:nvPr/>
        </p:nvPicPr>
        <p:blipFill>
          <a:blip r:embed="rId1"/>
          <a:stretch/>
        </p:blipFill>
        <p:spPr>
          <a:xfrm>
            <a:off x="4998960" y="2066760"/>
            <a:ext cx="2401920" cy="951120"/>
          </a:xfrm>
          <a:prstGeom prst="rect">
            <a:avLst/>
          </a:prstGeom>
          <a:ln w="0">
            <a:noFill/>
          </a:ln>
        </p:spPr>
      </p:pic>
      <p:pic>
        <p:nvPicPr>
          <p:cNvPr id="244" name="WordArt 18" descr=""/>
          <p:cNvPicPr/>
          <p:nvPr/>
        </p:nvPicPr>
        <p:blipFill>
          <a:blip r:embed="rId2"/>
          <a:stretch/>
        </p:blipFill>
        <p:spPr>
          <a:xfrm>
            <a:off x="554040" y="2530440"/>
            <a:ext cx="2908440" cy="779400"/>
          </a:xfrm>
          <a:prstGeom prst="rect">
            <a:avLst/>
          </a:prstGeom>
          <a:ln w="0">
            <a:noFill/>
          </a:ln>
        </p:spPr>
      </p:pic>
      <p:sp>
        <p:nvSpPr>
          <p:cNvPr id="245" name="WordArt 19"/>
          <p:cNvSpPr txBox="1"/>
          <p:nvPr/>
        </p:nvSpPr>
        <p:spPr>
          <a:xfrm>
            <a:off x="611280" y="2536920"/>
            <a:ext cx="251928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WordArt 20"/>
          <p:cNvSpPr txBox="1"/>
          <p:nvPr/>
        </p:nvSpPr>
        <p:spPr>
          <a:xfrm>
            <a:off x="3276720" y="3465360"/>
            <a:ext cx="272412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yellow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21"/>
          <p:cNvSpPr txBox="1"/>
          <p:nvPr/>
        </p:nvSpPr>
        <p:spPr>
          <a:xfrm>
            <a:off x="3419640" y="3465360"/>
            <a:ext cx="22320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лтый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WordArt 22"/>
          <p:cNvSpPr txBox="1"/>
          <p:nvPr/>
        </p:nvSpPr>
        <p:spPr>
          <a:xfrm>
            <a:off x="285840" y="4653000"/>
            <a:ext cx="255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orang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WordArt 23"/>
          <p:cNvSpPr txBox="1"/>
          <p:nvPr/>
        </p:nvSpPr>
        <p:spPr>
          <a:xfrm>
            <a:off x="395280" y="4359240"/>
            <a:ext cx="2305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анжевый</a:t>
            </a:r>
            <a:endParaRPr b="1" lang="en-US" sz="40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WordArt 24"/>
          <p:cNvSpPr txBox="1"/>
          <p:nvPr/>
        </p:nvSpPr>
        <p:spPr>
          <a:xfrm>
            <a:off x="5862600" y="4359240"/>
            <a:ext cx="2882880" cy="1230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grey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WordArt 25"/>
          <p:cNvSpPr txBox="1"/>
          <p:nvPr/>
        </p:nvSpPr>
        <p:spPr>
          <a:xfrm>
            <a:off x="6000840" y="4359240"/>
            <a:ext cx="2735280" cy="12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7f7f7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рый</a:t>
            </a:r>
            <a:endParaRPr b="1" lang="en-US" sz="1800" spc="1" strike="noStrike">
              <a:ln w="0">
                <a:noFill/>
              </a:ln>
              <a:solidFill>
                <a:srgbClr val="7f7f7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" name="WordArt 26"/>
          <p:cNvSpPr txBox="1"/>
          <p:nvPr/>
        </p:nvSpPr>
        <p:spPr>
          <a:xfrm>
            <a:off x="3276720" y="522936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whit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3" name="WordArt 27"/>
          <p:cNvSpPr txBox="1"/>
          <p:nvPr/>
        </p:nvSpPr>
        <p:spPr>
          <a:xfrm>
            <a:off x="3276720" y="5229360"/>
            <a:ext cx="2374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ый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                </a:t>
            </a: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ГБОУ СОШ  №657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3:42:07Z</dcterms:created>
  <dc:creator>Toma</dc:creator>
  <dc:description/>
  <dc:language>en-US</dc:language>
  <cp:lastModifiedBy>Наталия</cp:lastModifiedBy>
  <dcterms:modified xsi:type="dcterms:W3CDTF">2015-01-25T09:32:38Z</dcterms:modified>
  <cp:revision>14</cp:revision>
  <dc:subject/>
  <dc:title>Слайд 1</dc:title>
</cp:coreProperties>
</file>