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983E-9108-430F-9338-430429EEB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6C40-5EF4-42DF-A7DA-14BDA3B0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96BB-8175-40E1-ACC2-C74295B3C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3F25-D6B6-4147-9137-A3176572F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74FC-2AAE-489A-9303-DA0C952D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EDA8-9821-41CA-BBA2-F3204D90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81E1-22A1-46E4-947A-4FE9EED0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E819-E021-4C96-9E31-22C82094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9AF1-6ECD-499A-A0E0-3A7FF581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7E1B-DBE8-4B9A-843E-003D2582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6983-C130-41F8-894B-FCF0DE34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C801-6CB5-4AC4-BCBB-9A3D71D1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1282-C7B1-4F3A-9C5C-4A2325E6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22EA-92A4-4DBD-A452-A59A2C7A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226E-6927-4460-A4BA-DD29C250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6DC0-E400-4F4B-91D4-8894310C5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A079-47F6-4D87-BECF-B6232FF0D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942CE-E5C2-47DC-9CA8-BA437E00F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1B814-BBA8-4514-88AA-617B9520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2F7F5-62B6-4BF7-85CD-796BC5CD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B6A53-2AB0-4FA7-9A6A-84BD8279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7D58D-1951-4792-A013-15A6C5D0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758A-D728-48A7-B5BA-A78686FD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932B0-999A-4AAC-B5E3-AE5D8312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542C2-775C-4AB6-A323-F4883080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4EB25-511B-452B-9526-C376A5EF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2945B-C81B-40A4-BF40-4782DF8D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52097-8120-4273-AF96-BC9FC4DB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431D3-E7B9-40AB-A4B5-7A7BC7078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B53AD-18B6-4D6D-9EDC-DA21804C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A649B-09D2-4941-9B0A-815CF8B3E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B165D-99C3-41B0-9F83-DFAF9BE7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99FE5-425C-4838-A183-93FD12DB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5615-EFAE-4FAE-A173-D8FEAF1F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BEB9E-9273-42A4-806B-7C29204F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FCCD5-EC8C-4D2D-8C99-1AEDFCAB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C3D05-0B90-49F8-93B8-10E7D8B5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78C73-C8BF-43CA-93B7-F478DA29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4F821-807E-479E-8AD3-B61D44D9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994E1-40C6-4E77-966C-AF3FD7B8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AA621-2EBF-4EDB-BC35-3ACE6F12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14A58-91FD-4963-879A-898F2E0D7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BBD40-0E13-42CD-92DB-DA19AF42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F89D-C404-448D-8B8D-5C496C0F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8F6F-57ED-4354-9BAB-9529EB0B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533B-56A5-47CA-8942-10E1AD0D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122F-0BFF-4F54-8993-2B66B947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6817-66D3-4351-9402-CD4DB6DE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4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Нехорошева Наталья Владимировна ГБОУ СОШ "Школа здоровья" №901 г. Моск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3364-0E6B-497B-A39C-821D9A43577E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4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5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6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7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Нехорошева Наталья Владимировна ГБОУ СОШ "Школа здоровья" №901 г. Моск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0821-34EC-4B9F-95F4-8043FAE0D7C2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4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5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7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Нехорошева Наталья Владимировна ГБОУ СОШ "Школа здоровья" №901 г. Моск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0802-6F94-43AE-9942-4D7CE129BDC6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4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5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6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7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Нехорошева Наталья Владимировна ГБОУ СОШ "Школа здоровья" №901 г. Моск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D08B-10D8-43A2-9FA2-6F2830C891BC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WordArt 4"/>
          <p:cNvSpPr txBox="1"/>
          <p:nvPr/>
        </p:nvSpPr>
        <p:spPr>
          <a:xfrm>
            <a:off x="395280" y="333360"/>
            <a:ext cx="26431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206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blue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206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5" name="WordArt 5"/>
          <p:cNvSpPr txBox="1"/>
          <p:nvPr/>
        </p:nvSpPr>
        <p:spPr>
          <a:xfrm>
            <a:off x="611280" y="404640"/>
            <a:ext cx="2232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b0f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олубой</a:t>
            </a:r>
            <a:endParaRPr b="0" lang="en-US" sz="1800" spc="1" strike="noStrike">
              <a:ln w="0">
                <a:noFill/>
              </a:ln>
              <a:solidFill>
                <a:srgbClr val="00b0f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WordArt 6"/>
          <p:cNvSpPr txBox="1"/>
          <p:nvPr/>
        </p:nvSpPr>
        <p:spPr>
          <a:xfrm>
            <a:off x="6000840" y="357120"/>
            <a:ext cx="2735280" cy="6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206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green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206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7" name="WordArt 7"/>
          <p:cNvSpPr txBox="1"/>
          <p:nvPr/>
        </p:nvSpPr>
        <p:spPr>
          <a:xfrm>
            <a:off x="6186600" y="428760"/>
            <a:ext cx="2633400" cy="40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b05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еленый</a:t>
            </a:r>
            <a:endParaRPr b="0" lang="en-US" sz="1800" spc="1" strike="noStrike">
              <a:ln w="0">
                <a:noFill/>
              </a:ln>
              <a:solidFill>
                <a:srgbClr val="00b05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WordArt 10"/>
          <p:cNvSpPr txBox="1"/>
          <p:nvPr/>
        </p:nvSpPr>
        <p:spPr>
          <a:xfrm>
            <a:off x="395280" y="1305000"/>
            <a:ext cx="3024360" cy="76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9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206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re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206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9" name="WordArt 11"/>
          <p:cNvSpPr txBox="1"/>
          <p:nvPr/>
        </p:nvSpPr>
        <p:spPr>
          <a:xfrm>
            <a:off x="755640" y="1359000"/>
            <a:ext cx="2374920" cy="5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асный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0" name="WordArt 12"/>
          <p:cNvSpPr txBox="1"/>
          <p:nvPr/>
        </p:nvSpPr>
        <p:spPr>
          <a:xfrm>
            <a:off x="4716360" y="981000"/>
            <a:ext cx="26514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206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brown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206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1" name="WordArt 13"/>
          <p:cNvSpPr txBox="1"/>
          <p:nvPr/>
        </p:nvSpPr>
        <p:spPr>
          <a:xfrm>
            <a:off x="4356000" y="1197000"/>
            <a:ext cx="30117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21a08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оричневый</a:t>
            </a:r>
            <a:endParaRPr b="1" lang="en-US" sz="1800" spc="1" strike="noStrike">
              <a:ln w="0">
                <a:noFill/>
              </a:ln>
              <a:solidFill>
                <a:srgbClr val="821a08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2" name="WordArt 16"/>
          <p:cNvSpPr txBox="1"/>
          <p:nvPr/>
        </p:nvSpPr>
        <p:spPr>
          <a:xfrm>
            <a:off x="5003640" y="2073240"/>
            <a:ext cx="2664000" cy="92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206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pink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206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43" name="WordArt 17" descr=""/>
          <p:cNvPicPr/>
          <p:nvPr/>
        </p:nvPicPr>
        <p:blipFill>
          <a:blip r:embed="rId1"/>
          <a:stretch/>
        </p:blipFill>
        <p:spPr>
          <a:xfrm>
            <a:off x="4998960" y="2066760"/>
            <a:ext cx="2401920" cy="951120"/>
          </a:xfrm>
          <a:prstGeom prst="rect">
            <a:avLst/>
          </a:prstGeom>
          <a:ln w="0">
            <a:noFill/>
          </a:ln>
        </p:spPr>
      </p:pic>
      <p:pic>
        <p:nvPicPr>
          <p:cNvPr id="244" name="WordArt 18" descr=""/>
          <p:cNvPicPr/>
          <p:nvPr/>
        </p:nvPicPr>
        <p:blipFill>
          <a:blip r:embed="rId2"/>
          <a:stretch/>
        </p:blipFill>
        <p:spPr>
          <a:xfrm>
            <a:off x="554040" y="2530440"/>
            <a:ext cx="2908440" cy="779400"/>
          </a:xfrm>
          <a:prstGeom prst="rect">
            <a:avLst/>
          </a:prstGeom>
          <a:ln w="0">
            <a:noFill/>
          </a:ln>
        </p:spPr>
      </p:pic>
      <p:sp>
        <p:nvSpPr>
          <p:cNvPr id="245" name="WordArt 19"/>
          <p:cNvSpPr txBox="1"/>
          <p:nvPr/>
        </p:nvSpPr>
        <p:spPr>
          <a:xfrm>
            <a:off x="611280" y="2536920"/>
            <a:ext cx="2519280" cy="92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ерный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6" name="WordArt 20"/>
          <p:cNvSpPr txBox="1"/>
          <p:nvPr/>
        </p:nvSpPr>
        <p:spPr>
          <a:xfrm>
            <a:off x="3276720" y="3465360"/>
            <a:ext cx="2724120" cy="10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206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yellow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206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7" name="WordArt 21"/>
          <p:cNvSpPr txBox="1"/>
          <p:nvPr/>
        </p:nvSpPr>
        <p:spPr>
          <a:xfrm>
            <a:off x="3419640" y="3465360"/>
            <a:ext cx="22320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желтый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8" name="WordArt 22"/>
          <p:cNvSpPr txBox="1"/>
          <p:nvPr/>
        </p:nvSpPr>
        <p:spPr>
          <a:xfrm>
            <a:off x="285840" y="4653000"/>
            <a:ext cx="2557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206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orange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206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9" name="WordArt 23"/>
          <p:cNvSpPr txBox="1"/>
          <p:nvPr/>
        </p:nvSpPr>
        <p:spPr>
          <a:xfrm>
            <a:off x="395280" y="4359240"/>
            <a:ext cx="230508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ранжевый</a:t>
            </a:r>
            <a:endParaRPr b="1" lang="en-US" sz="40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0" name="WordArt 24"/>
          <p:cNvSpPr txBox="1"/>
          <p:nvPr/>
        </p:nvSpPr>
        <p:spPr>
          <a:xfrm>
            <a:off x="5862600" y="4359240"/>
            <a:ext cx="2882880" cy="1230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206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grey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206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1" name="WordArt 25"/>
          <p:cNvSpPr txBox="1"/>
          <p:nvPr/>
        </p:nvSpPr>
        <p:spPr>
          <a:xfrm>
            <a:off x="6000840" y="4359240"/>
            <a:ext cx="2735280" cy="123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7f7f7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ерый</a:t>
            </a:r>
            <a:endParaRPr b="1" lang="en-US" sz="1800" spc="1" strike="noStrike">
              <a:ln w="0">
                <a:noFill/>
              </a:ln>
              <a:solidFill>
                <a:srgbClr val="7f7f7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2" name="WordArt 26"/>
          <p:cNvSpPr txBox="1"/>
          <p:nvPr/>
        </p:nvSpPr>
        <p:spPr>
          <a:xfrm>
            <a:off x="3276720" y="5229360"/>
            <a:ext cx="2374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206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white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206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3" name="WordArt 27"/>
          <p:cNvSpPr txBox="1"/>
          <p:nvPr/>
        </p:nvSpPr>
        <p:spPr>
          <a:xfrm>
            <a:off x="3276720" y="5229360"/>
            <a:ext cx="2374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елый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4" name="Нижний колонтитул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Нехорошева Наталья Владимировн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                </a:t>
            </a: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ГБОУ СОШ  №657 г. Моск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13:42:07Z</dcterms:created>
  <dc:creator>Toma</dc:creator>
  <dc:description/>
  <dc:language>en-US</dc:language>
  <cp:lastModifiedBy>Наталия</cp:lastModifiedBy>
  <dcterms:modified xsi:type="dcterms:W3CDTF">2015-01-25T09:32:38Z</dcterms:modified>
  <cp:revision>14</cp:revision>
  <dc:subject/>
  <dc:title>Слайд 1</dc:title>
</cp:coreProperties>
</file>