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BA5-CEF6-4823-BF42-CC4F507A2D7E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2E63-B6F8-4E6F-A00E-F7E0CDD8E035}" type="slidenum">
              <a:rPr b="1" lang="ru-RU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D42-028C-47F7-8B1E-219743A0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6D2-9006-4355-ABD3-2A996E8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153-47B5-457D-BCBC-9D75A2FC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966-E96F-4794-BCD4-6F20E73C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5A2-41FA-45F3-A62A-F5ACEB0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199-BC53-422E-BB09-9495E99F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B38-897D-4C7C-8050-209790A2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36C-4985-42B3-A534-0689BD5E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3A3-B251-4710-86B3-A32B585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345-5850-4D0B-873F-2501F1AB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12D-70BE-4A47-8BE4-851B94D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393-B2FB-4B1D-813B-506B3F3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DD6A-3929-464A-A1AF-2DB848845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злова Валентина Павловн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начальных классов МБОУ СОШ №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. Сычёвка Смоленской област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340000" y="1557360"/>
            <a:ext cx="47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рнир знатоков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усского языка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10" descr="J0234069"/>
          <p:cNvPicPr/>
          <p:nvPr/>
        </p:nvPicPr>
        <p:blipFill>
          <a:blip r:embed="rId2"/>
          <a:stretch/>
        </p:blipFill>
        <p:spPr>
          <a:xfrm>
            <a:off x="3492360" y="3355920"/>
            <a:ext cx="2232000" cy="1690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879720" y="494172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 класс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"/>
          <p:cNvSpPr/>
          <p:nvPr/>
        </p:nvSpPr>
        <p:spPr>
          <a:xfrm>
            <a:off x="611280" y="241200"/>
            <a:ext cx="8281800" cy="6616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со        лен   хо      бя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та      ка          дарь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ре     ро       га         ца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ма       си        зин      вей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ли        ло           шо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0" descr="J0234069"/>
          <p:cNvPicPr/>
          <p:nvPr/>
        </p:nvPicPr>
        <p:blipFill>
          <a:blip r:embed="rId2"/>
          <a:stretch/>
        </p:blipFill>
        <p:spPr>
          <a:xfrm>
            <a:off x="3924360" y="5167440"/>
            <a:ext cx="223200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468360" y="333360"/>
            <a:ext cx="75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берите словарные слова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4430520" y="59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7"/>
          <p:cNvSpPr/>
          <p:nvPr/>
        </p:nvSpPr>
        <p:spPr>
          <a:xfrm>
            <a:off x="324000" y="28404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3203640" y="1916280"/>
            <a:ext cx="3097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итанов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16635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7"/>
          <p:cNvSpPr/>
          <p:nvPr/>
        </p:nvSpPr>
        <p:spPr>
          <a:xfrm>
            <a:off x="684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 - Й -  -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5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826920" y="371520"/>
            <a:ext cx="699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обрать слова по схеме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Найдите  ошибки !</a:t>
            </a:r>
            <a:endParaRPr b="0" lang="en-US" sz="4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4130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Я - мальчишка  диривя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В  поласатом  колпачь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оздан я на радосьть  людя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частя  ключ в маей р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Чирипаха  подор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Этот  ключ  волшебный 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И тогда  я  очют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В  доброй  сказочьн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Pictures\M1-1_17.jpg"/>
          <p:cNvPicPr/>
          <p:nvPr/>
        </p:nvPicPr>
        <p:blipFill>
          <a:blip r:embed="rId1"/>
          <a:stretch/>
        </p:blipFill>
        <p:spPr>
          <a:xfrm>
            <a:off x="5796000" y="2060640"/>
            <a:ext cx="2309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611280" y="260280"/>
            <a:ext cx="8281800" cy="63565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соловей      ребята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календарь  лисица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хорошо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cc0066"/>
                </a:solidFill>
                <a:latin typeface="Times New Roman"/>
                <a:ea typeface="Calibri"/>
              </a:rPr>
              <a:t>магазин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835280" y="1484280"/>
            <a:ext cx="626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10" descr="J0234069"/>
          <p:cNvPicPr/>
          <p:nvPr/>
        </p:nvPicPr>
        <p:blipFill>
          <a:blip r:embed="rId2"/>
          <a:stretch/>
        </p:blipFill>
        <p:spPr>
          <a:xfrm>
            <a:off x="3780000" y="4869000"/>
            <a:ext cx="171108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395280" y="260280"/>
            <a:ext cx="75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рим собранные слова: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3059280" y="2133720"/>
            <a:ext cx="295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 № 7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Назови пару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Назовите  пару</a:t>
            </a:r>
            <a:endParaRPr b="0" lang="en-US" sz="36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118" name="Объект 8" descr=""/>
          <p:cNvPicPr/>
          <p:nvPr/>
        </p:nvPicPr>
        <p:blipFill>
          <a:blip r:embed="rId1"/>
          <a:stretch/>
        </p:blipFill>
        <p:spPr>
          <a:xfrm>
            <a:off x="103320" y="334800"/>
            <a:ext cx="1877760" cy="1256040"/>
          </a:xfrm>
          <a:prstGeom prst="rect">
            <a:avLst/>
          </a:prstGeom>
          <a:ln w="0">
            <a:noFill/>
          </a:ln>
        </p:spPr>
      </p:pic>
      <p:pic>
        <p:nvPicPr>
          <p:cNvPr id="119" name="Объект 1" descr=""/>
          <p:cNvPicPr/>
          <p:nvPr/>
        </p:nvPicPr>
        <p:blipFill>
          <a:blip r:embed="rId2"/>
          <a:stretch/>
        </p:blipFill>
        <p:spPr>
          <a:xfrm>
            <a:off x="3103560" y="1627200"/>
            <a:ext cx="1839960" cy="1225440"/>
          </a:xfrm>
          <a:prstGeom prst="rect">
            <a:avLst/>
          </a:prstGeom>
          <a:ln w="0">
            <a:noFill/>
          </a:ln>
        </p:spPr>
      </p:pic>
      <p:pic>
        <p:nvPicPr>
          <p:cNvPr id="120" name="Объект 2" descr=""/>
          <p:cNvPicPr/>
          <p:nvPr/>
        </p:nvPicPr>
        <p:blipFill>
          <a:blip r:embed="rId3"/>
          <a:stretch/>
        </p:blipFill>
        <p:spPr>
          <a:xfrm>
            <a:off x="249120" y="2419200"/>
            <a:ext cx="1683000" cy="1262160"/>
          </a:xfrm>
          <a:prstGeom prst="rect">
            <a:avLst/>
          </a:prstGeom>
          <a:ln w="0">
            <a:noFill/>
          </a:ln>
        </p:spPr>
      </p:pic>
      <p:pic>
        <p:nvPicPr>
          <p:cNvPr id="121" name="Объект 5" descr=""/>
          <p:cNvPicPr/>
          <p:nvPr/>
        </p:nvPicPr>
        <p:blipFill>
          <a:blip r:embed="rId4"/>
          <a:stretch/>
        </p:blipFill>
        <p:spPr>
          <a:xfrm>
            <a:off x="6370560" y="401760"/>
            <a:ext cx="1725840" cy="129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5"/>
          <a:stretch/>
        </p:blipFill>
        <p:spPr>
          <a:xfrm>
            <a:off x="6227640" y="2449440"/>
            <a:ext cx="1492200" cy="111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6"/>
          <a:stretch/>
        </p:blipFill>
        <p:spPr>
          <a:xfrm>
            <a:off x="3059280" y="3878280"/>
            <a:ext cx="19191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7"/>
          <a:stretch/>
        </p:blipFill>
        <p:spPr>
          <a:xfrm>
            <a:off x="249120" y="4363920"/>
            <a:ext cx="1751040" cy="13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8"/>
          <a:stretch/>
        </p:blipFill>
        <p:spPr>
          <a:xfrm>
            <a:off x="6004080" y="4552920"/>
            <a:ext cx="1914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560" y="259920"/>
            <a:ext cx="8229600" cy="11430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576e"/>
                </a:solidFill>
                <a:latin typeface="Times New Roman"/>
                <a:ea typeface="Times New Roman"/>
              </a:rPr>
              <a:t>Шифровка</a:t>
            </a:r>
            <a:br>
              <a:rPr sz="4400"/>
            </a:b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11280" y="3357720"/>
            <a:ext cx="7993080" cy="3095640"/>
          </a:xfrm>
          <a:prstGeom prst="flowChartAlternateProcess">
            <a:avLst/>
          </a:prstGeom>
          <a:solidFill>
            <a:srgbClr val="51da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Д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Ё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Ж 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9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З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Й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Л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4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5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6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О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7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П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8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Р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19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С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0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Т 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Ф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4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Ц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5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6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7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8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Ъ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29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Ы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0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Ь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1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2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33</a:t>
            </a:r>
            <a:r>
              <a:rPr b="0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Я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250920" y="1773360"/>
            <a:ext cx="8569080" cy="1224000"/>
          </a:xfrm>
          <a:prstGeom prst="rect">
            <a:avLst/>
          </a:prstGeom>
          <a:solidFill>
            <a:srgbClr val="8be6ff"/>
          </a:solidFill>
          <a:ln w="93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Times New Roman"/>
              </a:rPr>
              <a:t>13,32,2,10,20,6      10    10,9,21,25,1,11,20,6     15, 1,26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3f71"/>
                </a:solidFill>
                <a:latin typeface="Times New Roman"/>
              </a:rPr>
              <a:t>18, 16, 5, 15, 16,11    18,21, 19, 19, 12, 10,11         33,9,29,12!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Улыбающееся лицо 2"/>
          <p:cNvSpPr/>
          <p:nvPr/>
        </p:nvSpPr>
        <p:spPr>
          <a:xfrm>
            <a:off x="7524720" y="239760"/>
            <a:ext cx="1295280" cy="1173240"/>
          </a:xfrm>
          <a:prstGeom prst="smileyFace">
            <a:avLst>
              <a:gd name="adj" fmla="val 9282"/>
            </a:avLst>
          </a:prstGeom>
          <a:solidFill>
            <a:srgbClr val="51daff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Улыбающееся лицо 7"/>
          <p:cNvSpPr/>
          <p:nvPr/>
        </p:nvSpPr>
        <p:spPr>
          <a:xfrm>
            <a:off x="452520" y="239760"/>
            <a:ext cx="1274760" cy="1173240"/>
          </a:xfrm>
          <a:prstGeom prst="smileyFace">
            <a:avLst>
              <a:gd name="adj" fmla="val 9282"/>
            </a:avLst>
          </a:prstGeom>
          <a:solidFill>
            <a:srgbClr val="51daff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539640" y="0"/>
            <a:ext cx="8282160" cy="5877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1835280" y="1484280"/>
            <a:ext cx="626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1352520" y="549360"/>
            <a:ext cx="674676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юбите и изучайте наш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дной русский язык!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Calibri"/>
              </a:rPr>
              <a:t>Учитесь  говорить выразительно, правильно, грамотно , ясно  и точно  выражать свои мысли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4" name="Picture 8" descr="J0232988"/>
          <p:cNvPicPr/>
          <p:nvPr/>
        </p:nvPicPr>
        <p:blipFill>
          <a:blip r:embed="rId2"/>
          <a:stretch/>
        </p:blipFill>
        <p:spPr>
          <a:xfrm>
            <a:off x="6659640" y="4437000"/>
            <a:ext cx="145080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J0232988"/>
          <p:cNvPicPr/>
          <p:nvPr/>
        </p:nvPicPr>
        <p:blipFill>
          <a:blip r:embed="rId3"/>
          <a:stretch/>
        </p:blipFill>
        <p:spPr>
          <a:xfrm>
            <a:off x="1389240" y="4527720"/>
            <a:ext cx="1376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2916360" y="1844640"/>
            <a:ext cx="431964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ветствие команд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1901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7"/>
          <p:cNvSpPr/>
          <p:nvPr/>
        </p:nvSpPr>
        <p:spPr>
          <a:xfrm>
            <a:off x="284040" y="-95400"/>
            <a:ext cx="864252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3203640" y="1700280"/>
            <a:ext cx="4032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ый тур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инка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Picture 10" descr="J0234069"/>
          <p:cNvPicPr/>
          <p:nvPr/>
        </p:nvPicPr>
        <p:blipFill>
          <a:blip r:embed="rId2"/>
          <a:stretch/>
        </p:blipFill>
        <p:spPr>
          <a:xfrm>
            <a:off x="4140360" y="4292640"/>
            <a:ext cx="16635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7"/>
          <p:cNvSpPr/>
          <p:nvPr/>
        </p:nvSpPr>
        <p:spPr>
          <a:xfrm>
            <a:off x="468360" y="190440"/>
            <a:ext cx="8281800" cy="63565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10" descr="J0234069"/>
          <p:cNvPicPr/>
          <p:nvPr/>
        </p:nvPicPr>
        <p:blipFill>
          <a:blip r:embed="rId2"/>
          <a:stretch/>
        </p:blipFill>
        <p:spPr>
          <a:xfrm>
            <a:off x="4284720" y="4869000"/>
            <a:ext cx="2232000" cy="16905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6" descr=""/>
          <p:cNvPicPr/>
          <p:nvPr/>
        </p:nvPicPr>
        <p:blipFill>
          <a:blip r:embed="rId3"/>
          <a:stretch/>
        </p:blipFill>
        <p:spPr>
          <a:xfrm>
            <a:off x="1298520" y="1182600"/>
            <a:ext cx="737568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684360" y="-243000"/>
            <a:ext cx="8242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зовите одним слово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7"/>
          <p:cNvSpPr/>
          <p:nvPr/>
        </p:nvSpPr>
        <p:spPr>
          <a:xfrm>
            <a:off x="431640" y="117360"/>
            <a:ext cx="8282160" cy="6616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Picture 10" descr="J0234069"/>
          <p:cNvPicPr/>
          <p:nvPr/>
        </p:nvPicPr>
        <p:blipFill>
          <a:blip r:embed="rId2"/>
          <a:stretch/>
        </p:blipFill>
        <p:spPr>
          <a:xfrm>
            <a:off x="3780000" y="4869000"/>
            <a:ext cx="2232000" cy="1690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50920" y="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йдите лишнее слово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7" name="Прямоугольник 1" descr=""/>
          <p:cNvPicPr/>
          <p:nvPr/>
        </p:nvPicPr>
        <p:blipFill>
          <a:blip r:embed="rId3"/>
          <a:stretch/>
        </p:blipFill>
        <p:spPr>
          <a:xfrm>
            <a:off x="1249200" y="890640"/>
            <a:ext cx="65725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2771640" y="1773360"/>
            <a:ext cx="439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 № 1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предели значение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7"/>
          <p:cNvSpPr/>
          <p:nvPr/>
        </p:nvSpPr>
        <p:spPr>
          <a:xfrm>
            <a:off x="468360" y="333360"/>
            <a:ext cx="8281800" cy="62834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987640" y="2060640"/>
            <a:ext cx="432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 № 2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Подобрать синонимы»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10" descr="J0234069"/>
          <p:cNvPicPr/>
          <p:nvPr/>
        </p:nvPicPr>
        <p:blipFill>
          <a:blip r:embed="rId2"/>
          <a:stretch/>
        </p:blipFill>
        <p:spPr>
          <a:xfrm>
            <a:off x="3780000" y="3933720"/>
            <a:ext cx="22320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7"/>
          <p:cNvSpPr/>
          <p:nvPr/>
        </p:nvSpPr>
        <p:spPr>
          <a:xfrm>
            <a:off x="3492360" y="1052640"/>
            <a:ext cx="2448000" cy="2447640"/>
          </a:xfrm>
          <a:prstGeom prst="ellips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 rot="3906600">
            <a:off x="1431720" y="1433520"/>
            <a:ext cx="1295280" cy="295272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 rot="21232800">
            <a:off x="4067280" y="3425760"/>
            <a:ext cx="1741320" cy="277668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лют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 rot="19591800">
            <a:off x="5899320" y="2706840"/>
            <a:ext cx="1380960" cy="287964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 rot="16965000">
            <a:off x="6611040" y="1147680"/>
            <a:ext cx="1295640" cy="285300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0" y="404640"/>
            <a:ext cx="91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обрать синонимы к слову малыш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 rot="20304000">
            <a:off x="1187280" y="2484360"/>
            <a:ext cx="17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лыш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 rot="2214000">
            <a:off x="2398320" y="2722680"/>
            <a:ext cx="1295280" cy="3025800"/>
          </a:xfrm>
          <a:prstGeom prst="ellipse">
            <a:avLst/>
          </a:prstGeom>
          <a:solidFill>
            <a:srgbClr val="f7a1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2411280" y="4734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 rot="18849600">
            <a:off x="2136600" y="375516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апуз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 rot="690000">
            <a:off x="6267960" y="231624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бёнок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 rot="3543000">
            <a:off x="5501160" y="3871800"/>
            <a:ext cx="20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рох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Рисунок 19" descr="iмалыш.jpg"/>
          <p:cNvPicPr/>
          <p:nvPr/>
        </p:nvPicPr>
        <p:blipFill>
          <a:blip r:embed="rId1"/>
          <a:stretch/>
        </p:blipFill>
        <p:spPr>
          <a:xfrm>
            <a:off x="3706920" y="1341360"/>
            <a:ext cx="2090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250920" y="0"/>
            <a:ext cx="8569080" cy="6616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1547640" y="1341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ff0000"/>
                    </a:gs>
                    <a:gs pos="100000">
                      <a:srgbClr val="cc3399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58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ff0000"/>
                  </a:gs>
                  <a:gs pos="100000">
                    <a:srgbClr val="cc3399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50920" y="0"/>
            <a:ext cx="75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берите  пословицы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208160" y="5296320"/>
            <a:ext cx="793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Calibri"/>
              </a:rPr>
              <a:t>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Calibri"/>
                <a:ea typeface="Calibri"/>
              </a:rPr>
              <a:t>                                           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Calibri"/>
              </a:rPr>
              <a:t>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16000" y="1127160"/>
          <a:ext cx="7559640" cy="4937040"/>
        </p:xfrm>
        <a:graphic>
          <a:graphicData uri="http://schemas.openxmlformats.org/drawingml/2006/table">
            <a:tbl>
              <a:tblPr/>
              <a:tblGrid>
                <a:gridCol w="3618000"/>
                <a:gridCol w="39416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66"/>
                          </a:solidFill>
                          <a:latin typeface="Times New Roman"/>
                          <a:ea typeface="Calibri"/>
                        </a:rPr>
                        <a:t>Семь раз отмерь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-  </a:t>
                      </a: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а речь короткая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Times New Roman"/>
                          <a:ea typeface="Calibri"/>
                        </a:rPr>
                        <a:t>Без грамоты хоть плачь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-язык отдыхает.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0105c"/>
                          </a:solidFill>
                          <a:latin typeface="Times New Roman"/>
                          <a:ea typeface="Times New Roman"/>
                        </a:rPr>
                        <a:t>От приветливых слов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f75"/>
                          </a:solidFill>
                          <a:latin typeface="Times New Roman"/>
                          <a:ea typeface="Calibri"/>
                        </a:rPr>
                        <a:t>- а с грамотой хоть вскачь.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0105c"/>
                          </a:solidFill>
                          <a:latin typeface="Times New Roman"/>
                          <a:ea typeface="Times New Roman"/>
                        </a:rPr>
                        <a:t>Когда голова думае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Times New Roman"/>
                        </a:rPr>
                        <a:t>-тот много знает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b0105c"/>
                          </a:solidFill>
                          <a:latin typeface="Times New Roman"/>
                          <a:ea typeface="Times New Roman"/>
                        </a:rPr>
                        <a:t>Кто много читае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Calibri"/>
                        </a:rPr>
                        <a:t>-а один раз отрежь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74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66"/>
                          </a:solidFill>
                          <a:latin typeface="Times New Roman"/>
                          <a:ea typeface="Calibri"/>
                        </a:rPr>
                        <a:t>Веревка хороша длинна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c3f7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435faa"/>
                          </a:solidFill>
                          <a:latin typeface="Times New Roman"/>
                          <a:ea typeface="Times New Roman"/>
                        </a:rPr>
                        <a:t>-язык не отсохнет.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95" name="Picture 10" descr="J0234069"/>
          <p:cNvPicPr/>
          <p:nvPr/>
        </p:nvPicPr>
        <p:blipFill>
          <a:blip r:embed="rId2"/>
          <a:stretch/>
        </p:blipFill>
        <p:spPr>
          <a:xfrm>
            <a:off x="3924360" y="5284800"/>
            <a:ext cx="16952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1:58:31Z</dcterms:created>
  <dc:creator>Валентина</dc:creator>
  <dc:description/>
  <dc:language>en-US</dc:language>
  <cp:lastModifiedBy>User</cp:lastModifiedBy>
  <dcterms:modified xsi:type="dcterms:W3CDTF">2015-01-26T11:24:46Z</dcterms:modified>
  <cp:revision>70</cp:revision>
  <dc:subject/>
  <dc:title>Слайд 1</dc:title>
</cp:coreProperties>
</file>